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84E0-2E78-4D69-A966-2E88B1F1C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ED76-ADC8-43B8-996A-2A3E2CB4D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3F61-9D37-4826-806A-44559CFC4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4C6E-5473-4F33-91A2-2058CA59C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E222-0E93-4F6F-8C0E-FFABEB8D9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B88E-184A-4A00-8B58-00217BE11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A97D-3E4C-428B-B913-D97313933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E0C7-E875-4B64-AA56-491C19FEE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378F-D6FA-441C-AAD2-1A8D893B0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5D98-B7C3-466C-B01B-E1EF86E81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3EFE-085B-4B76-8699-C5F7AA198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8D1C-8005-4365-BEF2-284FDEB2A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FD773-CF69-43C7-A1C2-2E035C4477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FSDETEC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6868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SSDETEC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6868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4-22T14:38:00Z</dcterms:created>
  <dc:creator>Cytometry Laboratories</dc:creator>
  <dc:description/>
  <dc:language>en-US</dc:language>
  <cp:lastModifiedBy>Cytometry Laboratories</cp:lastModifiedBy>
  <dcterms:modified xsi:type="dcterms:W3CDTF">1998-04-22T14:46:18Z</dcterms:modified>
  <cp:revision>2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>TelfordW@hss.edu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K:\htdocs\flowcyt\educate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