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38E0-CFA0-4417-BFA5-9634F78B9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F5A2-5378-483C-AD27-96AC6EFE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EB47-38B0-4B8E-B3BC-E74D6CDF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6816-C3D3-464E-90F0-D00F19F3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DA6F-947B-4951-9B0E-F35F2A7E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B47A-EE3A-4E8E-8F82-3C9D6B11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4F5-B957-4614-9140-56B9FF9B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D045-8F59-4D72-BB0F-A97CC1CB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0A98-3AAB-4843-8F52-417E9CF8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D93E-D098-4717-BC39-DC7A534F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69C1-F56E-46E6-82E8-DC2D3B92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FC4B-BB19-466D-BB7A-1EC686E1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2829-469F-460C-9158-97B0670B2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MCASPEC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TXRDSPEC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ITCSPEC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APCSPEC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CY5SPEC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ECY5SP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FITCPEDE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FITCPECY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FRET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2T14:54:34Z</dcterms:created>
  <dc:creator>Cytometry Laboratories</dc:creator>
  <dc:description/>
  <dc:language>en-US</dc:language>
  <cp:lastModifiedBy>Cytometry Laboratories</cp:lastModifiedBy>
  <dcterms:modified xsi:type="dcterms:W3CDTF">1998-04-22T15:05:12Z</dcterms:modified>
  <cp:revision>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TelfordW@hs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K:\htdocs\flowcyt\educate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