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5560" y="6558120"/>
            <a:ext cx="1972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679A3F-382A-449F-B4D5-52F64DAD790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fld id="{66F49A16-53F9-48DF-94F8-217E58C6AF12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DNA.p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76840" y="6554880"/>
            <a:ext cx="345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1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2.p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1880" y="402840"/>
            <a:ext cx="855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Cytometry of Apoptotic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876400" y="1811160"/>
            <a:ext cx="4641480" cy="4553280"/>
            <a:chOff x="2876400" y="1811160"/>
            <a:chExt cx="4641480" cy="45532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11960" t="12763" r="16944" b="15432"/>
            <a:stretch/>
          </p:blipFill>
          <p:spPr>
            <a:xfrm>
              <a:off x="3111480" y="2401920"/>
              <a:ext cx="419256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013640" y="5923080"/>
              <a:ext cx="2108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I - Fluoresce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2512800" y="4046040"/>
              <a:ext cx="11685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# Even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98960" y="1811160"/>
              <a:ext cx="2016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Apoptotic cell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1280" y="2260440"/>
              <a:ext cx="0" cy="214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07520" y="2376360"/>
              <a:ext cx="26103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Normal G0/G1 cell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800600" y="2913120"/>
              <a:ext cx="487440" cy="7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65320" y="8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NA Strand Br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63680"/>
            <a:ext cx="93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ssion of the chromatin at the sites of nucleosomal linkage creates a large number of strand breaks in the DNA of apoptotic cells.  The broken ends can be labelled enyma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s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erminal deoxynucleotidyl transferase (Td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s of DNA can be labelled directly using fluorescein-deoxyuridine triphosphate (dUTP) or biotin-dUTP followed by fluorescein-streptavidin or digoxygenin-dUTP followed by fluorescein-anti-digoxygen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6532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ling Strand Breaks with dUT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luorescein-deoxyuridine triphosphate (dUTP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3020" t="4039" r="6129" b="2727"/>
          <a:stretch/>
        </p:blipFill>
        <p:spPr>
          <a:xfrm>
            <a:off x="836640" y="2270160"/>
            <a:ext cx="3063960" cy="315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5613" t="8867" r="10706" b="13665"/>
          <a:stretch/>
        </p:blipFill>
        <p:spPr>
          <a:xfrm>
            <a:off x="4459320" y="1609560"/>
            <a:ext cx="2530440" cy="190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184880" y="2284560"/>
            <a:ext cx="2392560" cy="240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7638" t="9664" r="12244" b="13443"/>
          <a:stretch/>
        </p:blipFill>
        <p:spPr>
          <a:xfrm>
            <a:off x="4446720" y="3541680"/>
            <a:ext cx="2265120" cy="223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54200" y="5983200"/>
            <a:ext cx="4296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een Fluorescence is Tdt and biotin-dUTP followed by fluorescein-streptav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fluorescence is DNA counter-stained with 20µg/ml 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24160" y="4519440"/>
            <a:ext cx="1243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-Red Fluoresc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1240" y="3543480"/>
            <a:ext cx="119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72120" y="5727600"/>
            <a:ext cx="119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27600" y="3790080"/>
            <a:ext cx="108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de  Sca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1540000">
            <a:off x="1801800" y="528444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 Sca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9000" y="2689200"/>
            <a:ext cx="919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ee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optotic ce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9320" y="4294080"/>
            <a:ext cx="806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rmal ce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57880" y="2700360"/>
            <a:ext cx="119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2: Apoptotic Ce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29720" y="3868560"/>
            <a:ext cx="601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1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rm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8360" y="487080"/>
            <a:ext cx="850392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from Paraffin Tissue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4532" t="13604" r="31175" b="18288"/>
          <a:stretch/>
        </p:blipFill>
        <p:spPr>
          <a:xfrm>
            <a:off x="4008600" y="2560680"/>
            <a:ext cx="2651040" cy="307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3289" t="8778" r="9194" b="3547"/>
          <a:stretch/>
        </p:blipFill>
        <p:spPr>
          <a:xfrm>
            <a:off x="217440" y="2209680"/>
            <a:ext cx="3630600" cy="36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16448" t="14933" r="18781" b="20213"/>
          <a:stretch/>
        </p:blipFill>
        <p:spPr>
          <a:xfrm>
            <a:off x="6832440" y="2530440"/>
            <a:ext cx="3300480" cy="312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35560" y="3186000"/>
            <a:ext cx="243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diploid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24160" y="4906800"/>
            <a:ext cx="5153040" cy="1343160"/>
          </a:xfrm>
          <a:custGeom>
            <a:avLst/>
            <a:gdLst/>
            <a:ahLst/>
            <a:rect l="l" t="t" r="r" b="b"/>
            <a:pathLst>
              <a:path w="3246" h="846">
                <a:moveTo>
                  <a:pt x="0" y="0"/>
                </a:moveTo>
                <a:lnTo>
                  <a:pt x="0" y="29"/>
                </a:lnTo>
                <a:lnTo>
                  <a:pt x="547" y="845"/>
                </a:lnTo>
                <a:lnTo>
                  <a:pt x="3034" y="845"/>
                </a:lnTo>
                <a:lnTo>
                  <a:pt x="3245" y="5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2620800"/>
            <a:ext cx="1890720" cy="1602000"/>
          </a:xfrm>
          <a:custGeom>
            <a:avLst/>
            <a:gdLst/>
            <a:ahLst/>
            <a:rect l="l" t="t" r="r" b="b"/>
            <a:pathLst>
              <a:path w="1191" h="1009">
                <a:moveTo>
                  <a:pt x="0" y="240"/>
                </a:moveTo>
                <a:lnTo>
                  <a:pt x="1190" y="0"/>
                </a:lnTo>
                <a:lnTo>
                  <a:pt x="1190" y="10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0560" y="2179800"/>
            <a:ext cx="194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euploid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14360" y="1357200"/>
            <a:ext cx="237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st Carci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32480" y="5686560"/>
            <a:ext cx="181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372960" y="3608640"/>
            <a:ext cx="140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0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of Nuclear Anti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9720" y="1131840"/>
            <a:ext cx="9005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C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 protein involved in DNA replication and in nucleotide excision repai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found in two 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s tightly bound to the chromatin and is S phase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is cytoplasmic and is present through out the cell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NA expression in intact cells is not cell cycle specific. PCNA expression in the nuclei is S phase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460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uclear Anti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920" y="1638360"/>
            <a:ext cx="832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-6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oliferation related ant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-S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roliferation related ant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clin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xpression begins in late G1/early S phase and increases as cells traverse S phase, reaching a maximum in G2.  Cyclin A is not expressed in mitotic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clin B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ccumulates in late S phase but is maximally expressed in G2 and mito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9840" y="134640"/>
            <a:ext cx="777240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anti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754200"/>
            <a:ext cx="9304560" cy="5756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14600" y="3500280"/>
            <a:ext cx="16797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105 -CY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17480" y="3470400"/>
            <a:ext cx="19112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A - Hoech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01680" y="3489480"/>
            <a:ext cx="2824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- B1 - FITC (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8880" y="5956200"/>
            <a:ext cx="226332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- B1 - FI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0600" y="5935680"/>
            <a:ext cx="2328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deg Scatter (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81640" y="5919840"/>
            <a:ext cx="9327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0000" y="6207120"/>
            <a:ext cx="507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21400" y="6608880"/>
            <a:ext cx="188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6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arameter g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95760" y="5931000"/>
            <a:ext cx="507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737" t="7336" r="6817" b="3373"/>
          <a:stretch/>
        </p:blipFill>
        <p:spPr>
          <a:xfrm>
            <a:off x="1023840" y="2209680"/>
            <a:ext cx="3668760" cy="3495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54880" y="5543640"/>
            <a:ext cx="145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10880" y="3678480"/>
            <a:ext cx="1735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clin - B1 - FI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5167800" y="3840840"/>
            <a:ext cx="1057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-105 Cy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77320" y="5030640"/>
            <a:ext cx="1879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uplicating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3648" t="3830" r="8058" b="3860"/>
          <a:stretch/>
        </p:blipFill>
        <p:spPr>
          <a:xfrm>
            <a:off x="5859360" y="2030400"/>
            <a:ext cx="3684600" cy="371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89840" y="1940040"/>
            <a:ext cx="350964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13600" y="3792600"/>
            <a:ext cx="94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t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49080" y="5543640"/>
            <a:ext cx="145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53280" y="1886040"/>
            <a:ext cx="987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-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21400" y="6608880"/>
            <a:ext cx="188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6920" y="6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asurement of Apop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427040"/>
            <a:ext cx="9304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ptosis is programmed cell death where the cell goes through a highly regulated process of “dying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 are condensation of the chromatin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bbing of nuclear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accompanied by  internucleosomal degradation of DNA giving rise to distinctive 'ladder' pattern on DNA gel electrophor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19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ection of Apoptotic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908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Fragments:After fixing or permeabilising cells, low molecular weight fragments of DNA are extracted and an extra peak ('sub-G1') of apoptotic cells can be seen in the DNA histogr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ucleosomal degradation of DNA can be visualised by labelling enzymatically the ends of the broken strands of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6532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ection Methods for Apopto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8572320" cy="394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atidyl serine, can be detetected by incubating the cells with fluorescein-labelled Annexin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aining with the dye,  Hoechst 33342 (U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aining with the dye PI (vis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aining with the dye YOPRO-1 (vis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3:13:24Z</dcterms:created>
  <dc:creator>JPRobinson</dc:creator>
  <dc:description/>
  <dc:language>en-US</dc:language>
  <cp:lastModifiedBy>Cytometry Laboratories</cp:lastModifiedBy>
  <dcterms:modified xsi:type="dcterms:W3CDTF">1998-04-17T21:50:00Z</dcterms:modified>
  <cp:revision>7</cp:revision>
  <dc:subject/>
  <dc:title>DNA2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jpr@flowcyt.cyto.purdue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