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1840" y="6558120"/>
            <a:ext cx="1596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CB1A51EF-6219-49D7-AF3C-6884C682D540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4/17/98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6840" y="6554880"/>
            <a:ext cx="3456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211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2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22240" y="403200"/>
            <a:ext cx="855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ytometry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14600" y="1811160"/>
            <a:ext cx="5000760" cy="4553280"/>
            <a:chOff x="2514600" y="1811160"/>
            <a:chExt cx="5000760" cy="45532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111480" y="2401920"/>
              <a:ext cx="420516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014720" y="5923080"/>
              <a:ext cx="21049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 - Fluoresce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514600" y="4044960"/>
              <a:ext cx="11635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Event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198960" y="1811160"/>
              <a:ext cx="20145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optotic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1280" y="2262240"/>
              <a:ext cx="0" cy="2141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908600" y="2376360"/>
              <a:ext cx="26067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 G0/G1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2040" y="2914560"/>
              <a:ext cx="486000" cy="77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65320" y="8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Strand Br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63680"/>
            <a:ext cx="9304200" cy="45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ssion of the chromatin at the sites of nucleosomal linkage creates a large number of strand breaks in the DNA of apoptotic cells.  The broken ends can be labelled eny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erminal deoxynucleotidyl transferase (Td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s of DNA can be labelled directly using fluorescein-deoxyuridine triphosphate (dUTP) or biotin-dUTP followed by fluorescein-streptavidin or digoxygenin-dUTP followed by fluorescein-anti-digoxyg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ling Strand Breaks with dUT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luorescein-deoxyuridine triphosphate (dUTP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6640" y="2270160"/>
            <a:ext cx="3076560" cy="316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59320" y="1609560"/>
            <a:ext cx="2543040" cy="191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184880" y="2284560"/>
            <a:ext cx="2405160" cy="241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46720" y="3541680"/>
            <a:ext cx="2278080" cy="2247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454560" y="5983200"/>
            <a:ext cx="428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 is Tdt and biotin-dUTP followed by fluorescein-streptavi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is DNA counter-stained with 20µg/ml 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23080" y="4519440"/>
            <a:ext cx="12430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-Red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59440" y="3543120"/>
            <a:ext cx="11923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70320" y="5727600"/>
            <a:ext cx="11923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0120" y="3789360"/>
            <a:ext cx="1079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05040" y="5284800"/>
            <a:ext cx="1365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9000" y="2689200"/>
            <a:ext cx="917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89320" y="4294080"/>
            <a:ext cx="804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056440" y="2700360"/>
            <a:ext cx="1197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: 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829720" y="3868560"/>
            <a:ext cx="6001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38360" y="487440"/>
            <a:ext cx="85042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om Paraffin Tissue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08600" y="2560680"/>
            <a:ext cx="2664000" cy="308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7440" y="2209680"/>
            <a:ext cx="3643200" cy="366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32440" y="2530440"/>
            <a:ext cx="3313080" cy="3141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142040" y="3186000"/>
            <a:ext cx="2424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di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4160" y="4906800"/>
            <a:ext cx="5151960" cy="1341720"/>
          </a:xfrm>
          <a:custGeom>
            <a:avLst/>
            <a:gdLst/>
            <a:ahLst/>
            <a:rect l="0" t="0" r="r" b="b"/>
            <a:pathLst>
              <a:path fill="none" w="14311" h="3727">
                <a:moveTo>
                  <a:pt x="0" y="0"/>
                </a:moveTo>
                <a:lnTo>
                  <a:pt x="0" y="127"/>
                </a:lnTo>
                <a:lnTo>
                  <a:pt x="2412" y="3727"/>
                </a:lnTo>
                <a:lnTo>
                  <a:pt x="13381" y="3727"/>
                </a:lnTo>
                <a:lnTo>
                  <a:pt x="14311" y="2585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2620800"/>
            <a:ext cx="1889640" cy="1600560"/>
          </a:xfrm>
          <a:custGeom>
            <a:avLst/>
            <a:gdLst/>
            <a:ahLst/>
            <a:rect l="0" t="0" r="r" b="b"/>
            <a:pathLst>
              <a:path fill="none" w="5249" h="4446">
                <a:moveTo>
                  <a:pt x="0" y="1058"/>
                </a:moveTo>
                <a:lnTo>
                  <a:pt x="5249" y="0"/>
                </a:lnTo>
                <a:lnTo>
                  <a:pt x="5249" y="444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05240" y="2179800"/>
            <a:ext cx="1936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u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17960" y="1357200"/>
            <a:ext cx="2373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Carci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6800" y="5686560"/>
            <a:ext cx="1809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71520" y="3610080"/>
            <a:ext cx="1401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20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9720" y="1131840"/>
            <a:ext cx="900576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 protein involved in DNA replication and in nucleotide excision repai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found in two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tightly bound to the chromatin and is S phas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is cytoplasmic and is present through out the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 expression in intact cells is not cell cycle specific. PCNA expression in the nuclei is S pha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74600" y="22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00280" y="163836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6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S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ression begins in late G1/early S phase and increases as cells traverse S phase, reaching a maximum in G2.  Cyclin A is not expressed in mit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B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umulates in late S phase but is maximally expressed in G2 and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39840" y="135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754200"/>
            <a:ext cx="9317160" cy="576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19280" y="3500280"/>
            <a:ext cx="16700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-CY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21080" y="3470400"/>
            <a:ext cx="1901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608880" y="3489480"/>
            <a:ext cx="28130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83560" y="5956200"/>
            <a:ext cx="2255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87800" y="5935680"/>
            <a:ext cx="23176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eg Scatter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2720" y="5919840"/>
            <a:ext cx="928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86120" y="6207120"/>
            <a:ext cx="506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19600" y="6608880"/>
            <a:ext cx="1884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55600" y="25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rameter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01880" y="5931000"/>
            <a:ext cx="506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23840" y="2209680"/>
            <a:ext cx="3681360" cy="350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054160" y="5543640"/>
            <a:ext cx="145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9440" y="3676680"/>
            <a:ext cx="1738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68880" y="3840120"/>
            <a:ext cx="10555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Cy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74800" y="5030640"/>
            <a:ext cx="18781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duplicat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59360" y="2030400"/>
            <a:ext cx="3697200" cy="372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89840" y="1940040"/>
            <a:ext cx="35100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012160" y="3792600"/>
            <a:ext cx="9478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tic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948360" y="5543640"/>
            <a:ext cx="145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54720" y="1886040"/>
            <a:ext cx="984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19600" y="6608880"/>
            <a:ext cx="1884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9692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Apop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800" y="1427040"/>
            <a:ext cx="9304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 is programmed cell death where the cell goes through a highly regulated process of “dy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re condensation of the chromat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bbing of nuclear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accompanied by  internucleosomal degradation of DNA giving rise to distinctive 'ladder' pattern on DNA gel electrophor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06560" y="19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908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agments:After fixing or permeabilising cells, low molecular weight fragments of DNA are extracted and an extra peak ('sub-G1') of apoptotic cells can be seen in the DNA histo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ucleosomal degradation of DNA can be visualised by labelling enzymatically the ends of the broken strands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Methods for Apopto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7480" y="1981080"/>
            <a:ext cx="857268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idyl serine, can be detetected by incubating the cells with fluorescein-labelled Annex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,  Hoechst 33342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PI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YOPRO-1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Cytometry Laboratories</cp:lastModifiedBy>
  <cp:revision>0</cp:revision>
  <dc:subject/>
  <dc:title>DNA2.ppt</dc:title>
</cp:coreProperties>
</file>