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5560" y="6558120"/>
            <a:ext cx="1972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2688BE-AFC3-47CE-8243-42975A70BCA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fld id="{6C3215DE-B3DF-4EB7-94D7-C7927CB212DD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76840" y="6554880"/>
            <a:ext cx="345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8867" r="7639" b="0"/>
          <a:stretch/>
        </p:blipFill>
        <p:spPr>
          <a:xfrm>
            <a:off x="1273320" y="3801960"/>
            <a:ext cx="2209680" cy="218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8867" r="7370" b="0"/>
          <a:stretch/>
        </p:blipFill>
        <p:spPr>
          <a:xfrm>
            <a:off x="1273320" y="1515960"/>
            <a:ext cx="2216160" cy="218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79720" cy="242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86200" cy="252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06520" y="250020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7960" y="4710240"/>
            <a:ext cx="25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62640" y="5837400"/>
            <a:ext cx="98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70040" y="4557240"/>
            <a:ext cx="1156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8360" y="3484440"/>
            <a:ext cx="1156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893520" y="2354040"/>
            <a:ext cx="91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64240" y="3513240"/>
            <a:ext cx="11566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8840" y="5837400"/>
            <a:ext cx="9831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1239" t="9922" r="12385" b="14360"/>
          <a:stretch/>
        </p:blipFill>
        <p:spPr>
          <a:xfrm>
            <a:off x="2425680" y="1157400"/>
            <a:ext cx="5370480" cy="466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42760" y="1700280"/>
            <a:ext cx="89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95760" y="21956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88040" y="1700280"/>
            <a:ext cx="86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5853240"/>
            <a:ext cx="29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1392840" y="348876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8761" r="7074" b="0"/>
          <a:stretch/>
        </p:blipFill>
        <p:spPr>
          <a:xfrm>
            <a:off x="5056200" y="2454120"/>
            <a:ext cx="4400640" cy="396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0" t="8362" r="6049" b="0"/>
          <a:stretch/>
        </p:blipFill>
        <p:spPr>
          <a:xfrm>
            <a:off x="439560" y="2484360"/>
            <a:ext cx="4415040" cy="3916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20960" cy="1662120"/>
          </a:xfrm>
          <a:custGeom>
            <a:avLst/>
            <a:gdLst/>
            <a:ahLst/>
            <a:rect l="l" t="t" r="r" b="b"/>
            <a:pathLst>
              <a:path w="1210" h="1047">
                <a:moveTo>
                  <a:pt x="19" y="806"/>
                </a:moveTo>
                <a:lnTo>
                  <a:pt x="48" y="796"/>
                </a:lnTo>
                <a:lnTo>
                  <a:pt x="105" y="787"/>
                </a:lnTo>
                <a:lnTo>
                  <a:pt x="115" y="729"/>
                </a:lnTo>
                <a:lnTo>
                  <a:pt x="144" y="700"/>
                </a:lnTo>
                <a:lnTo>
                  <a:pt x="182" y="672"/>
                </a:lnTo>
                <a:lnTo>
                  <a:pt x="192" y="614"/>
                </a:lnTo>
                <a:lnTo>
                  <a:pt x="221" y="585"/>
                </a:lnTo>
                <a:lnTo>
                  <a:pt x="249" y="556"/>
                </a:lnTo>
                <a:lnTo>
                  <a:pt x="278" y="537"/>
                </a:lnTo>
                <a:lnTo>
                  <a:pt x="307" y="508"/>
                </a:lnTo>
                <a:lnTo>
                  <a:pt x="365" y="499"/>
                </a:lnTo>
                <a:lnTo>
                  <a:pt x="432" y="470"/>
                </a:lnTo>
                <a:lnTo>
                  <a:pt x="499" y="451"/>
                </a:lnTo>
                <a:lnTo>
                  <a:pt x="566" y="422"/>
                </a:lnTo>
                <a:lnTo>
                  <a:pt x="605" y="393"/>
                </a:lnTo>
                <a:lnTo>
                  <a:pt x="672" y="374"/>
                </a:lnTo>
                <a:lnTo>
                  <a:pt x="701" y="345"/>
                </a:lnTo>
                <a:lnTo>
                  <a:pt x="768" y="278"/>
                </a:lnTo>
                <a:lnTo>
                  <a:pt x="806" y="249"/>
                </a:lnTo>
                <a:lnTo>
                  <a:pt x="825" y="220"/>
                </a:lnTo>
                <a:lnTo>
                  <a:pt x="854" y="172"/>
                </a:lnTo>
                <a:lnTo>
                  <a:pt x="883" y="144"/>
                </a:lnTo>
                <a:lnTo>
                  <a:pt x="902" y="115"/>
                </a:lnTo>
                <a:lnTo>
                  <a:pt x="921" y="86"/>
                </a:lnTo>
                <a:lnTo>
                  <a:pt x="960" y="48"/>
                </a:lnTo>
                <a:lnTo>
                  <a:pt x="998" y="38"/>
                </a:lnTo>
                <a:lnTo>
                  <a:pt x="1027" y="9"/>
                </a:lnTo>
                <a:lnTo>
                  <a:pt x="1056" y="0"/>
                </a:lnTo>
                <a:lnTo>
                  <a:pt x="1085" y="0"/>
                </a:lnTo>
                <a:lnTo>
                  <a:pt x="1123" y="0"/>
                </a:lnTo>
                <a:lnTo>
                  <a:pt x="1152" y="28"/>
                </a:lnTo>
                <a:lnTo>
                  <a:pt x="1161" y="57"/>
                </a:lnTo>
                <a:lnTo>
                  <a:pt x="1171" y="86"/>
                </a:lnTo>
                <a:lnTo>
                  <a:pt x="1190" y="124"/>
                </a:lnTo>
                <a:lnTo>
                  <a:pt x="1200" y="182"/>
                </a:lnTo>
                <a:lnTo>
                  <a:pt x="1200" y="220"/>
                </a:lnTo>
                <a:lnTo>
                  <a:pt x="1209" y="259"/>
                </a:lnTo>
                <a:lnTo>
                  <a:pt x="1209" y="326"/>
                </a:lnTo>
                <a:lnTo>
                  <a:pt x="1200" y="393"/>
                </a:lnTo>
                <a:lnTo>
                  <a:pt x="1190" y="422"/>
                </a:lnTo>
                <a:lnTo>
                  <a:pt x="1161" y="441"/>
                </a:lnTo>
                <a:lnTo>
                  <a:pt x="1152" y="470"/>
                </a:lnTo>
                <a:lnTo>
                  <a:pt x="1123" y="489"/>
                </a:lnTo>
                <a:lnTo>
                  <a:pt x="1085" y="518"/>
                </a:lnTo>
                <a:lnTo>
                  <a:pt x="1056" y="528"/>
                </a:lnTo>
                <a:lnTo>
                  <a:pt x="1017" y="547"/>
                </a:lnTo>
                <a:lnTo>
                  <a:pt x="979" y="576"/>
                </a:lnTo>
                <a:lnTo>
                  <a:pt x="941" y="595"/>
                </a:lnTo>
                <a:lnTo>
                  <a:pt x="912" y="614"/>
                </a:lnTo>
                <a:lnTo>
                  <a:pt x="873" y="633"/>
                </a:lnTo>
                <a:lnTo>
                  <a:pt x="835" y="662"/>
                </a:lnTo>
                <a:lnTo>
                  <a:pt x="806" y="691"/>
                </a:lnTo>
                <a:lnTo>
                  <a:pt x="777" y="710"/>
                </a:lnTo>
                <a:lnTo>
                  <a:pt x="739" y="748"/>
                </a:lnTo>
                <a:lnTo>
                  <a:pt x="720" y="806"/>
                </a:lnTo>
                <a:lnTo>
                  <a:pt x="681" y="825"/>
                </a:lnTo>
                <a:lnTo>
                  <a:pt x="662" y="854"/>
                </a:lnTo>
                <a:lnTo>
                  <a:pt x="633" y="873"/>
                </a:lnTo>
                <a:lnTo>
                  <a:pt x="585" y="912"/>
                </a:lnTo>
                <a:lnTo>
                  <a:pt x="547" y="931"/>
                </a:lnTo>
                <a:lnTo>
                  <a:pt x="518" y="960"/>
                </a:lnTo>
                <a:lnTo>
                  <a:pt x="489" y="979"/>
                </a:lnTo>
                <a:lnTo>
                  <a:pt x="451" y="998"/>
                </a:lnTo>
                <a:lnTo>
                  <a:pt x="393" y="1008"/>
                </a:lnTo>
                <a:lnTo>
                  <a:pt x="336" y="1017"/>
                </a:lnTo>
                <a:lnTo>
                  <a:pt x="278" y="1027"/>
                </a:lnTo>
                <a:lnTo>
                  <a:pt x="221" y="1036"/>
                </a:lnTo>
                <a:lnTo>
                  <a:pt x="182" y="1046"/>
                </a:lnTo>
                <a:lnTo>
                  <a:pt x="105" y="1046"/>
                </a:lnTo>
                <a:lnTo>
                  <a:pt x="67" y="1046"/>
                </a:lnTo>
                <a:lnTo>
                  <a:pt x="48" y="1017"/>
                </a:lnTo>
                <a:lnTo>
                  <a:pt x="9" y="950"/>
                </a:lnTo>
                <a:lnTo>
                  <a:pt x="0" y="921"/>
                </a:lnTo>
                <a:lnTo>
                  <a:pt x="0" y="892"/>
                </a:lnTo>
                <a:lnTo>
                  <a:pt x="9" y="854"/>
                </a:lnTo>
                <a:lnTo>
                  <a:pt x="9" y="825"/>
                </a:lnTo>
                <a:lnTo>
                  <a:pt x="38" y="806"/>
                </a:lnTo>
                <a:lnTo>
                  <a:pt x="19" y="80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17000" y="6081840"/>
            <a:ext cx="238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56280" y="6141960"/>
            <a:ext cx="238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486360" y="4128480"/>
            <a:ext cx="208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143960" y="4098600"/>
            <a:ext cx="208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11200" y="2133720"/>
            <a:ext cx="316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4200" y="2133720"/>
            <a:ext cx="316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30240" cy="1768680"/>
          </a:xfrm>
          <a:custGeom>
            <a:avLst/>
            <a:gdLst/>
            <a:ahLst/>
            <a:rect l="l" t="t" r="r" b="b"/>
            <a:pathLst>
              <a:path w="1153" h="1114">
                <a:moveTo>
                  <a:pt x="1037" y="0"/>
                </a:moveTo>
                <a:lnTo>
                  <a:pt x="1008" y="9"/>
                </a:lnTo>
                <a:lnTo>
                  <a:pt x="979" y="38"/>
                </a:lnTo>
                <a:lnTo>
                  <a:pt x="902" y="67"/>
                </a:lnTo>
                <a:lnTo>
                  <a:pt x="873" y="76"/>
                </a:lnTo>
                <a:lnTo>
                  <a:pt x="806" y="105"/>
                </a:lnTo>
                <a:lnTo>
                  <a:pt x="777" y="124"/>
                </a:lnTo>
                <a:lnTo>
                  <a:pt x="739" y="153"/>
                </a:lnTo>
                <a:lnTo>
                  <a:pt x="710" y="163"/>
                </a:lnTo>
                <a:lnTo>
                  <a:pt x="681" y="192"/>
                </a:lnTo>
                <a:lnTo>
                  <a:pt x="653" y="230"/>
                </a:lnTo>
                <a:lnTo>
                  <a:pt x="614" y="259"/>
                </a:lnTo>
                <a:lnTo>
                  <a:pt x="595" y="288"/>
                </a:lnTo>
                <a:lnTo>
                  <a:pt x="566" y="307"/>
                </a:lnTo>
                <a:lnTo>
                  <a:pt x="537" y="336"/>
                </a:lnTo>
                <a:lnTo>
                  <a:pt x="499" y="374"/>
                </a:lnTo>
                <a:lnTo>
                  <a:pt x="480" y="412"/>
                </a:lnTo>
                <a:lnTo>
                  <a:pt x="451" y="422"/>
                </a:lnTo>
                <a:lnTo>
                  <a:pt x="432" y="451"/>
                </a:lnTo>
                <a:lnTo>
                  <a:pt x="403" y="460"/>
                </a:lnTo>
                <a:lnTo>
                  <a:pt x="374" y="489"/>
                </a:lnTo>
                <a:lnTo>
                  <a:pt x="307" y="508"/>
                </a:lnTo>
                <a:lnTo>
                  <a:pt x="249" y="528"/>
                </a:lnTo>
                <a:lnTo>
                  <a:pt x="173" y="566"/>
                </a:lnTo>
                <a:lnTo>
                  <a:pt x="134" y="595"/>
                </a:lnTo>
                <a:lnTo>
                  <a:pt x="105" y="614"/>
                </a:lnTo>
                <a:lnTo>
                  <a:pt x="86" y="643"/>
                </a:lnTo>
                <a:lnTo>
                  <a:pt x="57" y="662"/>
                </a:lnTo>
                <a:lnTo>
                  <a:pt x="38" y="691"/>
                </a:lnTo>
                <a:lnTo>
                  <a:pt x="19" y="720"/>
                </a:lnTo>
                <a:lnTo>
                  <a:pt x="9" y="758"/>
                </a:lnTo>
                <a:lnTo>
                  <a:pt x="0" y="835"/>
                </a:lnTo>
                <a:lnTo>
                  <a:pt x="0" y="892"/>
                </a:lnTo>
                <a:lnTo>
                  <a:pt x="19" y="979"/>
                </a:lnTo>
                <a:lnTo>
                  <a:pt x="57" y="1046"/>
                </a:lnTo>
                <a:lnTo>
                  <a:pt x="115" y="1056"/>
                </a:lnTo>
                <a:lnTo>
                  <a:pt x="134" y="1113"/>
                </a:lnTo>
                <a:lnTo>
                  <a:pt x="192" y="1113"/>
                </a:lnTo>
                <a:lnTo>
                  <a:pt x="230" y="1113"/>
                </a:lnTo>
                <a:lnTo>
                  <a:pt x="326" y="1113"/>
                </a:lnTo>
                <a:lnTo>
                  <a:pt x="403" y="1113"/>
                </a:lnTo>
                <a:lnTo>
                  <a:pt x="461" y="1104"/>
                </a:lnTo>
                <a:lnTo>
                  <a:pt x="518" y="1104"/>
                </a:lnTo>
                <a:lnTo>
                  <a:pt x="576" y="1084"/>
                </a:lnTo>
                <a:lnTo>
                  <a:pt x="653" y="1065"/>
                </a:lnTo>
                <a:lnTo>
                  <a:pt x="710" y="1008"/>
                </a:lnTo>
                <a:lnTo>
                  <a:pt x="768" y="988"/>
                </a:lnTo>
                <a:lnTo>
                  <a:pt x="787" y="931"/>
                </a:lnTo>
                <a:lnTo>
                  <a:pt x="845" y="873"/>
                </a:lnTo>
                <a:lnTo>
                  <a:pt x="921" y="806"/>
                </a:lnTo>
                <a:lnTo>
                  <a:pt x="979" y="729"/>
                </a:lnTo>
                <a:lnTo>
                  <a:pt x="989" y="672"/>
                </a:lnTo>
                <a:lnTo>
                  <a:pt x="1046" y="652"/>
                </a:lnTo>
                <a:lnTo>
                  <a:pt x="1065" y="614"/>
                </a:lnTo>
                <a:lnTo>
                  <a:pt x="1085" y="556"/>
                </a:lnTo>
                <a:lnTo>
                  <a:pt x="1094" y="480"/>
                </a:lnTo>
                <a:lnTo>
                  <a:pt x="1123" y="441"/>
                </a:lnTo>
                <a:lnTo>
                  <a:pt x="1133" y="403"/>
                </a:lnTo>
                <a:lnTo>
                  <a:pt x="1142" y="345"/>
                </a:lnTo>
                <a:lnTo>
                  <a:pt x="1152" y="278"/>
                </a:lnTo>
                <a:lnTo>
                  <a:pt x="1142" y="201"/>
                </a:lnTo>
                <a:lnTo>
                  <a:pt x="1142" y="172"/>
                </a:lnTo>
                <a:lnTo>
                  <a:pt x="1142" y="96"/>
                </a:lnTo>
                <a:lnTo>
                  <a:pt x="1113" y="57"/>
                </a:lnTo>
                <a:lnTo>
                  <a:pt x="1075" y="19"/>
                </a:lnTo>
                <a:lnTo>
                  <a:pt x="1037" y="0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30400" y="522936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6854" t="11194" r="15888" b="15672"/>
          <a:stretch/>
        </p:blipFill>
        <p:spPr>
          <a:xfrm>
            <a:off x="1211400" y="2438280"/>
            <a:ext cx="4008240" cy="3062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6542" t="9158" r="15265" b="9158"/>
          <a:stretch/>
        </p:blipFill>
        <p:spPr>
          <a:xfrm>
            <a:off x="5043600" y="2378160"/>
            <a:ext cx="3941640" cy="3392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626200" y="5821200"/>
            <a:ext cx="185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7240" y="5821200"/>
            <a:ext cx="217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7520" y="53802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54640" y="1798560"/>
            <a:ext cx="381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304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2673" t="2673" r="0" b="3485"/>
          <a:stretch/>
        </p:blipFill>
        <p:spPr>
          <a:xfrm>
            <a:off x="297000" y="2286000"/>
            <a:ext cx="3809880" cy="3673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6962" t="13020" r="17523" b="16505"/>
          <a:stretch/>
        </p:blipFill>
        <p:spPr>
          <a:xfrm>
            <a:off x="6907320" y="2724120"/>
            <a:ext cx="3292200" cy="257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8210" t="9306" r="16553" b="15068"/>
          <a:stretch/>
        </p:blipFill>
        <p:spPr>
          <a:xfrm>
            <a:off x="3778200" y="2232000"/>
            <a:ext cx="3290760" cy="3059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5280" cy="1328760"/>
          </a:xfrm>
          <a:custGeom>
            <a:avLst/>
            <a:gdLst/>
            <a:ahLst/>
            <a:rect l="l" t="t" r="r" b="b"/>
            <a:pathLst>
              <a:path w="1383" h="837">
                <a:moveTo>
                  <a:pt x="0" y="807"/>
                </a:moveTo>
                <a:lnTo>
                  <a:pt x="86" y="0"/>
                </a:lnTo>
                <a:lnTo>
                  <a:pt x="1382" y="0"/>
                </a:lnTo>
                <a:lnTo>
                  <a:pt x="1339" y="8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1600" cy="1030320"/>
          </a:xfrm>
          <a:custGeom>
            <a:avLst/>
            <a:gdLst/>
            <a:ahLst/>
            <a:rect l="l" t="t" r="r" b="b"/>
            <a:pathLst>
              <a:path w="3472" h="649">
                <a:moveTo>
                  <a:pt x="0" y="0"/>
                </a:moveTo>
                <a:lnTo>
                  <a:pt x="475" y="648"/>
                </a:lnTo>
                <a:lnTo>
                  <a:pt x="3442" y="360"/>
                </a:lnTo>
                <a:lnTo>
                  <a:pt x="3471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0400" y="5853240"/>
            <a:ext cx="181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-326880" y="4081680"/>
            <a:ext cx="140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79640" y="360360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6520" y="2081160"/>
            <a:ext cx="2994120" cy="2459160"/>
            <a:chOff x="5996520" y="2081160"/>
            <a:chExt cx="2994120" cy="2459160"/>
          </a:xfrm>
        </p:grpSpPr>
        <p:sp>
          <p:nvSpPr>
            <p:cNvPr id="48" name=""/>
            <p:cNvSpPr/>
            <p:nvPr/>
          </p:nvSpPr>
          <p:spPr>
            <a:xfrm>
              <a:off x="7699320" y="3178080"/>
              <a:ext cx="146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21640" y="344016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1120" y="3457440"/>
              <a:ext cx="1429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6640" y="371484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0760" y="31654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49960" y="3719520"/>
              <a:ext cx="155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15200" y="3676680"/>
              <a:ext cx="2635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51360" y="361008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35760" y="395460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51880" y="3792600"/>
              <a:ext cx="147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05480" y="3146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6520" y="29941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15360" y="3162240"/>
              <a:ext cx="1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7040" y="2862000"/>
              <a:ext cx="690480" cy="603000"/>
              <a:chOff x="6647040" y="2862000"/>
              <a:chExt cx="690480" cy="603000"/>
            </a:xfrm>
          </p:grpSpPr>
          <p:sp>
            <p:nvSpPr>
              <p:cNvPr id="64" name=""/>
              <p:cNvSpPr/>
              <p:nvPr/>
            </p:nvSpPr>
            <p:spPr>
              <a:xfrm>
                <a:off x="7183440" y="28749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64360" y="31464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7040" y="28620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7040" y="31608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6600" y="3450960"/>
                <a:ext cx="3351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43600" y="2868480"/>
                <a:ext cx="3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1480000">
                <a:off x="6771960" y="2944800"/>
                <a:ext cx="43956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94640" y="2865240"/>
              <a:ext cx="690480" cy="603000"/>
              <a:chOff x="7694640" y="2865240"/>
              <a:chExt cx="690480" cy="603000"/>
            </a:xfrm>
          </p:grpSpPr>
          <p:sp>
            <p:nvSpPr>
              <p:cNvPr id="72" name=""/>
              <p:cNvSpPr/>
              <p:nvPr/>
            </p:nvSpPr>
            <p:spPr>
              <a:xfrm>
                <a:off x="8231040" y="2878200"/>
                <a:ext cx="15264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11960" y="314964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94640" y="286524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94640" y="316404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64560" y="3454200"/>
                <a:ext cx="3348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91560" y="287172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480000">
                <a:off x="7819560" y="294804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8541000" y="300996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8880" y="3936600"/>
              <a:ext cx="690480" cy="603720"/>
              <a:chOff x="6608880" y="3936600"/>
              <a:chExt cx="690480" cy="603720"/>
            </a:xfrm>
          </p:grpSpPr>
          <p:sp>
            <p:nvSpPr>
              <p:cNvPr id="81" name=""/>
              <p:cNvSpPr/>
              <p:nvPr/>
            </p:nvSpPr>
            <p:spPr>
              <a:xfrm>
                <a:off x="7145280" y="39495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6200" y="42210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8880" y="39366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08880" y="42354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8800" y="4525920"/>
                <a:ext cx="3348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05440" y="3943440"/>
                <a:ext cx="3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1480000">
                <a:off x="6733800" y="40194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810840" y="2081160"/>
              <a:ext cx="131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6280" y="2127240"/>
            <a:ext cx="3615840" cy="2494080"/>
            <a:chOff x="1286280" y="2127240"/>
            <a:chExt cx="3615840" cy="2494080"/>
          </a:xfrm>
        </p:grpSpPr>
        <p:sp>
          <p:nvSpPr>
            <p:cNvPr id="90" name=""/>
            <p:cNvSpPr/>
            <p:nvPr/>
          </p:nvSpPr>
          <p:spPr>
            <a:xfrm>
              <a:off x="2989440" y="3259080"/>
              <a:ext cx="14580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11400" y="3521160"/>
              <a:ext cx="1303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1240" y="3538440"/>
              <a:ext cx="1425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6760" y="379584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520" y="32464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40080" y="3800520"/>
              <a:ext cx="155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04960" y="3757680"/>
              <a:ext cx="2635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1480" y="369108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0200" y="4035600"/>
              <a:ext cx="597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1640" y="3873600"/>
              <a:ext cx="147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695600" y="3227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6280" y="30751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5120" y="3243240"/>
              <a:ext cx="1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6800" y="2943000"/>
              <a:ext cx="690480" cy="603000"/>
              <a:chOff x="1936800" y="2943000"/>
              <a:chExt cx="690480" cy="60300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3200" y="2955960"/>
                <a:ext cx="15264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54120" y="32274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6800" y="29430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6800" y="32418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6720" y="3531960"/>
                <a:ext cx="3348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3720" y="294948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1480000">
                <a:off x="2061720" y="30258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84400" y="2945880"/>
              <a:ext cx="690840" cy="603720"/>
              <a:chOff x="2984400" y="2945880"/>
              <a:chExt cx="690840" cy="603720"/>
            </a:xfrm>
          </p:grpSpPr>
          <p:sp>
            <p:nvSpPr>
              <p:cNvPr id="114" name=""/>
              <p:cNvSpPr/>
              <p:nvPr/>
            </p:nvSpPr>
            <p:spPr>
              <a:xfrm>
                <a:off x="3521160" y="295920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02080" y="323064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84400" y="2945880"/>
                <a:ext cx="17964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84400" y="3244680"/>
                <a:ext cx="157320" cy="29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54320" y="3535200"/>
                <a:ext cx="3351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1320" y="295272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480000">
                <a:off x="3109680" y="3029040"/>
                <a:ext cx="439560" cy="43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831120" y="309096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8640" y="4017600"/>
              <a:ext cx="690480" cy="603720"/>
              <a:chOff x="1898640" y="4017600"/>
              <a:chExt cx="690480" cy="60372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5400" y="40305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16320" y="4302000"/>
                <a:ext cx="1728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8640" y="40176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98640" y="4316400"/>
                <a:ext cx="15732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8560" y="4606920"/>
                <a:ext cx="3348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95560" y="402444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1480000">
                <a:off x="2023560" y="41004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75240" y="4160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4320" y="404172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2440" y="3936600"/>
              <a:ext cx="2617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3240" y="4172040"/>
              <a:ext cx="27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56200" y="4224240"/>
              <a:ext cx="27288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9880" y="377352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78680" y="40165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03880" y="429084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09760" y="2127240"/>
              <a:ext cx="147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0040" y="1981080"/>
            <a:ext cx="89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5120" y="1370160"/>
            <a:ext cx="9176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1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03480" y="2244600"/>
            <a:ext cx="3187800" cy="3021120"/>
            <a:chOff x="3003480" y="2244600"/>
            <a:chExt cx="3187800" cy="3021120"/>
          </a:xfrm>
        </p:grpSpPr>
        <p:sp>
          <p:nvSpPr>
            <p:cNvPr id="145" name=""/>
            <p:cNvSpPr/>
            <p:nvPr/>
          </p:nvSpPr>
          <p:spPr>
            <a:xfrm>
              <a:off x="3003480" y="2244600"/>
              <a:ext cx="3187800" cy="30211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9840" y="2549520"/>
              <a:ext cx="2562480" cy="241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2460000">
            <a:off x="3544920" y="1196280"/>
            <a:ext cx="4872960" cy="157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2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23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780000">
            <a:off x="3062880" y="4990320"/>
            <a:ext cx="4917600" cy="10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20" swAng="5397780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20" swAng="539778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7640" y="2260440"/>
            <a:ext cx="3187800" cy="3021120"/>
            <a:chOff x="2987640" y="2260440"/>
            <a:chExt cx="3187800" cy="3021120"/>
          </a:xfrm>
        </p:grpSpPr>
        <p:sp>
          <p:nvSpPr>
            <p:cNvPr id="150" name=""/>
            <p:cNvSpPr/>
            <p:nvPr/>
          </p:nvSpPr>
          <p:spPr>
            <a:xfrm>
              <a:off x="2987640" y="2260440"/>
              <a:ext cx="3187800" cy="30211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94000" y="2565360"/>
              <a:ext cx="2562120" cy="241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9600" y="3573360"/>
            <a:ext cx="1191960" cy="1190880"/>
          </a:xfrm>
          <a:prstGeom prst="ellipse">
            <a:avLst/>
          </a:prstGeom>
          <a:gradFill rotWithShape="0">
            <a:gsLst>
              <a:gs pos="0">
                <a:srgbClr val="4a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8000" y="37036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5033880"/>
            <a:ext cx="0" cy="203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33520" y="2828880"/>
            <a:ext cx="360360" cy="285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05240" y="2320920"/>
            <a:ext cx="46080" cy="2030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79800" y="2382840"/>
            <a:ext cx="222480" cy="2030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59320" y="257652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8280" y="27590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44920" y="40086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6040" y="39322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5680" cy="216000"/>
          </a:xfrm>
          <a:custGeom>
            <a:avLst/>
            <a:gdLst/>
            <a:ahLst/>
            <a:rect l="l" t="t" r="r" b="b"/>
            <a:pathLst>
              <a:path w="224" h="136">
                <a:moveTo>
                  <a:pt x="0" y="113"/>
                </a:moveTo>
                <a:lnTo>
                  <a:pt x="205" y="0"/>
                </a:lnTo>
                <a:lnTo>
                  <a:pt x="223" y="135"/>
                </a:lnTo>
                <a:lnTo>
                  <a:pt x="0" y="113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56120" y="5014800"/>
            <a:ext cx="203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1T09:22:54Z</dcterms:created>
  <dc:creator>JPRobinson</dc:creator>
  <dc:description/>
  <dc:language>en-US</dc:language>
  <cp:lastModifiedBy>Cytometry Laboratories</cp:lastModifiedBy>
  <cp:lastPrinted>1996-06-02T22:12:04Z</cp:lastPrinted>
  <dcterms:modified xsi:type="dcterms:W3CDTF">1998-04-17T21:46:42Z</dcterms:modified>
  <cp:revision>73</cp:revision>
  <dc:subject/>
  <dc:title>DNA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jpr@flowcyt.cyto.purdue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