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1840" y="6558120"/>
            <a:ext cx="1596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AE60AC14-1EB1-4868-9EC1-14042748BDD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4/17/98 of DNA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576840" y="6554880"/>
            <a:ext cx="34560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00280" y="228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1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atio between the mode of the relative DNA content of the test cells (in G0/G1phase) to the mode of the relative DNA content in normal G0/G1 diploi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of Variation - 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atio between the SD of the mode of the G0/G1 cell populations expressed as a perce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57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73320" y="3801960"/>
            <a:ext cx="2222640" cy="220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273320" y="1515960"/>
            <a:ext cx="2228760" cy="22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16440" y="3789360"/>
            <a:ext cx="2992320" cy="244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870360" y="1393920"/>
            <a:ext cx="2998800" cy="2541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805440" y="2500200"/>
            <a:ext cx="92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05440" y="4710240"/>
            <a:ext cx="2535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860480" y="5837400"/>
            <a:ext cx="9842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8240" y="4557600"/>
            <a:ext cx="11588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906560" y="3484440"/>
            <a:ext cx="11588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92080" y="2354400"/>
            <a:ext cx="9129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762440" y="3513240"/>
            <a:ext cx="11588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46680" y="5837400"/>
            <a:ext cx="984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2574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DN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5680" y="1157400"/>
            <a:ext cx="5383080" cy="4675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48040" y="2370240"/>
            <a:ext cx="0" cy="33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2370240"/>
            <a:ext cx="0" cy="33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05440" y="2370240"/>
            <a:ext cx="0" cy="33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2280" y="2370240"/>
            <a:ext cx="0" cy="33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29080" y="1700280"/>
            <a:ext cx="92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95760" y="2195640"/>
            <a:ext cx="351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81560" y="1700280"/>
            <a:ext cx="876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300480" y="5853240"/>
            <a:ext cx="2932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93920" y="3487680"/>
            <a:ext cx="156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ing the DN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t 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056200" y="2454120"/>
            <a:ext cx="4413240" cy="3979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39560" y="2484360"/>
            <a:ext cx="4427640" cy="3929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03800" y="3521160"/>
            <a:ext cx="1919520" cy="1661040"/>
          </a:xfrm>
          <a:custGeom>
            <a:avLst/>
            <a:gdLst/>
            <a:ahLst/>
            <a:rect l="0" t="0" r="r" b="b"/>
            <a:pathLst>
              <a:path fill="none" w="5332" h="4614">
                <a:moveTo>
                  <a:pt x="83" y="3556"/>
                </a:moveTo>
                <a:lnTo>
                  <a:pt x="211" y="3512"/>
                </a:lnTo>
                <a:lnTo>
                  <a:pt x="463" y="3472"/>
                </a:lnTo>
                <a:lnTo>
                  <a:pt x="507" y="3215"/>
                </a:lnTo>
                <a:lnTo>
                  <a:pt x="635" y="3087"/>
                </a:lnTo>
                <a:lnTo>
                  <a:pt x="802" y="2964"/>
                </a:lnTo>
                <a:lnTo>
                  <a:pt x="846" y="2708"/>
                </a:lnTo>
                <a:lnTo>
                  <a:pt x="974" y="2580"/>
                </a:lnTo>
                <a:lnTo>
                  <a:pt x="1098" y="2452"/>
                </a:lnTo>
                <a:lnTo>
                  <a:pt x="1225" y="2369"/>
                </a:lnTo>
                <a:lnTo>
                  <a:pt x="1353" y="2241"/>
                </a:lnTo>
                <a:lnTo>
                  <a:pt x="1609" y="2201"/>
                </a:lnTo>
                <a:lnTo>
                  <a:pt x="1905" y="2073"/>
                </a:lnTo>
                <a:lnTo>
                  <a:pt x="2200" y="1989"/>
                </a:lnTo>
                <a:lnTo>
                  <a:pt x="2495" y="1861"/>
                </a:lnTo>
                <a:lnTo>
                  <a:pt x="2668" y="1734"/>
                </a:lnTo>
                <a:lnTo>
                  <a:pt x="2964" y="1650"/>
                </a:lnTo>
                <a:lnTo>
                  <a:pt x="3092" y="1522"/>
                </a:lnTo>
                <a:lnTo>
                  <a:pt x="3387" y="1226"/>
                </a:lnTo>
                <a:lnTo>
                  <a:pt x="3555" y="1098"/>
                </a:lnTo>
                <a:lnTo>
                  <a:pt x="3639" y="970"/>
                </a:lnTo>
                <a:lnTo>
                  <a:pt x="3766" y="758"/>
                </a:lnTo>
                <a:lnTo>
                  <a:pt x="3894" y="635"/>
                </a:lnTo>
                <a:lnTo>
                  <a:pt x="3978" y="507"/>
                </a:lnTo>
                <a:lnTo>
                  <a:pt x="4062" y="379"/>
                </a:lnTo>
                <a:lnTo>
                  <a:pt x="4234" y="211"/>
                </a:lnTo>
                <a:lnTo>
                  <a:pt x="4401" y="167"/>
                </a:lnTo>
                <a:lnTo>
                  <a:pt x="4529" y="39"/>
                </a:lnTo>
                <a:lnTo>
                  <a:pt x="4657" y="0"/>
                </a:lnTo>
                <a:lnTo>
                  <a:pt x="4785" y="0"/>
                </a:lnTo>
                <a:lnTo>
                  <a:pt x="4953" y="0"/>
                </a:lnTo>
                <a:lnTo>
                  <a:pt x="5080" y="123"/>
                </a:lnTo>
                <a:lnTo>
                  <a:pt x="5120" y="251"/>
                </a:lnTo>
                <a:lnTo>
                  <a:pt x="5164" y="379"/>
                </a:lnTo>
                <a:lnTo>
                  <a:pt x="5248" y="546"/>
                </a:lnTo>
                <a:lnTo>
                  <a:pt x="5292" y="802"/>
                </a:lnTo>
                <a:lnTo>
                  <a:pt x="5292" y="970"/>
                </a:lnTo>
                <a:lnTo>
                  <a:pt x="5332" y="1142"/>
                </a:lnTo>
                <a:lnTo>
                  <a:pt x="5332" y="1438"/>
                </a:lnTo>
                <a:lnTo>
                  <a:pt x="5292" y="1734"/>
                </a:lnTo>
                <a:lnTo>
                  <a:pt x="5248" y="1861"/>
                </a:lnTo>
                <a:lnTo>
                  <a:pt x="5120" y="1945"/>
                </a:lnTo>
                <a:lnTo>
                  <a:pt x="5080" y="2073"/>
                </a:lnTo>
                <a:lnTo>
                  <a:pt x="4953" y="2157"/>
                </a:lnTo>
                <a:lnTo>
                  <a:pt x="4785" y="2285"/>
                </a:lnTo>
                <a:lnTo>
                  <a:pt x="4657" y="2329"/>
                </a:lnTo>
                <a:lnTo>
                  <a:pt x="4485" y="2413"/>
                </a:lnTo>
                <a:lnTo>
                  <a:pt x="4318" y="2541"/>
                </a:lnTo>
                <a:lnTo>
                  <a:pt x="4150" y="2624"/>
                </a:lnTo>
                <a:lnTo>
                  <a:pt x="4022" y="2708"/>
                </a:lnTo>
                <a:lnTo>
                  <a:pt x="3850" y="2792"/>
                </a:lnTo>
                <a:lnTo>
                  <a:pt x="3683" y="2920"/>
                </a:lnTo>
                <a:lnTo>
                  <a:pt x="3555" y="3048"/>
                </a:lnTo>
                <a:lnTo>
                  <a:pt x="3427" y="3131"/>
                </a:lnTo>
                <a:lnTo>
                  <a:pt x="3259" y="3299"/>
                </a:lnTo>
                <a:lnTo>
                  <a:pt x="3176" y="3556"/>
                </a:lnTo>
                <a:lnTo>
                  <a:pt x="3004" y="3640"/>
                </a:lnTo>
                <a:lnTo>
                  <a:pt x="2920" y="3767"/>
                </a:lnTo>
                <a:lnTo>
                  <a:pt x="2792" y="3851"/>
                </a:lnTo>
                <a:lnTo>
                  <a:pt x="2579" y="4023"/>
                </a:lnTo>
                <a:lnTo>
                  <a:pt x="2412" y="4107"/>
                </a:lnTo>
                <a:lnTo>
                  <a:pt x="2284" y="4235"/>
                </a:lnTo>
                <a:lnTo>
                  <a:pt x="2156" y="4319"/>
                </a:lnTo>
                <a:lnTo>
                  <a:pt x="1988" y="4402"/>
                </a:lnTo>
                <a:lnTo>
                  <a:pt x="1733" y="4447"/>
                </a:lnTo>
                <a:lnTo>
                  <a:pt x="1481" y="4486"/>
                </a:lnTo>
                <a:lnTo>
                  <a:pt x="1225" y="4530"/>
                </a:lnTo>
                <a:lnTo>
                  <a:pt x="974" y="4570"/>
                </a:lnTo>
                <a:lnTo>
                  <a:pt x="802" y="4614"/>
                </a:lnTo>
                <a:lnTo>
                  <a:pt x="463" y="4614"/>
                </a:lnTo>
                <a:lnTo>
                  <a:pt x="295" y="4614"/>
                </a:lnTo>
                <a:lnTo>
                  <a:pt x="211" y="4486"/>
                </a:lnTo>
                <a:lnTo>
                  <a:pt x="39" y="4191"/>
                </a:lnTo>
                <a:lnTo>
                  <a:pt x="0" y="4063"/>
                </a:lnTo>
                <a:lnTo>
                  <a:pt x="0" y="3935"/>
                </a:lnTo>
                <a:lnTo>
                  <a:pt x="39" y="3767"/>
                </a:lnTo>
                <a:lnTo>
                  <a:pt x="39" y="3640"/>
                </a:lnTo>
                <a:lnTo>
                  <a:pt x="167" y="3556"/>
                </a:lnTo>
                <a:lnTo>
                  <a:pt x="83" y="3556"/>
                </a:ln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3120" y="6081840"/>
            <a:ext cx="237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62040" y="6141960"/>
            <a:ext cx="237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482760" y="4129200"/>
            <a:ext cx="2077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8280" y="4097160"/>
            <a:ext cx="2077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919840" y="2133720"/>
            <a:ext cx="31478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x 1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2840" y="2133720"/>
            <a:ext cx="31478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x 6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9440" y="3597120"/>
            <a:ext cx="1829160" cy="1767240"/>
          </a:xfrm>
          <a:custGeom>
            <a:avLst/>
            <a:gdLst/>
            <a:ahLst/>
            <a:rect l="0" t="0" r="r" b="b"/>
            <a:pathLst>
              <a:path fill="none" w="5081" h="4909">
                <a:moveTo>
                  <a:pt x="4573" y="0"/>
                </a:moveTo>
                <a:lnTo>
                  <a:pt x="4446" y="39"/>
                </a:lnTo>
                <a:lnTo>
                  <a:pt x="4318" y="167"/>
                </a:lnTo>
                <a:lnTo>
                  <a:pt x="3978" y="295"/>
                </a:lnTo>
                <a:lnTo>
                  <a:pt x="3850" y="335"/>
                </a:lnTo>
                <a:lnTo>
                  <a:pt x="3555" y="463"/>
                </a:lnTo>
                <a:lnTo>
                  <a:pt x="3427" y="546"/>
                </a:lnTo>
                <a:lnTo>
                  <a:pt x="3259" y="674"/>
                </a:lnTo>
                <a:lnTo>
                  <a:pt x="3131" y="718"/>
                </a:lnTo>
                <a:lnTo>
                  <a:pt x="3004" y="846"/>
                </a:lnTo>
                <a:lnTo>
                  <a:pt x="2880" y="1014"/>
                </a:lnTo>
                <a:lnTo>
                  <a:pt x="2708" y="1142"/>
                </a:lnTo>
                <a:lnTo>
                  <a:pt x="2624" y="1270"/>
                </a:lnTo>
                <a:lnTo>
                  <a:pt x="2495" y="1353"/>
                </a:lnTo>
                <a:lnTo>
                  <a:pt x="2368" y="1481"/>
                </a:lnTo>
                <a:lnTo>
                  <a:pt x="2200" y="1649"/>
                </a:lnTo>
                <a:lnTo>
                  <a:pt x="2116" y="1816"/>
                </a:lnTo>
                <a:lnTo>
                  <a:pt x="1988" y="1860"/>
                </a:lnTo>
                <a:lnTo>
                  <a:pt x="1905" y="1988"/>
                </a:lnTo>
                <a:lnTo>
                  <a:pt x="1777" y="2028"/>
                </a:lnTo>
                <a:lnTo>
                  <a:pt x="1649" y="2156"/>
                </a:lnTo>
                <a:lnTo>
                  <a:pt x="1353" y="2240"/>
                </a:lnTo>
                <a:lnTo>
                  <a:pt x="1098" y="2328"/>
                </a:lnTo>
                <a:lnTo>
                  <a:pt x="762" y="2496"/>
                </a:lnTo>
                <a:lnTo>
                  <a:pt x="590" y="2624"/>
                </a:lnTo>
                <a:lnTo>
                  <a:pt x="463" y="2708"/>
                </a:lnTo>
                <a:lnTo>
                  <a:pt x="379" y="2836"/>
                </a:lnTo>
                <a:lnTo>
                  <a:pt x="251" y="2920"/>
                </a:lnTo>
                <a:lnTo>
                  <a:pt x="167" y="3048"/>
                </a:lnTo>
                <a:lnTo>
                  <a:pt x="83" y="3176"/>
                </a:lnTo>
                <a:lnTo>
                  <a:pt x="39" y="3343"/>
                </a:lnTo>
                <a:lnTo>
                  <a:pt x="0" y="3683"/>
                </a:lnTo>
                <a:lnTo>
                  <a:pt x="0" y="3934"/>
                </a:lnTo>
                <a:lnTo>
                  <a:pt x="83" y="4318"/>
                </a:lnTo>
                <a:lnTo>
                  <a:pt x="251" y="4613"/>
                </a:lnTo>
                <a:lnTo>
                  <a:pt x="507" y="4657"/>
                </a:lnTo>
                <a:lnTo>
                  <a:pt x="590" y="4909"/>
                </a:lnTo>
                <a:lnTo>
                  <a:pt x="846" y="4909"/>
                </a:lnTo>
                <a:lnTo>
                  <a:pt x="1014" y="4909"/>
                </a:lnTo>
                <a:lnTo>
                  <a:pt x="1437" y="4909"/>
                </a:lnTo>
                <a:lnTo>
                  <a:pt x="1777" y="4909"/>
                </a:lnTo>
                <a:lnTo>
                  <a:pt x="2032" y="4869"/>
                </a:lnTo>
                <a:lnTo>
                  <a:pt x="2284" y="4869"/>
                </a:lnTo>
                <a:lnTo>
                  <a:pt x="2541" y="4781"/>
                </a:lnTo>
                <a:lnTo>
                  <a:pt x="2880" y="4697"/>
                </a:lnTo>
                <a:lnTo>
                  <a:pt x="3131" y="4446"/>
                </a:lnTo>
                <a:lnTo>
                  <a:pt x="3387" y="4357"/>
                </a:lnTo>
                <a:lnTo>
                  <a:pt x="3471" y="4106"/>
                </a:lnTo>
                <a:lnTo>
                  <a:pt x="3727" y="3850"/>
                </a:lnTo>
                <a:lnTo>
                  <a:pt x="4062" y="3555"/>
                </a:lnTo>
                <a:lnTo>
                  <a:pt x="4318" y="3215"/>
                </a:lnTo>
                <a:lnTo>
                  <a:pt x="4362" y="2964"/>
                </a:lnTo>
                <a:lnTo>
                  <a:pt x="4613" y="2876"/>
                </a:lnTo>
                <a:lnTo>
                  <a:pt x="4697" y="2708"/>
                </a:lnTo>
                <a:lnTo>
                  <a:pt x="4785" y="2451"/>
                </a:lnTo>
                <a:lnTo>
                  <a:pt x="4825" y="2116"/>
                </a:lnTo>
                <a:lnTo>
                  <a:pt x="4953" y="1944"/>
                </a:lnTo>
                <a:lnTo>
                  <a:pt x="4997" y="1777"/>
                </a:lnTo>
                <a:lnTo>
                  <a:pt x="5036" y="1521"/>
                </a:lnTo>
                <a:lnTo>
                  <a:pt x="5081" y="1225"/>
                </a:lnTo>
                <a:lnTo>
                  <a:pt x="5036" y="886"/>
                </a:lnTo>
                <a:lnTo>
                  <a:pt x="5036" y="758"/>
                </a:lnTo>
                <a:lnTo>
                  <a:pt x="5036" y="423"/>
                </a:lnTo>
                <a:lnTo>
                  <a:pt x="4909" y="251"/>
                </a:lnTo>
                <a:lnTo>
                  <a:pt x="4741" y="83"/>
                </a:lnTo>
                <a:lnTo>
                  <a:pt x="4573" y="0"/>
                </a:lnTo>
              </a:path>
            </a:pathLst>
          </a:custGeom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31120" y="5229360"/>
            <a:ext cx="112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 Labeled Nuc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11400" y="2438280"/>
            <a:ext cx="4021200" cy="3075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43600" y="2378160"/>
            <a:ext cx="3954600" cy="3405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628720" y="5821200"/>
            <a:ext cx="1847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ly 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80120" y="5821200"/>
            <a:ext cx="2170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7880" y="5380200"/>
            <a:ext cx="6206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57880" y="1798560"/>
            <a:ext cx="3803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ubated additional 10 m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37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37304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97000" y="2286000"/>
            <a:ext cx="3822840" cy="3686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907320" y="2724120"/>
            <a:ext cx="3305160" cy="258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778200" y="2232000"/>
            <a:ext cx="3303720" cy="3071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06760" y="2079720"/>
            <a:ext cx="2194200" cy="1327680"/>
          </a:xfrm>
          <a:custGeom>
            <a:avLst/>
            <a:gdLst/>
            <a:ahLst/>
            <a:rect l="0" t="0" r="r" b="b"/>
            <a:pathLst>
              <a:path fill="none" w="6095" h="3688">
                <a:moveTo>
                  <a:pt x="0" y="3560"/>
                </a:moveTo>
                <a:lnTo>
                  <a:pt x="379" y="0"/>
                </a:lnTo>
                <a:lnTo>
                  <a:pt x="6095" y="0"/>
                </a:lnTo>
                <a:lnTo>
                  <a:pt x="5905" y="368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54400" y="5235480"/>
            <a:ext cx="5510520" cy="1029240"/>
          </a:xfrm>
          <a:custGeom>
            <a:avLst/>
            <a:gdLst/>
            <a:ahLst/>
            <a:rect l="0" t="0" r="r" b="b"/>
            <a:pathLst>
              <a:path fill="none" w="15307" h="2859">
                <a:moveTo>
                  <a:pt x="0" y="0"/>
                </a:moveTo>
                <a:lnTo>
                  <a:pt x="2094" y="2859"/>
                </a:lnTo>
                <a:lnTo>
                  <a:pt x="15179" y="1588"/>
                </a:lnTo>
                <a:lnTo>
                  <a:pt x="15307" y="189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44720" y="5853240"/>
            <a:ext cx="18097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25440" y="4083120"/>
            <a:ext cx="14018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82160" y="3603600"/>
            <a:ext cx="1316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Less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480" y="23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 of DNA probes is that they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ICHIOMETR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us number of molecules of probe bound is equivalent to number of molecul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57480" y="17604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5360" y="134136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anthridin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d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dium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te between bases in DS 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e in the UV or Blue with red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DS RNA - must be treated with RNAse for DNA measurements to b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992920" y="2081160"/>
            <a:ext cx="3003120" cy="2457360"/>
            <a:chOff x="5992920" y="2081160"/>
            <a:chExt cx="3003120" cy="2457360"/>
          </a:xfrm>
        </p:grpSpPr>
        <p:sp>
          <p:nvSpPr>
            <p:cNvPr id="48" name=""/>
            <p:cNvSpPr/>
            <p:nvPr/>
          </p:nvSpPr>
          <p:spPr>
            <a:xfrm>
              <a:off x="7701120" y="3179880"/>
              <a:ext cx="144360" cy="26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723080" y="3440160"/>
              <a:ext cx="128520" cy="22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3459240"/>
              <a:ext cx="141120" cy="25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8440" y="371484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42200" y="316548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151760" y="3720960"/>
              <a:ext cx="154080" cy="223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7316640" y="3676680"/>
              <a:ext cx="26208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93200" y="3954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7548480" y="3610080"/>
              <a:ext cx="3492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1440" y="4137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7827840" y="3954600"/>
              <a:ext cx="514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53320" y="3794040"/>
              <a:ext cx="14616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07280" y="3146400"/>
              <a:ext cx="22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5992920" y="299412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16800" y="316224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647040" y="2863800"/>
              <a:ext cx="688680" cy="600120"/>
              <a:chOff x="6647040" y="2863800"/>
              <a:chExt cx="688680" cy="600120"/>
            </a:xfrm>
          </p:grpSpPr>
          <p:sp>
            <p:nvSpPr>
              <p:cNvPr id="64" name=""/>
              <p:cNvSpPr/>
              <p:nvPr/>
            </p:nvSpPr>
            <p:spPr>
              <a:xfrm>
                <a:off x="7184880" y="2876400"/>
                <a:ext cx="15084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164360" y="3147840"/>
                <a:ext cx="17136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47040" y="2863800"/>
                <a:ext cx="17748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48480" y="3162240"/>
                <a:ext cx="15552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816600" y="345132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45400" y="286848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765840" y="293832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694640" y="2867040"/>
              <a:ext cx="689040" cy="600120"/>
              <a:chOff x="7694640" y="2867040"/>
              <a:chExt cx="689040" cy="600120"/>
            </a:xfrm>
          </p:grpSpPr>
          <p:sp>
            <p:nvSpPr>
              <p:cNvPr id="72" name=""/>
              <p:cNvSpPr/>
              <p:nvPr/>
            </p:nvSpPr>
            <p:spPr>
              <a:xfrm>
                <a:off x="8232840" y="2879640"/>
                <a:ext cx="15084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211960" y="3151080"/>
                <a:ext cx="17172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694640" y="2867040"/>
                <a:ext cx="17784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96080" y="3165480"/>
                <a:ext cx="15552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864560" y="345456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93000" y="2871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13800" y="294156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8537400" y="300996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608880" y="3938760"/>
              <a:ext cx="688680" cy="599760"/>
              <a:chOff x="6608880" y="3938760"/>
              <a:chExt cx="688680" cy="599760"/>
            </a:xfrm>
          </p:grpSpPr>
          <p:sp>
            <p:nvSpPr>
              <p:cNvPr id="81" name=""/>
              <p:cNvSpPr/>
              <p:nvPr/>
            </p:nvSpPr>
            <p:spPr>
              <a:xfrm>
                <a:off x="7147080" y="3951360"/>
                <a:ext cx="150480" cy="26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126200" y="4222800"/>
                <a:ext cx="171360" cy="31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608880" y="3938760"/>
                <a:ext cx="17784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10320" y="4237200"/>
                <a:ext cx="15552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778800" y="452592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07240" y="394344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27680" y="401328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 txBox="1"/>
            <p:nvPr/>
          </p:nvSpPr>
          <p:spPr>
            <a:xfrm>
              <a:off x="6813720" y="2081160"/>
              <a:ext cx="1316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hi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282680" y="2127240"/>
            <a:ext cx="3627720" cy="2492280"/>
            <a:chOff x="1282680" y="2127240"/>
            <a:chExt cx="3627720" cy="2492280"/>
          </a:xfrm>
        </p:grpSpPr>
        <p:sp>
          <p:nvSpPr>
            <p:cNvPr id="90" name=""/>
            <p:cNvSpPr/>
            <p:nvPr/>
          </p:nvSpPr>
          <p:spPr>
            <a:xfrm>
              <a:off x="2990880" y="3260880"/>
              <a:ext cx="144360" cy="26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013200" y="3521160"/>
              <a:ext cx="128520" cy="22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52680" y="3540240"/>
              <a:ext cx="141120" cy="25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08200" y="379584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1960" y="324648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441520" y="3801960"/>
              <a:ext cx="154080" cy="223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06760" y="3757680"/>
              <a:ext cx="26172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2960" y="4035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838600" y="3691080"/>
              <a:ext cx="3492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51200" y="4218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117960" y="4035600"/>
              <a:ext cx="622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3080" y="3875040"/>
              <a:ext cx="14616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697040" y="32274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282680" y="307512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6920" y="32432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936800" y="2944800"/>
              <a:ext cx="689040" cy="600120"/>
              <a:chOff x="1936800" y="2944800"/>
              <a:chExt cx="689040" cy="600120"/>
            </a:xfrm>
          </p:grpSpPr>
          <p:sp>
            <p:nvSpPr>
              <p:cNvPr id="106" name=""/>
              <p:cNvSpPr/>
              <p:nvPr/>
            </p:nvSpPr>
            <p:spPr>
              <a:xfrm>
                <a:off x="2475000" y="2957400"/>
                <a:ext cx="15084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454120" y="3228840"/>
                <a:ext cx="17172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936800" y="2944800"/>
                <a:ext cx="17784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38240" y="3243240"/>
                <a:ext cx="15552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106720" y="353232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35160" y="294948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55960" y="301932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84400" y="2948040"/>
              <a:ext cx="689040" cy="600120"/>
              <a:chOff x="2984400" y="2948040"/>
              <a:chExt cx="689040" cy="60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3522600" y="2960640"/>
                <a:ext cx="15084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502080" y="3232080"/>
                <a:ext cx="17136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84400" y="2948040"/>
                <a:ext cx="17784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86200" y="3246480"/>
                <a:ext cx="15552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154320" y="3535200"/>
                <a:ext cx="3333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82760" y="2952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03560" y="302256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3827520" y="309096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98640" y="4019400"/>
              <a:ext cx="689040" cy="600120"/>
              <a:chOff x="1898640" y="4019400"/>
              <a:chExt cx="689040" cy="600120"/>
            </a:xfrm>
          </p:grpSpPr>
          <p:sp>
            <p:nvSpPr>
              <p:cNvPr id="123" name=""/>
              <p:cNvSpPr/>
              <p:nvPr/>
            </p:nvSpPr>
            <p:spPr>
              <a:xfrm>
                <a:off x="2436840" y="4032360"/>
                <a:ext cx="150840" cy="26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416320" y="4303800"/>
                <a:ext cx="171360" cy="31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898640" y="4019400"/>
                <a:ext cx="17784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0080" y="4317840"/>
                <a:ext cx="15588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068560" y="460692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97000" y="402444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17800" y="409428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676680" y="416088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781440" y="4041720"/>
              <a:ext cx="3492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32440" y="3938760"/>
              <a:ext cx="260280" cy="195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45040" y="4172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57640" y="4226040"/>
              <a:ext cx="27144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341960" y="3773520"/>
              <a:ext cx="514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375080" y="401652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395960" y="4290840"/>
              <a:ext cx="514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11560" y="2127240"/>
              <a:ext cx="1468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i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57480" y="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0400" y="1981080"/>
            <a:ext cx="89010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i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echst 333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the A-T rich regions in the small groov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excitation with blue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emission if exceed optimal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hramycin, Chromamycin 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the G-C rich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57480" y="3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55480" y="1370160"/>
            <a:ext cx="9175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idine Or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tes into the D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single stranded nucleic acids by stacking on the charged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excitation and green emission for D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fluorescence emission for S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onyn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lated dye to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RNA measurement after blocking DNA with non-fluoresceinated DNA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1400" y="26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97360" y="2238480"/>
            <a:ext cx="3200400" cy="3033720"/>
            <a:chOff x="2997360" y="2238480"/>
            <a:chExt cx="3200400" cy="3033720"/>
          </a:xfrm>
        </p:grpSpPr>
        <p:sp>
          <p:nvSpPr>
            <p:cNvPr id="145" name=""/>
            <p:cNvSpPr/>
            <p:nvPr/>
          </p:nvSpPr>
          <p:spPr>
            <a:xfrm>
              <a:off x="2997360" y="2238480"/>
              <a:ext cx="3200400" cy="30337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3720" y="2543040"/>
              <a:ext cx="2575080" cy="242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421960" y="2687040"/>
            <a:ext cx="2439720" cy="786960"/>
          </a:xfrm>
          <a:custGeom>
            <a:avLst/>
            <a:gdLst/>
            <a:ahLst/>
            <a:rect l="0" t="0" r="r" b="b"/>
            <a:pathLst>
              <a:path fill="none" w="6777" h="2186">
                <a:moveTo>
                  <a:pt x="0" y="2186"/>
                </a:moveTo>
                <a:lnTo>
                  <a:pt x="0" y="2186"/>
                </a:lnTo>
                <a:cubicBezTo>
                  <a:pt x="3" y="2186"/>
                  <a:pt x="5" y="2186"/>
                  <a:pt x="8" y="2186"/>
                </a:cubicBezTo>
                <a:cubicBezTo>
                  <a:pt x="1196" y="2186"/>
                  <a:pt x="2363" y="2085"/>
                  <a:pt x="3393" y="1893"/>
                </a:cubicBezTo>
                <a:cubicBezTo>
                  <a:pt x="4422" y="1701"/>
                  <a:pt x="5276" y="1424"/>
                  <a:pt x="5870" y="1092"/>
                </a:cubicBezTo>
                <a:cubicBezTo>
                  <a:pt x="6463" y="760"/>
                  <a:pt x="6775" y="383"/>
                  <a:pt x="6777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4240" y="4641840"/>
            <a:ext cx="2456640" cy="501840"/>
          </a:xfrm>
          <a:custGeom>
            <a:avLst/>
            <a:gdLst/>
            <a:ahLst/>
            <a:rect l="0" t="0" r="r" b="b"/>
            <a:pathLst>
              <a:path fill="none" w="6824" h="139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245"/>
                  <a:pt x="316" y="485"/>
                  <a:pt x="915" y="697"/>
                </a:cubicBezTo>
                <a:cubicBezTo>
                  <a:pt x="1515" y="909"/>
                  <a:pt x="2377" y="1085"/>
                  <a:pt x="3416" y="1207"/>
                </a:cubicBezTo>
                <a:cubicBezTo>
                  <a:pt x="4452" y="1329"/>
                  <a:pt x="5627" y="1394"/>
                  <a:pt x="6824" y="1394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81160" y="2254320"/>
            <a:ext cx="3200400" cy="3033720"/>
            <a:chOff x="2981160" y="2254320"/>
            <a:chExt cx="3200400" cy="3033720"/>
          </a:xfrm>
        </p:grpSpPr>
        <p:sp>
          <p:nvSpPr>
            <p:cNvPr id="150" name=""/>
            <p:cNvSpPr/>
            <p:nvPr/>
          </p:nvSpPr>
          <p:spPr>
            <a:xfrm>
              <a:off x="2981160" y="2254320"/>
              <a:ext cx="3200400" cy="30337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7880" y="2558880"/>
              <a:ext cx="2575080" cy="242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323120" y="3567240"/>
            <a:ext cx="1204920" cy="1203480"/>
          </a:xfrm>
          <a:prstGeom prst="ellipse">
            <a:avLst/>
          </a:prstGeom>
          <a:gradFill rotWithShape="0">
            <a:gsLst>
              <a:gs pos="0">
                <a:srgbClr val="4b3e39"/>
              </a:gs>
              <a:gs pos="100000">
                <a:srgbClr val="fcd1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27640" y="3703680"/>
            <a:ext cx="554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33840" y="5035680"/>
            <a:ext cx="0" cy="20160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80640" bIns="80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233880" y="2830680"/>
            <a:ext cx="358560" cy="28404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7040" y="2322360"/>
            <a:ext cx="44280" cy="20160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80640" bIns="80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81600" y="2384280"/>
            <a:ext cx="220680" cy="20160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80640" bIns="80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59320" y="2576520"/>
            <a:ext cx="452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787920" y="2759040"/>
            <a:ext cx="554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44920" y="4008600"/>
            <a:ext cx="351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35680" y="3932280"/>
            <a:ext cx="554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1000" y="4549680"/>
            <a:ext cx="354240" cy="214560"/>
          </a:xfrm>
          <a:custGeom>
            <a:avLst/>
            <a:gdLst/>
            <a:ahLst/>
            <a:rect l="0" t="0" r="r" b="b"/>
            <a:pathLst>
              <a:path w="984" h="596">
                <a:moveTo>
                  <a:pt x="0" y="499"/>
                </a:moveTo>
                <a:lnTo>
                  <a:pt x="904" y="0"/>
                </a:lnTo>
                <a:lnTo>
                  <a:pt x="984" y="596"/>
                </a:lnTo>
                <a:lnTo>
                  <a:pt x="0" y="49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59720" y="5014800"/>
            <a:ext cx="2035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sce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4200" y="198108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to the number of chromosomes in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chromosomes in a gamete (germ cell) is called the HAPLOID number for that particula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mber of cells in a somatic cell for a particula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eater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ss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Tetraploi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aining double the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Robinson</dc:creator>
  <dc:description/>
  <dc:language>en-US</dc:language>
  <cp:lastModifiedBy>Cytometry Laboratories</cp:lastModifiedBy>
  <cp:revision>0</cp:revision>
  <dc:subject/>
  <dc:title>DNA Analysis</dc:title>
</cp:coreProperties>
</file>