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523-C10C-40D4-BD72-3125E0A4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7AE-735E-48AD-94E6-4EC86592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60B-192C-420C-B245-F8700A69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2C2-1299-4526-B27A-E5927F75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502-90E8-4ECD-82BB-A5003D5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3DE-851E-4EC1-BF57-44E50CA3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02D-6C5E-4872-8D0F-3434C726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1A4-ECAE-4453-B010-9B7B0208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51C-C21D-4ED9-98D0-B25E4795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E59-3EFD-4BF9-BFC1-46580C4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FF1-297D-4B4C-B817-1240260F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ADD-18DF-4C1A-81CA-7852C25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FA37-6BF4-48EA-883C-B62197423DD2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tomated Reticulocyte Analysi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Parameters for Anemia Diagnosis and Therapeutic Monitor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mproved Precision &amp; Laboratory Efficienc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Bruce H. Davis, M.D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illiam Beaumont Hospit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oyal Oak, Michiga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4343400"/>
            <a:ext cx="8153280" cy="76320"/>
            <a:chOff x="533520" y="4343400"/>
            <a:chExt cx="8153280" cy="76320"/>
          </a:xfrm>
        </p:grpSpPr>
        <p:sp>
          <p:nvSpPr>
            <p:cNvPr id="44" name=""/>
            <p:cNvSpPr/>
            <p:nvPr/>
          </p:nvSpPr>
          <p:spPr>
            <a:xfrm>
              <a:off x="533520" y="4343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520" y="4419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62720" y="457200"/>
            <a:ext cx="3579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ythopoi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67280" y="2133720"/>
            <a:ext cx="327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turational continuu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PO eff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od retic popul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RF retics (CD71+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te re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ss re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62720" y="1752480"/>
            <a:ext cx="3579840" cy="76320"/>
            <a:chOff x="5562720" y="1752480"/>
            <a:chExt cx="3579840" cy="76320"/>
          </a:xfrm>
        </p:grpSpPr>
        <p:sp>
          <p:nvSpPr>
            <p:cNvPr id="98" name=""/>
            <p:cNvSpPr/>
            <p:nvPr/>
          </p:nvSpPr>
          <p:spPr>
            <a:xfrm>
              <a:off x="5562720" y="1752480"/>
              <a:ext cx="357984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1828800"/>
              <a:ext cx="357984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66600" y="42840"/>
          <a:ext cx="54198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42840"/>
                    <a:ext cx="54198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ticulocyte Matura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vivo biotinyla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K. Au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640" y="1676520"/>
            <a:ext cx="3476880" cy="24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85640" y="4267080"/>
            <a:ext cx="3476880" cy="24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981680" y="4227480"/>
            <a:ext cx="3476520" cy="247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18480" y="43275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2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19560" y="173664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3275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4320" y="1736640"/>
            <a:ext cx="257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-biotinyl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112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ne Marrow Regeneration Response:  Consistent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219320"/>
          <a:ext cx="914256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256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118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ythroid Parameters with Erythropoietic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600200"/>
            <a:ext cx="8153280" cy="76320"/>
            <a:chOff x="457200" y="1600200"/>
            <a:chExt cx="8153280" cy="76320"/>
          </a:xfrm>
        </p:grpSpPr>
        <p:sp>
          <p:nvSpPr>
            <p:cNvPr id="122" name=""/>
            <p:cNvSpPr/>
            <p:nvPr/>
          </p:nvSpPr>
          <p:spPr>
            <a:xfrm>
              <a:off x="457200" y="16002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6765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42800" y="1819440"/>
          <a:ext cx="816768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819440"/>
                    <a:ext cx="816768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on of Erythropoiesi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variate IRF and Retic Count Dis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360" y="1066680"/>
          <a:ext cx="9052200" cy="57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066680"/>
                    <a:ext cx="905220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609480" y="1143000"/>
            <a:ext cx="8153640" cy="76320"/>
            <a:chOff x="609480" y="1143000"/>
            <a:chExt cx="8153640" cy="76320"/>
          </a:xfrm>
        </p:grpSpPr>
        <p:sp>
          <p:nvSpPr>
            <p:cNvPr id="130" name=""/>
            <p:cNvSpPr/>
            <p:nvPr/>
          </p:nvSpPr>
          <p:spPr>
            <a:xfrm>
              <a:off x="609480" y="1143000"/>
              <a:ext cx="815364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1219320"/>
              <a:ext cx="815364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 Utility in Medical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BM or Stem Cell Regeneration post-BMT or ChemoRx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Renal Transplant Engraftment (Epo production)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Neonatal Transfusion Need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Anemia Therapy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EPO Therapy: Renal Failure, AIDS, Infants, MD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Bone Marrow Toxic Insults from drugs (eg. AZT)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gnostic in Anemia of AIDS and Prematur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464688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ing for Stem Cell Harvests following Growth Factor or Cytotoxic Drug Therap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etection of Aplastic Crisis in Hemolytic Anemia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agnosis and monitoring of aplastic anemia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valuate Normochromic Anemias of Various Etiologie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etection of Occult or Compensated  Hemorrhage or Hemo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lassification of Anemias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86400" y="4572000"/>
            <a:ext cx="0" cy="7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507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153280" cy="0"/>
          </a:xfrm>
          <a:prstGeom prst="line">
            <a:avLst/>
          </a:prstGeom>
          <a:ln w="25560">
            <a:solidFill>
              <a:srgbClr val="fb0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tterns of IRF and Retic counts in An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plastic anemia/cri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ypoplastic an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M regene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hronic disea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Iron defici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halass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late/B12 defici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Myelodysplas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emolytic an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lood loss/anox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19720" y="15238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ny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6560" y="14479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5520" y="1036800"/>
            <a:ext cx="338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Clinical Condi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1720" y="1036800"/>
            <a:ext cx="1622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Retic 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7760" y="1036800"/>
            <a:ext cx="88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IRF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3520" y="838080"/>
            <a:ext cx="8153280" cy="76320"/>
            <a:chOff x="533520" y="838080"/>
            <a:chExt cx="8153280" cy="76320"/>
          </a:xfrm>
        </p:grpSpPr>
        <p:sp>
          <p:nvSpPr>
            <p:cNvPr id="146" name=""/>
            <p:cNvSpPr/>
            <p:nvPr/>
          </p:nvSpPr>
          <p:spPr>
            <a:xfrm>
              <a:off x="533520" y="8380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method Correlation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ngle site studies:  multiple publish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precision - CVs &lt;15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ethod bias, but “clinically insignificant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avis et al:  AJCP 102:468, 199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sites, 11 instruments, 310 blood sam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F and Retic counts compar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llege of American Pathologists’ Reticulocyte RT Survey 1994-96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2,600 participa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rogate blood materi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c % only repor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295280"/>
            <a:ext cx="8153280" cy="76320"/>
            <a:chOff x="457200" y="1295280"/>
            <a:chExt cx="8153280" cy="76320"/>
          </a:xfrm>
        </p:grpSpPr>
        <p:sp>
          <p:nvSpPr>
            <p:cNvPr id="151" name=""/>
            <p:cNvSpPr/>
            <p:nvPr/>
          </p:nvSpPr>
          <p:spPr>
            <a:xfrm>
              <a:off x="457200" y="12952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2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ic Counts:  Inter-method Corre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6600" y="990720"/>
          <a:ext cx="2905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990720"/>
                    <a:ext cx="2905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95640" y="990720"/>
          <a:ext cx="292428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990720"/>
                    <a:ext cx="29242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6320" y="4044960"/>
          <a:ext cx="2895480" cy="26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044960"/>
                    <a:ext cx="289548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048120" y="4037040"/>
          <a:ext cx="2971800" cy="266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037040"/>
                    <a:ext cx="297180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86520" y="4038480"/>
          <a:ext cx="298116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6520" y="4038480"/>
                    <a:ext cx="29811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095880" y="990720"/>
          <a:ext cx="2971800" cy="289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990720"/>
                    <a:ext cx="2971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"/>
          <p:cNvGrpSpPr/>
          <p:nvPr/>
        </p:nvGrpSpPr>
        <p:grpSpPr>
          <a:xfrm>
            <a:off x="457200" y="762120"/>
            <a:ext cx="8153280" cy="75960"/>
            <a:chOff x="457200" y="762120"/>
            <a:chExt cx="8153280" cy="75960"/>
          </a:xfrm>
        </p:grpSpPr>
        <p:sp>
          <p:nvSpPr>
            <p:cNvPr id="167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RF: Inter-method Corre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1409760"/>
          <a:ext cx="559908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09760"/>
                    <a:ext cx="55990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04920" y="914400"/>
            <a:ext cx="8153280" cy="76320"/>
            <a:chOff x="304920" y="914400"/>
            <a:chExt cx="8153280" cy="76320"/>
          </a:xfrm>
        </p:grpSpPr>
        <p:sp>
          <p:nvSpPr>
            <p:cNvPr id="173" name=""/>
            <p:cNvSpPr/>
            <p:nvPr/>
          </p:nvSpPr>
          <p:spPr>
            <a:xfrm>
              <a:off x="304920" y="914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ed Hematolog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able New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5200" y="1600200"/>
            <a:ext cx="8307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4 and CD8 Lymphocyte Sub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culocytes with immature reticulocyte maturation (IRF) - alias RM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utrophil activation marker, such as quantitative PMN CD64 express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culated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telet activation markers (eg. CD62 or CD41 express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b F containing RBC enumeration (Kleihauer-Bettk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mune activation profile (cytokine/chemokine R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5+ B Cells or light chain+ B cells (CLL, etc.)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m Cell enumeration (CD34+ cel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1295280"/>
            <a:ext cx="8153280" cy="76320"/>
            <a:chOff x="533520" y="1295280"/>
            <a:chExt cx="8153280" cy="76320"/>
          </a:xfrm>
        </p:grpSpPr>
        <p:sp>
          <p:nvSpPr>
            <p:cNvPr id="49" name=""/>
            <p:cNvSpPr/>
            <p:nvPr/>
          </p:nvSpPr>
          <p:spPr>
            <a:xfrm>
              <a:off x="533520" y="12952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ticulocyte Proficiency Test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lege of American Pathologi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840" y="2452680"/>
            <a:ext cx="77378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4-96 Program - surrogate blood materi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ethodologies Approved for Tes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Methylene Blue visual microscop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smex R series (auramine O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w Cytometry - Thiazole Oran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w Cytometry - Other dy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ulter STKS/MAXM - NM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iles Technicon H3 - Oxazin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178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533520"/>
          <a:ext cx="9142560" cy="63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256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69000" y="90360"/>
            <a:ext cx="835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 Survey 1995 RT-C:  Distribution of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685800"/>
            <a:ext cx="8153280" cy="76320"/>
            <a:chOff x="457200" y="685800"/>
            <a:chExt cx="8153280" cy="76320"/>
          </a:xfrm>
        </p:grpSpPr>
        <p:sp>
          <p:nvSpPr>
            <p:cNvPr id="184" name=""/>
            <p:cNvSpPr/>
            <p:nvPr/>
          </p:nvSpPr>
          <p:spPr>
            <a:xfrm>
              <a:off x="457200" y="685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76320"/>
          <a:ext cx="9142560" cy="67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2560" cy="67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7360" y="76320"/>
          <a:ext cx="89503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76320"/>
                    <a:ext cx="89503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91960" y="914400"/>
            <a:ext cx="8699760" cy="5915520"/>
            <a:chOff x="291960" y="914400"/>
            <a:chExt cx="8699760" cy="59155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0" t="0" r="0" b="11652"/>
            <a:stretch/>
          </p:blipFill>
          <p:spPr>
            <a:xfrm>
              <a:off x="291960" y="914400"/>
              <a:ext cx="4267440" cy="52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rcRect l="26726" t="0" r="2480" b="11650"/>
            <a:stretch/>
          </p:blipFill>
          <p:spPr>
            <a:xfrm>
              <a:off x="4865760" y="914400"/>
              <a:ext cx="4125960" cy="52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278000" y="6089760"/>
              <a:ext cx="7564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94360" y="6249960"/>
              <a:ext cx="3710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A          B         C         D        E         F        G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ow Cytometer Instrumen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7520" y="6249960"/>
              <a:ext cx="258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        2       3       4       5       6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pecimen Numbe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9560" y="10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afd00"/>
                  </a:solidFill>
                  <a:uFillTx/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43920" y="10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afd00"/>
                  </a:solidFill>
                  <a:uFillTx/>
                  <a:latin typeface="Arial"/>
                </a:rPr>
                <a:t>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4600" y="90360"/>
            <a:ext cx="890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 RT Survey Experience:  No Bias with TO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to FCM instru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n or Potential Interfe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59760" y="1173240"/>
            <a:ext cx="7941960" cy="55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ellular Elem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telet clumps or giant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ated cells or frag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BC Inclus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ll-Jolly bo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inz or Pappenheimer bo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sites (malaris, babesi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Miscellaneous caus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flourescence (drugs, porphyri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 aggregation (paraproteins, cold agglutinin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incidence (eg. platelet and RB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normal RBCs, hemo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914400"/>
            <a:ext cx="8153280" cy="76320"/>
            <a:chOff x="533520" y="914400"/>
            <a:chExt cx="8153280" cy="76320"/>
          </a:xfrm>
        </p:grpSpPr>
        <p:sp>
          <p:nvSpPr>
            <p:cNvPr id="206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5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ols for Clinical 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23680" y="1476360"/>
            <a:ext cx="66906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mericial Prepar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&amp;D Systems, Minneapolis, M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ck Lab, Omaha, 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ment manufactur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frigerated blood samp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QC by carry-over comparis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t expensiv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not detect long-term dri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eterinary blood samp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ci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211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sons for NOT utilizing automated reticulocyte cou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524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Volume does not exceed 3-5/da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hysicians expect “stat” resul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aiting for the “next generation” instru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e’ve always done it this way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echnologists like doing manual cou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1828800"/>
            <a:ext cx="8153280" cy="76320"/>
            <a:chOff x="533520" y="1828800"/>
            <a:chExt cx="8153280" cy="76320"/>
          </a:xfrm>
        </p:grpSpPr>
        <p:sp>
          <p:nvSpPr>
            <p:cNvPr id="216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52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Automated Reticulocyt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80-90 Flow cytometric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nke: Pyronin Y                   - Jacobberger: DiOC(3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tho:  Acridine Orange       - Others: PI, ethidium B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zger, Corash:  Thioflavin 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e (BDIS), Davis &amp; Bigelow: Thiazole Oran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0:  TOA Sysmex R instruments: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uramine O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2-96: Hematology instruments light scatt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on - H3:  Oxazine 7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 Gen-S, STKS &amp; MAXM: NM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bott Cell Dyn 3500:  NM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6:  Hematology instruments - fluorescen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bott Cell Dyn 4000: thiazole-like dy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 Gen-S: CPO dy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838080"/>
            <a:ext cx="8153280" cy="76320"/>
            <a:chOff x="457200" y="838080"/>
            <a:chExt cx="8153280" cy="76320"/>
          </a:xfrm>
        </p:grpSpPr>
        <p:sp>
          <p:nvSpPr>
            <p:cNvPr id="54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Reticulocyte Count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Available - 199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360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azole Orange (BD) by Flow Cytomet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PO dye (Coulter) by flow cytomet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A Sysmex R series and SE-Avante by  Auramine 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bott Cell-Dyn 4000 by CD4K53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X Vega by thiazole oran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240" y="2513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yer Technicon H3, Advia by oxazine dy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ulter STKS/MAXM and Gen-S with new methylene blue (NMB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bott Cell-Dyn 3500 with NM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1919160"/>
            <a:ext cx="341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</a:rPr>
              <a:t>Fluoresence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84760" y="1919160"/>
            <a:ext cx="360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</a:rPr>
              <a:t>Light Scatter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62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tages of Automated Reticulocy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1752480"/>
            <a:ext cx="8153280" cy="76320"/>
            <a:chOff x="533520" y="1752480"/>
            <a:chExt cx="8153280" cy="76320"/>
          </a:xfrm>
        </p:grpSpPr>
        <p:sp>
          <p:nvSpPr>
            <p:cNvPr id="66" name=""/>
            <p:cNvSpPr/>
            <p:nvPr/>
          </p:nvSpPr>
          <p:spPr>
            <a:xfrm>
              <a:off x="53352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2920" y="2092320"/>
            <a:ext cx="775296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menable to labor efficiencies or robot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er analysis per samp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for batch analysis or random acc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proved precision of retic count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or to visual microscopic cou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er obje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ew parameters of erythropoie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culocyte hemoglobin cont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arameters with Automated Reticulocyte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828800"/>
            <a:ext cx="8153280" cy="76320"/>
            <a:chOff x="457200" y="1828800"/>
            <a:chExt cx="8153280" cy="76320"/>
          </a:xfrm>
        </p:grpSpPr>
        <p:sp>
          <p:nvSpPr>
            <p:cNvPr id="71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2120" y="2411280"/>
            <a:ext cx="83055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mmature Reticulocyte Fraction (IR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s rate of erythropoietic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on many instruments, method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erly termed reticulocyte maturity index (RMI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aces need for “corrected” reticulocyte cou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ticulocyte MCHC (hypochromic Retic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s early functional iron deficiency in Epo -     Studies by Brugnaro, d’Onofri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only on Technicon H3 to d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2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RF measured as fraction (0.00 - 1.00 rang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mex R:  IRF = HFR + MFR (Ref Range: 0.05-0.2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azole Orange:  Cursor at 95% interval  (Ref Range: 0.2-0.5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ort with reticulocyte % and absolute cou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raphic display of retic count vs. I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impose refernce ranges for anemia classific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ting sequential samples shows erythroid respon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ort results with other CBC paramet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ags for increased reticulocytosis and hypoproliferative respon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utomated, random access, discrete tes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50120" y="198360"/>
            <a:ext cx="7297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iculocyte Enumeration wi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371600"/>
            <a:ext cx="8153280" cy="76320"/>
            <a:chOff x="533520" y="1371600"/>
            <a:chExt cx="8153280" cy="76320"/>
          </a:xfrm>
        </p:grpSpPr>
        <p:sp>
          <p:nvSpPr>
            <p:cNvPr id="77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azole Orange by Flow Cyt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86400" y="1752480"/>
            <a:ext cx="365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RF =  #HFR/#Ret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 nucleated cells (nRBCs, PMNS, lymph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IRF reg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ret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4724280" cy="4533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80440" y="25970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C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5600" y="2514600"/>
            <a:ext cx="150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culocy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6600" y="4540320"/>
            <a:ext cx="10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0640" y="211932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ted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55240" y="287172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88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idence for Pathophysiologic Relev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Immature Reticulocyte Fraction (IR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rythropoietin therapeutic effect:  IRF 1- 3 day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71 vs TO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JH study, Major et al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imal mode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vivo biotinylation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71 vs. TO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MT recove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RF earliest parameter of engraf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ous methods with demonstrated effica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1447920"/>
            <a:ext cx="8153280" cy="75960"/>
            <a:chOff x="533520" y="1447920"/>
            <a:chExt cx="8153280" cy="75960"/>
          </a:xfrm>
        </p:grpSpPr>
        <p:sp>
          <p:nvSpPr>
            <p:cNvPr id="93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15238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8T10:23:20Z</dcterms:created>
  <dc:creator>Bruce H. Davis, M.D.</dc:creator>
  <dc:description/>
  <dc:language>en-US</dc:language>
  <cp:lastModifiedBy>Cytometry Laboratories</cp:lastModifiedBy>
  <dcterms:modified xsi:type="dcterms:W3CDTF">1998-04-13T19:53:04Z</dcterms:modified>
  <cp:revision>59</cp:revision>
  <dc:subject/>
  <dc:title>PMN CD64 talk Abbot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