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287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42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44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0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42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44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080" y="273600"/>
            <a:ext cx="9257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60400" y="6556320"/>
            <a:ext cx="1257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4B9C76F5-F15D-484B-B525-BE3D73D846DD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fld id="{64696B1C-DCBF-4EE9-AEB5-E815A9FC4368}" type="datetime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NA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575400" y="6553080"/>
            <a:ext cx="3459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rdue University Cytometry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12114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2.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620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22240" y="403200"/>
            <a:ext cx="855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Cytometry of Apopt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516040" y="1811160"/>
            <a:ext cx="4999320" cy="4553280"/>
            <a:chOff x="2516040" y="1811160"/>
            <a:chExt cx="4999320" cy="45532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3111480" y="2401920"/>
              <a:ext cx="4192560" cy="37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 txBox="1"/>
            <p:nvPr/>
          </p:nvSpPr>
          <p:spPr>
            <a:xfrm>
              <a:off x="4014720" y="5923080"/>
              <a:ext cx="2104920" cy="4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 - Fluorescen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516040" y="4048200"/>
              <a:ext cx="1163520" cy="4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# Event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3198960" y="1811160"/>
              <a:ext cx="2014560" cy="4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optotic cell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21280" y="2254320"/>
              <a:ext cx="0" cy="215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4908600" y="2376360"/>
              <a:ext cx="2606760" cy="4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rmal G0/G1 cell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807080" y="2906640"/>
              <a:ext cx="474480" cy="789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65320" y="8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Strand Brea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363680"/>
            <a:ext cx="9304200" cy="457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ssion of the chromatin at the sites of nucleosomal linkage creates a large number of strand breaks in the DNA of apoptotic cells.  The broken ends can be labelled enymatical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it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erminal deoxynucleotidyl transferase (Td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ds of DNA can be labelled directly using fluorescein-deoxyuridine triphosphate (dUTP) or biotin-dUTP followed by fluorescein-streptavidin or digoxygenin-dUTP followed by fluorescein-anti-digoxygen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65320" y="334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ling Strand Breaks with dUT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luorescein-deoxyuridine triphosphate (dUTP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6640" y="2270160"/>
            <a:ext cx="3063960" cy="315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59320" y="1609560"/>
            <a:ext cx="2530440" cy="1900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184880" y="2284560"/>
            <a:ext cx="2392200" cy="2400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446720" y="3541680"/>
            <a:ext cx="2265480" cy="2235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452760" y="5981760"/>
            <a:ext cx="428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luorescence is Tdt and biotin-dUTP followed by fluorescein-streptavid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fluorescence is DNA counter-stained with 20µg/ml 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21640" y="4518000"/>
            <a:ext cx="1246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-Red Fluore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57640" y="3541680"/>
            <a:ext cx="119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luore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68880" y="5726160"/>
            <a:ext cx="119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luore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0120" y="3790800"/>
            <a:ext cx="1082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 Sc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03240" y="5283360"/>
            <a:ext cx="1368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 Sc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7560" y="2687760"/>
            <a:ext cx="92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ptotic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387520" y="4292640"/>
            <a:ext cx="808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055000" y="2698920"/>
            <a:ext cx="1200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: Apoptotic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827920" y="3867120"/>
            <a:ext cx="6033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38360" y="487440"/>
            <a:ext cx="850428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from Paraffin Tissue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08600" y="2560680"/>
            <a:ext cx="2651040" cy="307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7440" y="2209680"/>
            <a:ext cx="3630600" cy="364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32440" y="2530440"/>
            <a:ext cx="3300480" cy="312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140600" y="3184560"/>
            <a:ext cx="242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diploid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24160" y="4906800"/>
            <a:ext cx="5151960" cy="1341720"/>
          </a:xfrm>
          <a:custGeom>
            <a:avLst/>
            <a:gdLst/>
            <a:ahLst/>
            <a:rect l="0" t="0" r="r" b="b"/>
            <a:pathLst>
              <a:path fill="none" w="14311" h="3727">
                <a:moveTo>
                  <a:pt x="0" y="0"/>
                </a:moveTo>
                <a:lnTo>
                  <a:pt x="0" y="127"/>
                </a:lnTo>
                <a:lnTo>
                  <a:pt x="2412" y="3727"/>
                </a:lnTo>
                <a:lnTo>
                  <a:pt x="13381" y="3727"/>
                </a:lnTo>
                <a:lnTo>
                  <a:pt x="14311" y="2585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2620800"/>
            <a:ext cx="1889640" cy="1600560"/>
          </a:xfrm>
          <a:custGeom>
            <a:avLst/>
            <a:gdLst/>
            <a:ahLst/>
            <a:rect l="0" t="0" r="r" b="b"/>
            <a:pathLst>
              <a:path fill="none" w="5249" h="4446">
                <a:moveTo>
                  <a:pt x="0" y="1058"/>
                </a:moveTo>
                <a:lnTo>
                  <a:pt x="5249" y="0"/>
                </a:lnTo>
                <a:lnTo>
                  <a:pt x="5249" y="444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303800" y="2178000"/>
            <a:ext cx="1940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uploid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16160" y="1355760"/>
            <a:ext cx="237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Carcin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35000" y="5684760"/>
            <a:ext cx="1812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72960" y="3610080"/>
            <a:ext cx="1405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1206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of Nuclear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39720" y="1131840"/>
            <a:ext cx="900576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a protein involved in DNA replication and in nucleotide excision repai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found in two 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is tightly bound to the chromatin and is S phas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ther is cytoplasmic and is present through out the cell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NA expression in intact cells is not cell cycle specific. PCNA expression in the nuclei is S phase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74600" y="22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Nuclear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00280" y="163836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-6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liferation related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-S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roliferation related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xpression begins in late G1/early S phase and increases as cells traverse S phase, reaching a maximum in G2.  Cyclin A is not expressed in mito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B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umulates in late S phase but is maximally expressed in G2 and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39840" y="1350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800" y="754200"/>
            <a:ext cx="9304200" cy="5756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617840" y="3498840"/>
            <a:ext cx="167328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105 -CY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19640" y="3468600"/>
            <a:ext cx="19051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- Hoech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607080" y="3487680"/>
            <a:ext cx="281628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- B1 - FITC (lo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81760" y="5954760"/>
            <a:ext cx="225900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- B1 - FI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086360" y="5934240"/>
            <a:ext cx="23209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deg Scatter (lo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81280" y="5918040"/>
            <a:ext cx="93204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84320" y="6205680"/>
            <a:ext cx="506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Prostate tumor cell line DU-1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17800" y="6607080"/>
            <a:ext cx="1887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rom Dr. James Jacobber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155600" y="25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rameter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00440" y="5929200"/>
            <a:ext cx="506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Prostate tumor cell line DU-1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23840" y="2209680"/>
            <a:ext cx="3668760" cy="3495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052720" y="5541840"/>
            <a:ext cx="145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- Hoech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9440" y="3678120"/>
            <a:ext cx="174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- B1 - FI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168880" y="3841920"/>
            <a:ext cx="1058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105 Cy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73360" y="5029200"/>
            <a:ext cx="1881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duplicat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859360" y="2030400"/>
            <a:ext cx="3684600" cy="3714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89840" y="1940040"/>
            <a:ext cx="351000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010360" y="3790800"/>
            <a:ext cx="95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otic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946920" y="5541840"/>
            <a:ext cx="145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- Hoech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253280" y="1884240"/>
            <a:ext cx="987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-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17800" y="6607080"/>
            <a:ext cx="1887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rom Dr. James Jacobber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096920" y="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of Apop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800" y="1427040"/>
            <a:ext cx="9304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ptosis is programmed cell death where the cell goes through a highly regulated process of “dy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are condensation of the chromati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bbing of nuclear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accompanied by  internucleosomal degradation of DNA giving rise to distinctive 'ladder' pattern on DNA gel electrophor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06560" y="19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of Apopt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908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Fragments:After fixing or permeabilising cells, low molecular weight fragments of DNA are extracted and an extra peak ('sub-G1') of apoptotic cells can be seen in the DNA histogr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ucleosomal degradation of DNA can be visualised by labelling enzymatically the ends of the broken strands of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65320" y="334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Methods for Apopto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57480" y="1981080"/>
            <a:ext cx="857268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atidyl serine, can be detetected by incubating the cells with fluorescein-labelled Annexin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aining with the dye,  Hoechst 33342 (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aining with the dye PI (vi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aining with the dye YOPRO-1 (vi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PRobinson</dc:creator>
  <dc:description/>
  <dc:language>en-US</dc:language>
  <cp:lastModifiedBy>JPRobinson</cp:lastModifiedBy>
  <cp:revision>0</cp:revision>
  <dc:subject/>
  <dc:title/>
</cp:coreProperties>
</file>