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60400" y="6556320"/>
            <a:ext cx="1257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9251EE8C-ED84-4DE5-B20D-059E1418849D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fld id="{E640FC17-C596-48FC-9040-39B37023AB79}" type="datetime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NA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575400" y="6553080"/>
            <a:ext cx="3459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00280" y="228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1.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atio between the mode of the relative DNA content of the test cells (in G0/G1phase) to the mode of the relative DNA content in normal G0/G1 diploi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ficient of Variation - C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atio between the SD of the mode of the G0/G1 cell populations expressed as a perce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57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73320" y="3801960"/>
            <a:ext cx="2209680" cy="2187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273320" y="1515960"/>
            <a:ext cx="2216160" cy="2187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16440" y="3789360"/>
            <a:ext cx="2979720" cy="2428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870360" y="1393920"/>
            <a:ext cx="2986200" cy="25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804000" y="2498760"/>
            <a:ext cx="93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04000" y="4708440"/>
            <a:ext cx="253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859040" y="5835600"/>
            <a:ext cx="98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6800" y="45576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905120" y="34830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90640" y="2354400"/>
            <a:ext cx="91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761000" y="3511440"/>
            <a:ext cx="11620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844880" y="5835600"/>
            <a:ext cx="9874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2574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DN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5680" y="1157400"/>
            <a:ext cx="5370480" cy="466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48040" y="23623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23623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05440" y="23623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72280" y="23623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27280" y="1698480"/>
            <a:ext cx="93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94320" y="21938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80120" y="169848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98680" y="5851440"/>
            <a:ext cx="293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93920" y="34894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ing the DN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t Discr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056200" y="2454120"/>
            <a:ext cx="4400640" cy="3967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39560" y="2484360"/>
            <a:ext cx="4414680" cy="3916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03800" y="3521160"/>
            <a:ext cx="1919520" cy="1661040"/>
          </a:xfrm>
          <a:custGeom>
            <a:avLst/>
            <a:gdLst/>
            <a:ahLst/>
            <a:rect l="0" t="0" r="r" b="b"/>
            <a:pathLst>
              <a:path fill="none" w="5332" h="4614">
                <a:moveTo>
                  <a:pt x="83" y="3556"/>
                </a:moveTo>
                <a:lnTo>
                  <a:pt x="211" y="3512"/>
                </a:lnTo>
                <a:lnTo>
                  <a:pt x="463" y="3472"/>
                </a:lnTo>
                <a:lnTo>
                  <a:pt x="507" y="3215"/>
                </a:lnTo>
                <a:lnTo>
                  <a:pt x="635" y="3087"/>
                </a:lnTo>
                <a:lnTo>
                  <a:pt x="802" y="2964"/>
                </a:lnTo>
                <a:lnTo>
                  <a:pt x="846" y="2708"/>
                </a:lnTo>
                <a:lnTo>
                  <a:pt x="974" y="2580"/>
                </a:lnTo>
                <a:lnTo>
                  <a:pt x="1098" y="2452"/>
                </a:lnTo>
                <a:lnTo>
                  <a:pt x="1225" y="2369"/>
                </a:lnTo>
                <a:lnTo>
                  <a:pt x="1353" y="2241"/>
                </a:lnTo>
                <a:lnTo>
                  <a:pt x="1609" y="2201"/>
                </a:lnTo>
                <a:lnTo>
                  <a:pt x="1905" y="2073"/>
                </a:lnTo>
                <a:lnTo>
                  <a:pt x="2200" y="1989"/>
                </a:lnTo>
                <a:lnTo>
                  <a:pt x="2495" y="1861"/>
                </a:lnTo>
                <a:lnTo>
                  <a:pt x="2668" y="1734"/>
                </a:lnTo>
                <a:lnTo>
                  <a:pt x="2964" y="1650"/>
                </a:lnTo>
                <a:lnTo>
                  <a:pt x="3092" y="1522"/>
                </a:lnTo>
                <a:lnTo>
                  <a:pt x="3387" y="1226"/>
                </a:lnTo>
                <a:lnTo>
                  <a:pt x="3555" y="1098"/>
                </a:lnTo>
                <a:lnTo>
                  <a:pt x="3639" y="970"/>
                </a:lnTo>
                <a:lnTo>
                  <a:pt x="3766" y="758"/>
                </a:lnTo>
                <a:lnTo>
                  <a:pt x="3894" y="635"/>
                </a:lnTo>
                <a:lnTo>
                  <a:pt x="3978" y="507"/>
                </a:lnTo>
                <a:lnTo>
                  <a:pt x="4062" y="379"/>
                </a:lnTo>
                <a:lnTo>
                  <a:pt x="4234" y="211"/>
                </a:lnTo>
                <a:lnTo>
                  <a:pt x="4401" y="167"/>
                </a:lnTo>
                <a:lnTo>
                  <a:pt x="4529" y="39"/>
                </a:lnTo>
                <a:lnTo>
                  <a:pt x="4657" y="0"/>
                </a:lnTo>
                <a:lnTo>
                  <a:pt x="4785" y="0"/>
                </a:lnTo>
                <a:lnTo>
                  <a:pt x="4953" y="0"/>
                </a:lnTo>
                <a:lnTo>
                  <a:pt x="5080" y="123"/>
                </a:lnTo>
                <a:lnTo>
                  <a:pt x="5120" y="251"/>
                </a:lnTo>
                <a:lnTo>
                  <a:pt x="5164" y="379"/>
                </a:lnTo>
                <a:lnTo>
                  <a:pt x="5248" y="546"/>
                </a:lnTo>
                <a:lnTo>
                  <a:pt x="5292" y="802"/>
                </a:lnTo>
                <a:lnTo>
                  <a:pt x="5292" y="970"/>
                </a:lnTo>
                <a:lnTo>
                  <a:pt x="5332" y="1142"/>
                </a:lnTo>
                <a:lnTo>
                  <a:pt x="5332" y="1438"/>
                </a:lnTo>
                <a:lnTo>
                  <a:pt x="5292" y="1734"/>
                </a:lnTo>
                <a:lnTo>
                  <a:pt x="5248" y="1861"/>
                </a:lnTo>
                <a:lnTo>
                  <a:pt x="5120" y="1945"/>
                </a:lnTo>
                <a:lnTo>
                  <a:pt x="5080" y="2073"/>
                </a:lnTo>
                <a:lnTo>
                  <a:pt x="4953" y="2157"/>
                </a:lnTo>
                <a:lnTo>
                  <a:pt x="4785" y="2285"/>
                </a:lnTo>
                <a:lnTo>
                  <a:pt x="4657" y="2329"/>
                </a:lnTo>
                <a:lnTo>
                  <a:pt x="4485" y="2413"/>
                </a:lnTo>
                <a:lnTo>
                  <a:pt x="4318" y="2541"/>
                </a:lnTo>
                <a:lnTo>
                  <a:pt x="4150" y="2624"/>
                </a:lnTo>
                <a:lnTo>
                  <a:pt x="4022" y="2708"/>
                </a:lnTo>
                <a:lnTo>
                  <a:pt x="3850" y="2792"/>
                </a:lnTo>
                <a:lnTo>
                  <a:pt x="3683" y="2920"/>
                </a:lnTo>
                <a:lnTo>
                  <a:pt x="3555" y="3048"/>
                </a:lnTo>
                <a:lnTo>
                  <a:pt x="3427" y="3131"/>
                </a:lnTo>
                <a:lnTo>
                  <a:pt x="3259" y="3299"/>
                </a:lnTo>
                <a:lnTo>
                  <a:pt x="3176" y="3556"/>
                </a:lnTo>
                <a:lnTo>
                  <a:pt x="3004" y="3640"/>
                </a:lnTo>
                <a:lnTo>
                  <a:pt x="2920" y="3767"/>
                </a:lnTo>
                <a:lnTo>
                  <a:pt x="2792" y="3851"/>
                </a:lnTo>
                <a:lnTo>
                  <a:pt x="2579" y="4023"/>
                </a:lnTo>
                <a:lnTo>
                  <a:pt x="2412" y="4107"/>
                </a:lnTo>
                <a:lnTo>
                  <a:pt x="2284" y="4235"/>
                </a:lnTo>
                <a:lnTo>
                  <a:pt x="2156" y="4319"/>
                </a:lnTo>
                <a:lnTo>
                  <a:pt x="1988" y="4402"/>
                </a:lnTo>
                <a:lnTo>
                  <a:pt x="1733" y="4447"/>
                </a:lnTo>
                <a:lnTo>
                  <a:pt x="1481" y="4486"/>
                </a:lnTo>
                <a:lnTo>
                  <a:pt x="1225" y="4530"/>
                </a:lnTo>
                <a:lnTo>
                  <a:pt x="974" y="4570"/>
                </a:lnTo>
                <a:lnTo>
                  <a:pt x="802" y="4614"/>
                </a:lnTo>
                <a:lnTo>
                  <a:pt x="463" y="4614"/>
                </a:lnTo>
                <a:lnTo>
                  <a:pt x="295" y="4614"/>
                </a:lnTo>
                <a:lnTo>
                  <a:pt x="211" y="4486"/>
                </a:lnTo>
                <a:lnTo>
                  <a:pt x="39" y="4191"/>
                </a:lnTo>
                <a:lnTo>
                  <a:pt x="0" y="4063"/>
                </a:lnTo>
                <a:lnTo>
                  <a:pt x="0" y="3935"/>
                </a:lnTo>
                <a:lnTo>
                  <a:pt x="39" y="3767"/>
                </a:lnTo>
                <a:lnTo>
                  <a:pt x="39" y="3640"/>
                </a:lnTo>
                <a:lnTo>
                  <a:pt x="167" y="3556"/>
                </a:lnTo>
                <a:lnTo>
                  <a:pt x="83" y="3556"/>
                </a:ln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421320" y="608004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60600" y="614052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484200" y="4129200"/>
            <a:ext cx="2081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8280" y="4098960"/>
            <a:ext cx="2081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918040" y="2131920"/>
            <a:ext cx="3151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x 1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1400" y="2131920"/>
            <a:ext cx="3151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x 6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99440" y="3597120"/>
            <a:ext cx="1829160" cy="1767240"/>
          </a:xfrm>
          <a:custGeom>
            <a:avLst/>
            <a:gdLst/>
            <a:ahLst/>
            <a:rect l="0" t="0" r="r" b="b"/>
            <a:pathLst>
              <a:path fill="none" w="5081" h="4909">
                <a:moveTo>
                  <a:pt x="4573" y="0"/>
                </a:moveTo>
                <a:lnTo>
                  <a:pt x="4446" y="39"/>
                </a:lnTo>
                <a:lnTo>
                  <a:pt x="4318" y="167"/>
                </a:lnTo>
                <a:lnTo>
                  <a:pt x="3978" y="295"/>
                </a:lnTo>
                <a:lnTo>
                  <a:pt x="3850" y="335"/>
                </a:lnTo>
                <a:lnTo>
                  <a:pt x="3555" y="463"/>
                </a:lnTo>
                <a:lnTo>
                  <a:pt x="3427" y="546"/>
                </a:lnTo>
                <a:lnTo>
                  <a:pt x="3259" y="674"/>
                </a:lnTo>
                <a:lnTo>
                  <a:pt x="3131" y="718"/>
                </a:lnTo>
                <a:lnTo>
                  <a:pt x="3004" y="846"/>
                </a:lnTo>
                <a:lnTo>
                  <a:pt x="2880" y="1014"/>
                </a:lnTo>
                <a:lnTo>
                  <a:pt x="2708" y="1142"/>
                </a:lnTo>
                <a:lnTo>
                  <a:pt x="2624" y="1270"/>
                </a:lnTo>
                <a:lnTo>
                  <a:pt x="2495" y="1353"/>
                </a:lnTo>
                <a:lnTo>
                  <a:pt x="2368" y="1481"/>
                </a:lnTo>
                <a:lnTo>
                  <a:pt x="2200" y="1649"/>
                </a:lnTo>
                <a:lnTo>
                  <a:pt x="2116" y="1816"/>
                </a:lnTo>
                <a:lnTo>
                  <a:pt x="1988" y="1860"/>
                </a:lnTo>
                <a:lnTo>
                  <a:pt x="1905" y="1988"/>
                </a:lnTo>
                <a:lnTo>
                  <a:pt x="1777" y="2028"/>
                </a:lnTo>
                <a:lnTo>
                  <a:pt x="1649" y="2156"/>
                </a:lnTo>
                <a:lnTo>
                  <a:pt x="1353" y="2240"/>
                </a:lnTo>
                <a:lnTo>
                  <a:pt x="1098" y="2328"/>
                </a:lnTo>
                <a:lnTo>
                  <a:pt x="762" y="2496"/>
                </a:lnTo>
                <a:lnTo>
                  <a:pt x="590" y="2624"/>
                </a:lnTo>
                <a:lnTo>
                  <a:pt x="463" y="2708"/>
                </a:lnTo>
                <a:lnTo>
                  <a:pt x="379" y="2836"/>
                </a:lnTo>
                <a:lnTo>
                  <a:pt x="251" y="2920"/>
                </a:lnTo>
                <a:lnTo>
                  <a:pt x="167" y="3048"/>
                </a:lnTo>
                <a:lnTo>
                  <a:pt x="83" y="3176"/>
                </a:lnTo>
                <a:lnTo>
                  <a:pt x="39" y="3343"/>
                </a:lnTo>
                <a:lnTo>
                  <a:pt x="0" y="3683"/>
                </a:lnTo>
                <a:lnTo>
                  <a:pt x="0" y="3934"/>
                </a:lnTo>
                <a:lnTo>
                  <a:pt x="83" y="4318"/>
                </a:lnTo>
                <a:lnTo>
                  <a:pt x="251" y="4613"/>
                </a:lnTo>
                <a:lnTo>
                  <a:pt x="507" y="4657"/>
                </a:lnTo>
                <a:lnTo>
                  <a:pt x="590" y="4909"/>
                </a:lnTo>
                <a:lnTo>
                  <a:pt x="846" y="4909"/>
                </a:lnTo>
                <a:lnTo>
                  <a:pt x="1014" y="4909"/>
                </a:lnTo>
                <a:lnTo>
                  <a:pt x="1437" y="4909"/>
                </a:lnTo>
                <a:lnTo>
                  <a:pt x="1777" y="4909"/>
                </a:lnTo>
                <a:lnTo>
                  <a:pt x="2032" y="4869"/>
                </a:lnTo>
                <a:lnTo>
                  <a:pt x="2284" y="4869"/>
                </a:lnTo>
                <a:lnTo>
                  <a:pt x="2541" y="4781"/>
                </a:lnTo>
                <a:lnTo>
                  <a:pt x="2880" y="4697"/>
                </a:lnTo>
                <a:lnTo>
                  <a:pt x="3131" y="4446"/>
                </a:lnTo>
                <a:lnTo>
                  <a:pt x="3387" y="4357"/>
                </a:lnTo>
                <a:lnTo>
                  <a:pt x="3471" y="4106"/>
                </a:lnTo>
                <a:lnTo>
                  <a:pt x="3727" y="3850"/>
                </a:lnTo>
                <a:lnTo>
                  <a:pt x="4062" y="3555"/>
                </a:lnTo>
                <a:lnTo>
                  <a:pt x="4318" y="3215"/>
                </a:lnTo>
                <a:lnTo>
                  <a:pt x="4362" y="2964"/>
                </a:lnTo>
                <a:lnTo>
                  <a:pt x="4613" y="2876"/>
                </a:lnTo>
                <a:lnTo>
                  <a:pt x="4697" y="2708"/>
                </a:lnTo>
                <a:lnTo>
                  <a:pt x="4785" y="2451"/>
                </a:lnTo>
                <a:lnTo>
                  <a:pt x="4825" y="2116"/>
                </a:lnTo>
                <a:lnTo>
                  <a:pt x="4953" y="1944"/>
                </a:lnTo>
                <a:lnTo>
                  <a:pt x="4997" y="1777"/>
                </a:lnTo>
                <a:lnTo>
                  <a:pt x="5036" y="1521"/>
                </a:lnTo>
                <a:lnTo>
                  <a:pt x="5081" y="1225"/>
                </a:lnTo>
                <a:lnTo>
                  <a:pt x="5036" y="886"/>
                </a:lnTo>
                <a:lnTo>
                  <a:pt x="5036" y="758"/>
                </a:lnTo>
                <a:lnTo>
                  <a:pt x="5036" y="423"/>
                </a:lnTo>
                <a:lnTo>
                  <a:pt x="4909" y="251"/>
                </a:lnTo>
                <a:lnTo>
                  <a:pt x="4741" y="83"/>
                </a:lnTo>
                <a:lnTo>
                  <a:pt x="4573" y="0"/>
                </a:lnTo>
              </a:path>
            </a:pathLst>
          </a:custGeom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29680" y="522756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 Labeled Nuc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11400" y="2438280"/>
            <a:ext cx="4008600" cy="3062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43600" y="2378160"/>
            <a:ext cx="3941640" cy="3392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627280" y="5819760"/>
            <a:ext cx="185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ly 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78680" y="5819760"/>
            <a:ext cx="2173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ly 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16080" y="5378400"/>
            <a:ext cx="6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56080" y="1797120"/>
            <a:ext cx="3807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ubated additional 10 m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37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37304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97000" y="2286000"/>
            <a:ext cx="3809880" cy="3673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907320" y="2724120"/>
            <a:ext cx="3292560" cy="2571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778200" y="2232000"/>
            <a:ext cx="3290760" cy="3059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06760" y="2079720"/>
            <a:ext cx="2194200" cy="1327680"/>
          </a:xfrm>
          <a:custGeom>
            <a:avLst/>
            <a:gdLst/>
            <a:ahLst/>
            <a:rect l="0" t="0" r="r" b="b"/>
            <a:pathLst>
              <a:path fill="none" w="6095" h="3688">
                <a:moveTo>
                  <a:pt x="0" y="3560"/>
                </a:moveTo>
                <a:lnTo>
                  <a:pt x="379" y="0"/>
                </a:lnTo>
                <a:lnTo>
                  <a:pt x="6095" y="0"/>
                </a:lnTo>
                <a:lnTo>
                  <a:pt x="5905" y="368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54400" y="5235480"/>
            <a:ext cx="5510520" cy="1029240"/>
          </a:xfrm>
          <a:custGeom>
            <a:avLst/>
            <a:gdLst/>
            <a:ahLst/>
            <a:rect l="0" t="0" r="r" b="b"/>
            <a:pathLst>
              <a:path fill="none" w="15307" h="2859">
                <a:moveTo>
                  <a:pt x="0" y="0"/>
                </a:moveTo>
                <a:lnTo>
                  <a:pt x="2094" y="2859"/>
                </a:lnTo>
                <a:lnTo>
                  <a:pt x="15179" y="1588"/>
                </a:lnTo>
                <a:lnTo>
                  <a:pt x="15307" y="189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42920" y="5851440"/>
            <a:ext cx="1812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26880" y="4083120"/>
            <a:ext cx="1405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80360" y="3602160"/>
            <a:ext cx="131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Less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7480" y="236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eature of DNA probes is that they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ICHIOMETR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us number of molecules of probe bound is equivalent to number of molecul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57480" y="17604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5360" y="134136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anthridin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d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dium 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te between bases in DS 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te in the UV or Blue with red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DS RNA - must be treated with RNAse for DNA measurements to b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991120" y="2079720"/>
            <a:ext cx="3006720" cy="2457360"/>
            <a:chOff x="5991120" y="2079720"/>
            <a:chExt cx="3006720" cy="2457360"/>
          </a:xfrm>
        </p:grpSpPr>
        <p:sp>
          <p:nvSpPr>
            <p:cNvPr id="48" name=""/>
            <p:cNvSpPr/>
            <p:nvPr/>
          </p:nvSpPr>
          <p:spPr>
            <a:xfrm>
              <a:off x="7693200" y="3171960"/>
              <a:ext cx="158400" cy="27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715160" y="3446640"/>
              <a:ext cx="142920" cy="210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55000" y="3451320"/>
              <a:ext cx="15552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0520" y="3714840"/>
              <a:ext cx="282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34280" y="316548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143840" y="3726000"/>
              <a:ext cx="168120" cy="2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7308720" y="3683160"/>
              <a:ext cx="27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93200" y="3954600"/>
              <a:ext cx="20160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7547040" y="3608280"/>
              <a:ext cx="352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61440" y="413712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7826400" y="3952800"/>
              <a:ext cx="517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45400" y="3786120"/>
              <a:ext cx="160200" cy="19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11960" y="31464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5991120" y="299232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08880" y="316224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640560" y="2868480"/>
              <a:ext cx="703080" cy="594000"/>
              <a:chOff x="6640560" y="2868480"/>
              <a:chExt cx="703080" cy="594000"/>
            </a:xfrm>
          </p:grpSpPr>
          <p:sp>
            <p:nvSpPr>
              <p:cNvPr id="64" name=""/>
              <p:cNvSpPr/>
              <p:nvPr/>
            </p:nvSpPr>
            <p:spPr>
              <a:xfrm>
                <a:off x="7176960" y="2868480"/>
                <a:ext cx="165240" cy="28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157880" y="3152880"/>
                <a:ext cx="1857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40560" y="2868480"/>
                <a:ext cx="19188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40560" y="3154320"/>
                <a:ext cx="169920" cy="3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810480" y="3457440"/>
                <a:ext cx="347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37480" y="2868480"/>
                <a:ext cx="33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765840" y="293832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688160" y="2871720"/>
              <a:ext cx="703440" cy="593640"/>
              <a:chOff x="7688160" y="2871720"/>
              <a:chExt cx="703440" cy="593640"/>
            </a:xfrm>
          </p:grpSpPr>
          <p:sp>
            <p:nvSpPr>
              <p:cNvPr id="72" name=""/>
              <p:cNvSpPr/>
              <p:nvPr/>
            </p:nvSpPr>
            <p:spPr>
              <a:xfrm>
                <a:off x="8224920" y="2871720"/>
                <a:ext cx="164880" cy="28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205840" y="3156120"/>
                <a:ext cx="1857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688160" y="2871720"/>
                <a:ext cx="19224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88160" y="3157560"/>
                <a:ext cx="16992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858080" y="3460680"/>
                <a:ext cx="347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85080" y="2871720"/>
                <a:ext cx="33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813800" y="294156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 txBox="1"/>
            <p:nvPr/>
          </p:nvSpPr>
          <p:spPr>
            <a:xfrm>
              <a:off x="8535960" y="300816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602400" y="3943440"/>
              <a:ext cx="703440" cy="593640"/>
              <a:chOff x="6602400" y="3943440"/>
              <a:chExt cx="703440" cy="593640"/>
            </a:xfrm>
          </p:grpSpPr>
          <p:sp>
            <p:nvSpPr>
              <p:cNvPr id="81" name=""/>
              <p:cNvSpPr/>
              <p:nvPr/>
            </p:nvSpPr>
            <p:spPr>
              <a:xfrm>
                <a:off x="7139160" y="3943440"/>
                <a:ext cx="164880" cy="28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120080" y="4227480"/>
                <a:ext cx="185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602400" y="3943440"/>
                <a:ext cx="19224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02400" y="4229280"/>
                <a:ext cx="16992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772320" y="4532400"/>
                <a:ext cx="347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99320" y="3943440"/>
                <a:ext cx="33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27680" y="401328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 txBox="1"/>
            <p:nvPr/>
          </p:nvSpPr>
          <p:spPr>
            <a:xfrm>
              <a:off x="6811920" y="2079720"/>
              <a:ext cx="1319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hi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281240" y="2125800"/>
            <a:ext cx="3630600" cy="2492280"/>
            <a:chOff x="1281240" y="2125800"/>
            <a:chExt cx="3630600" cy="2492280"/>
          </a:xfrm>
        </p:grpSpPr>
        <p:sp>
          <p:nvSpPr>
            <p:cNvPr id="90" name=""/>
            <p:cNvSpPr/>
            <p:nvPr/>
          </p:nvSpPr>
          <p:spPr>
            <a:xfrm>
              <a:off x="2982960" y="3252960"/>
              <a:ext cx="158760" cy="27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005280" y="3527280"/>
              <a:ext cx="142560" cy="21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44760" y="3532320"/>
              <a:ext cx="15552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00280" y="3795840"/>
              <a:ext cx="282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24040" y="324648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433600" y="3807000"/>
              <a:ext cx="168480" cy="21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598840" y="3763800"/>
              <a:ext cx="27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2960" y="4035600"/>
              <a:ext cx="20160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836800" y="3689280"/>
              <a:ext cx="352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51200" y="421812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3116160" y="4033800"/>
              <a:ext cx="625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35160" y="3867120"/>
              <a:ext cx="160560" cy="19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701720" y="32274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281240" y="307332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99000" y="324324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930320" y="2949480"/>
              <a:ext cx="703440" cy="594000"/>
              <a:chOff x="1930320" y="2949480"/>
              <a:chExt cx="703440" cy="594000"/>
            </a:xfrm>
          </p:grpSpPr>
          <p:sp>
            <p:nvSpPr>
              <p:cNvPr id="106" name=""/>
              <p:cNvSpPr/>
              <p:nvPr/>
            </p:nvSpPr>
            <p:spPr>
              <a:xfrm>
                <a:off x="2467080" y="2949480"/>
                <a:ext cx="164880" cy="28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448000" y="3233880"/>
                <a:ext cx="1857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930320" y="2949480"/>
                <a:ext cx="19224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30320" y="3235320"/>
                <a:ext cx="169920" cy="3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100240" y="3538440"/>
                <a:ext cx="347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27240" y="2949480"/>
                <a:ext cx="33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55960" y="301932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78280" y="2952720"/>
              <a:ext cx="703080" cy="593640"/>
              <a:chOff x="2978280" y="2952720"/>
              <a:chExt cx="703080" cy="593640"/>
            </a:xfrm>
          </p:grpSpPr>
          <p:sp>
            <p:nvSpPr>
              <p:cNvPr id="114" name=""/>
              <p:cNvSpPr/>
              <p:nvPr/>
            </p:nvSpPr>
            <p:spPr>
              <a:xfrm>
                <a:off x="3514680" y="2952720"/>
                <a:ext cx="165240" cy="28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495600" y="3236760"/>
                <a:ext cx="185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78280" y="2952720"/>
                <a:ext cx="19188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78280" y="3238560"/>
                <a:ext cx="16956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147840" y="3541680"/>
                <a:ext cx="347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74840" y="2952720"/>
                <a:ext cx="33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03560" y="302256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3825720" y="308916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892160" y="4024440"/>
              <a:ext cx="703440" cy="593640"/>
              <a:chOff x="1892160" y="4024440"/>
              <a:chExt cx="703440" cy="593640"/>
            </a:xfrm>
          </p:grpSpPr>
          <p:sp>
            <p:nvSpPr>
              <p:cNvPr id="123" name=""/>
              <p:cNvSpPr/>
              <p:nvPr/>
            </p:nvSpPr>
            <p:spPr>
              <a:xfrm>
                <a:off x="2428920" y="4024440"/>
                <a:ext cx="164880" cy="28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2409840" y="4308480"/>
                <a:ext cx="185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892160" y="4024440"/>
                <a:ext cx="192240" cy="28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92160" y="4309920"/>
                <a:ext cx="169920" cy="3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062080" y="4613400"/>
                <a:ext cx="347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89080" y="4024440"/>
                <a:ext cx="33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17800" y="409428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668760" y="4160880"/>
              <a:ext cx="16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780000" y="4040280"/>
              <a:ext cx="352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25960" y="3943440"/>
              <a:ext cx="274680" cy="18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37120" y="417204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9720" y="4218120"/>
              <a:ext cx="28584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340160" y="3771720"/>
              <a:ext cx="517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373640" y="401472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394160" y="4289400"/>
              <a:ext cx="517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09760" y="2125800"/>
              <a:ext cx="1471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i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57480" y="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0400" y="1981080"/>
            <a:ext cx="89010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i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echst 333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the A-T rich regions in the small groov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 excitation with blue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emission if exceed optimal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hramycin, Chromamycin 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the G-C rich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57480" y="3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55480" y="1370160"/>
            <a:ext cx="9175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idine Oran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tes into the D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single stranded nucleic acids by stacking on the charged phosp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excitation and green emission for D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fluorescence emission for S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onyn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elated dye to 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RNA measurement after blocking DNA with non-fluoresceinated DNA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11400" y="26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97360" y="2238480"/>
            <a:ext cx="3200400" cy="3033720"/>
            <a:chOff x="2997360" y="2238480"/>
            <a:chExt cx="3200400" cy="3033720"/>
          </a:xfrm>
        </p:grpSpPr>
        <p:sp>
          <p:nvSpPr>
            <p:cNvPr id="145" name=""/>
            <p:cNvSpPr/>
            <p:nvPr/>
          </p:nvSpPr>
          <p:spPr>
            <a:xfrm>
              <a:off x="2997360" y="2238480"/>
              <a:ext cx="3200400" cy="30337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03720" y="2543040"/>
              <a:ext cx="2575080" cy="242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421960" y="2685960"/>
            <a:ext cx="2444400" cy="794160"/>
          </a:xfrm>
          <a:custGeom>
            <a:avLst/>
            <a:gdLst/>
            <a:ahLst/>
            <a:rect l="0" t="0" r="r" b="b"/>
            <a:pathLst>
              <a:path fill="none" w="6790" h="2206">
                <a:moveTo>
                  <a:pt x="0" y="2206"/>
                </a:moveTo>
                <a:lnTo>
                  <a:pt x="0" y="2206"/>
                </a:lnTo>
                <a:cubicBezTo>
                  <a:pt x="1192" y="2206"/>
                  <a:pt x="2363" y="2104"/>
                  <a:pt x="3395" y="1910"/>
                </a:cubicBezTo>
                <a:cubicBezTo>
                  <a:pt x="4427" y="1717"/>
                  <a:pt x="5284" y="1438"/>
                  <a:pt x="5880" y="1103"/>
                </a:cubicBezTo>
                <a:cubicBezTo>
                  <a:pt x="6476" y="768"/>
                  <a:pt x="6790" y="387"/>
                  <a:pt x="679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86320" y="4641840"/>
            <a:ext cx="2464920" cy="508320"/>
          </a:xfrm>
          <a:custGeom>
            <a:avLst/>
            <a:gdLst/>
            <a:ahLst/>
            <a:rect l="0" t="0" r="r" b="b"/>
            <a:pathLst>
              <a:path fill="none" w="6847" h="1412">
                <a:moveTo>
                  <a:pt x="0" y="0"/>
                </a:moveTo>
                <a:lnTo>
                  <a:pt x="0" y="0"/>
                </a:lnTo>
                <a:cubicBezTo>
                  <a:pt x="0" y="248"/>
                  <a:pt x="316" y="491"/>
                  <a:pt x="917" y="706"/>
                </a:cubicBezTo>
                <a:cubicBezTo>
                  <a:pt x="1518" y="921"/>
                  <a:pt x="2383" y="1099"/>
                  <a:pt x="3424" y="1223"/>
                </a:cubicBezTo>
                <a:cubicBezTo>
                  <a:pt x="4464" y="1347"/>
                  <a:pt x="5645" y="1412"/>
                  <a:pt x="6847" y="1412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81160" y="2254320"/>
            <a:ext cx="3200400" cy="3033720"/>
            <a:chOff x="2981160" y="2254320"/>
            <a:chExt cx="3200400" cy="3033720"/>
          </a:xfrm>
        </p:grpSpPr>
        <p:sp>
          <p:nvSpPr>
            <p:cNvPr id="150" name=""/>
            <p:cNvSpPr/>
            <p:nvPr/>
          </p:nvSpPr>
          <p:spPr>
            <a:xfrm>
              <a:off x="2981160" y="2254320"/>
              <a:ext cx="3200400" cy="30337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7880" y="2558880"/>
              <a:ext cx="2575080" cy="242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323120" y="3567240"/>
            <a:ext cx="1204920" cy="1203480"/>
          </a:xfrm>
          <a:prstGeom prst="ellipse">
            <a:avLst/>
          </a:prstGeom>
          <a:gradFill rotWithShape="0">
            <a:gsLst>
              <a:gs pos="0">
                <a:srgbClr val="4b3e39"/>
              </a:gs>
              <a:gs pos="100000">
                <a:srgbClr val="fcd1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26200" y="37018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33840" y="4983120"/>
            <a:ext cx="0" cy="30492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284640" y="2879640"/>
            <a:ext cx="258840" cy="18432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63360" bIns="63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5240" y="2270160"/>
            <a:ext cx="46080" cy="30492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30920" y="2332080"/>
            <a:ext cx="120600" cy="30492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57880" y="2575080"/>
            <a:ext cx="45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786120" y="275760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43120" y="400680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34240" y="39304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61000" y="4549680"/>
            <a:ext cx="354240" cy="214560"/>
          </a:xfrm>
          <a:custGeom>
            <a:avLst/>
            <a:gdLst/>
            <a:ahLst/>
            <a:rect l="0" t="0" r="r" b="b"/>
            <a:pathLst>
              <a:path w="984" h="596">
                <a:moveTo>
                  <a:pt x="0" y="499"/>
                </a:moveTo>
                <a:lnTo>
                  <a:pt x="904" y="0"/>
                </a:lnTo>
                <a:lnTo>
                  <a:pt x="984" y="596"/>
                </a:lnTo>
                <a:lnTo>
                  <a:pt x="0" y="499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58280" y="5013360"/>
            <a:ext cx="2038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sce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4200" y="198108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to the number of chromosomes in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chromosomes in a gamete (germ cell) is called the HAPLOID number for that particula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number of cells in a somatic cell for a particula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eater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ss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Tetraploi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aining double the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PRobinson</dc:creator>
  <dc:description/>
  <dc:language>en-US</dc:language>
  <cp:lastModifiedBy>JPRobinson</cp:lastModifiedBy>
  <cp:revision>0</cp:revision>
  <dc:subject/>
  <dc:title>DNA Analysis</dc:title>
</cp:coreProperties>
</file>