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26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46784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ow Cytometry and Sorting Part 1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 for “Fluorescence Spectroscopy in Biological Resear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 F. Murphy, October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of a large volume into a small volume in such a way that it becomes “focused” along an axis is called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Hydrodynamic Focu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92640" y="1638360"/>
            <a:ext cx="4038480" cy="4559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20760" y="1601640"/>
            <a:ext cx="2892600" cy="4599720"/>
          </a:xfrm>
          <a:prstGeom prst="rect">
            <a:avLst/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gure shows the mapping between the flow lines outside and inside of a narrow tube as fluid undergoes laminar flow (from left to right).  The fluid passing through cross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ide the tube is focused to cross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3240" y="6478560"/>
            <a:ext cx="609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. Kachel, H. Fellner-Feldegg &amp; E. Menke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02120" y="901800"/>
            <a:ext cx="4203720" cy="2717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76920" y="3695760"/>
            <a:ext cx="4254480" cy="275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973240" y="6478560"/>
            <a:ext cx="609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. Kachel, H. Fellner-Feldegg &amp; E. Menke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7080" y="1677960"/>
            <a:ext cx="3425760" cy="191772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how the ink is focused into a tight stream as it is drawn into the tube under laminar flow condi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7080" y="4192560"/>
            <a:ext cx="3425760" cy="191772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also how the position of the inner ink stream is influenced by the position of the ink sou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3240" y="6478560"/>
            <a:ext cx="609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. Kachel, H. Fellner-Feldegg &amp; E. Menke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7080" y="1677960"/>
            <a:ext cx="3425760" cy="191772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how the ink is focused into a tight stream as it is drawn into the tube under laminar flow condi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7080" y="4192560"/>
            <a:ext cx="3425760" cy="191772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also how the position of the inner ink stream is influenced by the position of the ink sou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02120" y="876240"/>
            <a:ext cx="4203720" cy="271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876920" y="3683160"/>
            <a:ext cx="4254480" cy="275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accomplish sample injection and regulate sample flow ra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Differential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Volumetric inj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Differential Pressure Syste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ir (or other gas) to pressurize sample and sheath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ressure regulators to control pressure on each container separa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Differential Pressure Syste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ath pressure will set the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sheath volume flow r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ssuming sample flow is negligi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 in pressure between sample and sheath will control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sample </a:t>
            </a:r>
            <a:r>
              <a:rPr b="1" i="1" lang="en-US" sz="3200" spc="-1" strike="noStrike">
                <a:solidFill>
                  <a:srgbClr val="d49fff"/>
                </a:solidFill>
                <a:latin typeface="Times New Roman"/>
              </a:rPr>
              <a:t>volume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 flow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is not absolute - changes in friction cause changes in sample volume flow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c3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34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Fluidics - Differential Pressure System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34960" y="946080"/>
            <a:ext cx="7175520" cy="530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344840" y="6402240"/>
            <a:ext cx="472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. Göttlinger, B. Mechtold, and A. Radbru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Volumetric Injection Syste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ir (or other gas) pressure to set sheath volume flow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yringe pump (motor connected to piston of syringe) to inject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Sample volume flow r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changed by changing speed of mo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is absolute (under normal condi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81160" y="888840"/>
            <a:ext cx="4178160" cy="56264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34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Fluidics - Volumetric Injection System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73640" y="6478560"/>
            <a:ext cx="289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.B. Steen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Flow Cytometry and Sorting, 2nd ed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.R. Melamed, T. Lindmo, M.L. Mendelsohn, eds.), Wiley-Liss, New York, 1990 - referred to here as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ML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Flow Cytometry: Instrumentation and Data 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.A. Van Dilla, P.N. Dean, O.D. Laerum, M.R. Melamed, eds.), Academic Press, London, 1985 -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VDL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Particle Orientation and Deform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cells (or other particles) are hydrodynamically focused, they experience different shear stresses on different points on their surfaces (an in different locations in the stre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cause cells to orient with their long axis (if any) along the axis of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Particle Orientation and Deform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ear stresses can also cause cells to deform (e.g., become more cigar-shap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852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Particle Orientation and Deforma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5600" y="1117440"/>
            <a:ext cx="4229280" cy="5727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487840" y="1144440"/>
            <a:ext cx="3502080" cy="5034240"/>
          </a:xfrm>
          <a:prstGeom prst="rect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Native human erythrocytes near the margin of the core stream of a short tube (orifice).  The cells are uniformly oriented and elongated by the hydrodynamic forces of the inlet f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In the turbulent flow near the tube wall, the cells are deformed and disoriented in a very individual way. v&gt;3 m/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0480" y="6478560"/>
            <a:ext cx="342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. Kachel, et al.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Flow Chamber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low cha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the axis and dimensions of sheath and sample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the point of optimal hydrodynamic foc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also serve as the interrogation point (the illumination volu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Flow Chamber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basic flow chamber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Jet-in-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for sorting, inferior opt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Flow-through cuvet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optical properties, can be used for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Closed cross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optical properties, can’t s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Open flow across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optical properties, can’t s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Flow Chamber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579840" y="1219320"/>
            <a:ext cx="5527800" cy="5199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3640" y="6478560"/>
            <a:ext cx="289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.B. Steen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8480" y="2820960"/>
            <a:ext cx="2130480" cy="20386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t-in-air nozzle (sense in ai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Flow Chamber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67520" y="6472080"/>
            <a:ext cx="290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.B. Steen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2000" y="2814480"/>
            <a:ext cx="2143080" cy="252612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ow through cuvette (sense in quart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581280" y="1017720"/>
            <a:ext cx="5156280" cy="530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Flow Chamber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67520" y="6472080"/>
            <a:ext cx="290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.B. Steen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2000" y="2814480"/>
            <a:ext cx="2143080" cy="15512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sed cross flow cha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633840" y="1447920"/>
            <a:ext cx="5408640" cy="419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have a light source focused on the same point where cells have been focused (the illumination volu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types of light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La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Arc-lam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Light Sour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rovide a single wavelength of light (a </a:t>
            </a: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laser l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or (more rarely) a mixture of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rovide from milliwatts to watts of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inexpensive, air-cooled units or expensive, water-cooled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</a:t>
            </a: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coher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ources (continued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09680" y="1752480"/>
            <a:ext cx="4800600" cy="4721400"/>
            <a:chOff x="2209680" y="1752480"/>
            <a:chExt cx="4800600" cy="472140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209680" y="1752480"/>
              <a:ext cx="480060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975760" y="1996920"/>
              <a:ext cx="3279600" cy="26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afd00"/>
                  </a:solidFill>
                  <a:latin typeface="Times New Roman"/>
                </a:rPr>
                <a:t>The Purdue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afd00"/>
                  </a:solidFill>
                  <a:latin typeface="Times New Roman"/>
                </a:rPr>
                <a:t>Cytometry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afd00"/>
                  </a:solidFill>
                  <a:latin typeface="Times New Roman"/>
                </a:rPr>
                <a:t>CD ROM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Volume 1 - 19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202440" y="5464080"/>
              <a:ext cx="68904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658240" y="6095880"/>
              <a:ext cx="3660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urdue University Cytometry Laborator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2841480" y="4862520"/>
              <a:ext cx="3787920" cy="331920"/>
              <a:chOff x="2841480" y="4862520"/>
              <a:chExt cx="3787920" cy="331920"/>
            </a:xfrm>
          </p:grpSpPr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41480" y="4862520"/>
                <a:ext cx="3787920" cy="2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1480" y="5167440"/>
                <a:ext cx="3787920" cy="2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"/>
            <p:cNvSpPr/>
            <p:nvPr/>
          </p:nvSpPr>
          <p:spPr>
            <a:xfrm>
              <a:off x="2729520" y="4946760"/>
              <a:ext cx="4026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ome Page </a:t>
              </a:r>
              <a:r>
                <a:rPr b="1" lang="en-US" sz="1000" spc="-1" strike="noStrike">
                  <a:solidFill>
                    <a:srgbClr val="114ffb"/>
                  </a:solidFill>
                  <a:latin typeface="Arial"/>
                </a:rPr>
                <a:t>|</a:t>
              </a:r>
              <a:r>
                <a:rPr b="1" lang="en-US" sz="1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Table of Contents </a:t>
              </a:r>
              <a:r>
                <a:rPr b="1" lang="en-US" sz="1000" spc="-1" strike="noStrike">
                  <a:solidFill>
                    <a:srgbClr val="114ffb"/>
                  </a:solidFill>
                  <a:latin typeface="Arial"/>
                </a:rPr>
                <a:t>|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ponsors | Sample WEB Pag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Light Sourc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-la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mix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wavelengths that must be </a:t>
            </a: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filte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select desired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milliwatts of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expensive, air-cooled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</a:t>
            </a: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incoher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Optical Channel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optical chann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path that light can follow from the illuminated volume to a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det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cal elements provide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pa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channels and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avelength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Forward Scatter Channe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laser light source is used, the amount of light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catte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rection (along the same axis that the laser light is traveling) is detected in the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forward scatter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nsity of forward scatter is proportional to the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ha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ptical homogeneit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cells (or other partic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11080" y="654120"/>
            <a:ext cx="5625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Forward Angle Light Sc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3160" y="2057400"/>
            <a:ext cx="8341920" cy="2897280"/>
            <a:chOff x="353160" y="2057400"/>
            <a:chExt cx="8341920" cy="2897280"/>
          </a:xfrm>
        </p:grpSpPr>
        <p:sp>
          <p:nvSpPr>
            <p:cNvPr id="227" name=""/>
            <p:cNvSpPr/>
            <p:nvPr/>
          </p:nvSpPr>
          <p:spPr>
            <a:xfrm>
              <a:off x="3352680" y="2057400"/>
              <a:ext cx="1544760" cy="2897280"/>
            </a:xfrm>
            <a:custGeom>
              <a:avLst/>
              <a:gdLst/>
              <a:ahLst/>
              <a:rect l="l" t="t" r="r" b="b"/>
              <a:pathLst>
                <a:path w="973" h="1825">
                  <a:moveTo>
                    <a:pt x="0" y="144"/>
                  </a:moveTo>
                  <a:lnTo>
                    <a:pt x="0" y="576"/>
                  </a:lnTo>
                  <a:lnTo>
                    <a:pt x="0" y="1392"/>
                  </a:lnTo>
                  <a:lnTo>
                    <a:pt x="0" y="1824"/>
                  </a:lnTo>
                  <a:lnTo>
                    <a:pt x="324" y="1680"/>
                  </a:lnTo>
                  <a:lnTo>
                    <a:pt x="432" y="1824"/>
                  </a:lnTo>
                  <a:lnTo>
                    <a:pt x="702" y="1680"/>
                  </a:lnTo>
                  <a:lnTo>
                    <a:pt x="972" y="1824"/>
                  </a:lnTo>
                  <a:lnTo>
                    <a:pt x="972" y="1392"/>
                  </a:lnTo>
                  <a:lnTo>
                    <a:pt x="972" y="576"/>
                  </a:lnTo>
                  <a:lnTo>
                    <a:pt x="972" y="48"/>
                  </a:lnTo>
                  <a:lnTo>
                    <a:pt x="756" y="288"/>
                  </a:lnTo>
                  <a:lnTo>
                    <a:pt x="540" y="144"/>
                  </a:lnTo>
                  <a:lnTo>
                    <a:pt x="378" y="288"/>
                  </a:ln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9720" y="3278160"/>
              <a:ext cx="0" cy="147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42840" y="3897360"/>
              <a:ext cx="0" cy="147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7680" y="3710160"/>
              <a:ext cx="141120" cy="150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204920" y="3376080"/>
              <a:ext cx="141120" cy="1508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54240" y="3624120"/>
              <a:ext cx="172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93760" y="3773520"/>
              <a:ext cx="142920" cy="49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80" y="3637080"/>
              <a:ext cx="173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8200" y="3476520"/>
              <a:ext cx="142920" cy="478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7520" y="3656160"/>
              <a:ext cx="15652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63840" y="2124000"/>
              <a:ext cx="0" cy="209088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911840" y="3615840"/>
              <a:ext cx="1638360" cy="17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933800" y="3454200"/>
              <a:ext cx="1627200" cy="11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32360" y="3714840"/>
              <a:ext cx="1628640" cy="61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948200" y="3287520"/>
              <a:ext cx="1589040" cy="169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59360" y="3862440"/>
              <a:ext cx="1581120" cy="968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77960" y="3494160"/>
              <a:ext cx="1617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ALS Sens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06720" y="3497400"/>
              <a:ext cx="309600" cy="252360"/>
            </a:xfrm>
            <a:custGeom>
              <a:avLst/>
              <a:gdLst/>
              <a:ahLst/>
              <a:rect l="l" t="t" r="r" b="b"/>
              <a:pathLst>
                <a:path w="195" h="159">
                  <a:moveTo>
                    <a:pt x="194" y="53"/>
                  </a:moveTo>
                  <a:lnTo>
                    <a:pt x="161" y="15"/>
                  </a:lnTo>
                  <a:lnTo>
                    <a:pt x="80" y="0"/>
                  </a:lnTo>
                  <a:lnTo>
                    <a:pt x="34" y="31"/>
                  </a:lnTo>
                  <a:lnTo>
                    <a:pt x="0" y="83"/>
                  </a:lnTo>
                  <a:lnTo>
                    <a:pt x="34" y="128"/>
                  </a:lnTo>
                  <a:lnTo>
                    <a:pt x="101" y="158"/>
                  </a:lnTo>
                  <a:lnTo>
                    <a:pt x="161" y="144"/>
                  </a:lnTo>
                  <a:lnTo>
                    <a:pt x="194" y="83"/>
                  </a:lnTo>
                  <a:lnTo>
                    <a:pt x="194" y="68"/>
                  </a:lnTo>
                  <a:lnTo>
                    <a:pt x="194" y="53"/>
                  </a:lnTo>
                </a:path>
              </a:pathLst>
            </a:custGeom>
            <a:solidFill>
              <a:srgbClr val="57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09960" y="3006720"/>
              <a:ext cx="312840" cy="252360"/>
            </a:xfrm>
            <a:custGeom>
              <a:avLst/>
              <a:gdLst/>
              <a:ahLst/>
              <a:rect l="l" t="t" r="r" b="b"/>
              <a:pathLst>
                <a:path w="197" h="159">
                  <a:moveTo>
                    <a:pt x="196" y="53"/>
                  </a:moveTo>
                  <a:lnTo>
                    <a:pt x="162" y="15"/>
                  </a:lnTo>
                  <a:lnTo>
                    <a:pt x="82" y="0"/>
                  </a:lnTo>
                  <a:lnTo>
                    <a:pt x="34" y="31"/>
                  </a:lnTo>
                  <a:lnTo>
                    <a:pt x="0" y="83"/>
                  </a:lnTo>
                  <a:lnTo>
                    <a:pt x="34" y="128"/>
                  </a:lnTo>
                  <a:lnTo>
                    <a:pt x="102" y="158"/>
                  </a:lnTo>
                  <a:lnTo>
                    <a:pt x="162" y="143"/>
                  </a:lnTo>
                  <a:lnTo>
                    <a:pt x="196" y="83"/>
                  </a:lnTo>
                  <a:lnTo>
                    <a:pt x="196" y="68"/>
                  </a:lnTo>
                  <a:lnTo>
                    <a:pt x="196" y="53"/>
                  </a:lnTo>
                </a:path>
              </a:pathLst>
            </a:custGeom>
            <a:solidFill>
              <a:srgbClr val="57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21120" y="2914560"/>
              <a:ext cx="441360" cy="430200"/>
            </a:xfrm>
            <a:custGeom>
              <a:avLst/>
              <a:gdLst/>
              <a:ahLst/>
              <a:rect l="l" t="t" r="r" b="b"/>
              <a:pathLst>
                <a:path w="278" h="271">
                  <a:moveTo>
                    <a:pt x="277" y="152"/>
                  </a:moveTo>
                  <a:lnTo>
                    <a:pt x="263" y="54"/>
                  </a:lnTo>
                  <a:lnTo>
                    <a:pt x="191" y="0"/>
                  </a:lnTo>
                  <a:lnTo>
                    <a:pt x="113" y="0"/>
                  </a:lnTo>
                  <a:lnTo>
                    <a:pt x="42" y="27"/>
                  </a:lnTo>
                  <a:lnTo>
                    <a:pt x="0" y="90"/>
                  </a:lnTo>
                  <a:lnTo>
                    <a:pt x="0" y="171"/>
                  </a:lnTo>
                  <a:lnTo>
                    <a:pt x="35" y="242"/>
                  </a:lnTo>
                  <a:lnTo>
                    <a:pt x="113" y="270"/>
                  </a:lnTo>
                  <a:lnTo>
                    <a:pt x="248" y="233"/>
                  </a:lnTo>
                  <a:lnTo>
                    <a:pt x="277" y="162"/>
                  </a:lnTo>
                  <a:lnTo>
                    <a:pt x="277" y="15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84480" y="3067200"/>
              <a:ext cx="292320" cy="230040"/>
            </a:xfrm>
            <a:custGeom>
              <a:avLst/>
              <a:gdLst/>
              <a:ahLst/>
              <a:rect l="l" t="t" r="r" b="b"/>
              <a:pathLst>
                <a:path w="184" h="145">
                  <a:moveTo>
                    <a:pt x="75" y="144"/>
                  </a:moveTo>
                  <a:lnTo>
                    <a:pt x="102" y="135"/>
                  </a:lnTo>
                  <a:lnTo>
                    <a:pt x="129" y="108"/>
                  </a:lnTo>
                  <a:lnTo>
                    <a:pt x="183" y="108"/>
                  </a:lnTo>
                  <a:lnTo>
                    <a:pt x="183" y="72"/>
                  </a:lnTo>
                  <a:lnTo>
                    <a:pt x="183" y="72"/>
                  </a:lnTo>
                  <a:lnTo>
                    <a:pt x="183" y="36"/>
                  </a:lnTo>
                  <a:lnTo>
                    <a:pt x="183" y="0"/>
                  </a:lnTo>
                  <a:lnTo>
                    <a:pt x="129" y="0"/>
                  </a:lnTo>
                  <a:lnTo>
                    <a:pt x="75" y="36"/>
                  </a:lnTo>
                  <a:lnTo>
                    <a:pt x="129" y="48"/>
                  </a:lnTo>
                  <a:lnTo>
                    <a:pt x="183" y="72"/>
                  </a:lnTo>
                  <a:lnTo>
                    <a:pt x="183" y="72"/>
                  </a:lnTo>
                  <a:lnTo>
                    <a:pt x="129" y="108"/>
                  </a:lnTo>
                  <a:lnTo>
                    <a:pt x="75" y="108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0" y="126"/>
                  </a:lnTo>
                  <a:lnTo>
                    <a:pt x="14" y="140"/>
                  </a:lnTo>
                  <a:lnTo>
                    <a:pt x="75" y="144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936960" y="3524400"/>
              <a:ext cx="360360" cy="306360"/>
              <a:chOff x="3936960" y="3524400"/>
              <a:chExt cx="360360" cy="306360"/>
            </a:xfrm>
          </p:grpSpPr>
          <p:sp>
            <p:nvSpPr>
              <p:cNvPr id="249" name=""/>
              <p:cNvSpPr/>
              <p:nvPr/>
            </p:nvSpPr>
            <p:spPr>
              <a:xfrm>
                <a:off x="3936960" y="3524400"/>
                <a:ext cx="360360" cy="306360"/>
              </a:xfrm>
              <a:custGeom>
                <a:avLst/>
                <a:gdLst/>
                <a:ahLst/>
                <a:rect l="l" t="t" r="r" b="b"/>
                <a:pathLst>
                  <a:path w="227" h="193">
                    <a:moveTo>
                      <a:pt x="226" y="108"/>
                    </a:moveTo>
                    <a:lnTo>
                      <a:pt x="215" y="39"/>
                    </a:lnTo>
                    <a:lnTo>
                      <a:pt x="157" y="0"/>
                    </a:lnTo>
                    <a:lnTo>
                      <a:pt x="92" y="0"/>
                    </a:lnTo>
                    <a:lnTo>
                      <a:pt x="35" y="19"/>
                    </a:lnTo>
                    <a:lnTo>
                      <a:pt x="0" y="64"/>
                    </a:lnTo>
                    <a:lnTo>
                      <a:pt x="0" y="121"/>
                    </a:lnTo>
                    <a:lnTo>
                      <a:pt x="29" y="173"/>
                    </a:lnTo>
                    <a:lnTo>
                      <a:pt x="92" y="192"/>
                    </a:lnTo>
                    <a:lnTo>
                      <a:pt x="204" y="167"/>
                    </a:lnTo>
                    <a:lnTo>
                      <a:pt x="226" y="115"/>
                    </a:lnTo>
                    <a:lnTo>
                      <a:pt x="226" y="10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02120" y="3587760"/>
                <a:ext cx="244440" cy="2160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909960" y="4114800"/>
              <a:ext cx="430200" cy="382680"/>
            </a:xfrm>
            <a:custGeom>
              <a:avLst/>
              <a:gdLst/>
              <a:ahLst/>
              <a:rect l="l" t="t" r="r" b="b"/>
              <a:pathLst>
                <a:path w="271" h="241">
                  <a:moveTo>
                    <a:pt x="270" y="136"/>
                  </a:moveTo>
                  <a:lnTo>
                    <a:pt x="255" y="48"/>
                  </a:lnTo>
                  <a:lnTo>
                    <a:pt x="186" y="0"/>
                  </a:lnTo>
                  <a:lnTo>
                    <a:pt x="110" y="0"/>
                  </a:lnTo>
                  <a:lnTo>
                    <a:pt x="41" y="25"/>
                  </a:lnTo>
                  <a:lnTo>
                    <a:pt x="0" y="80"/>
                  </a:lnTo>
                  <a:lnTo>
                    <a:pt x="0" y="152"/>
                  </a:lnTo>
                  <a:lnTo>
                    <a:pt x="35" y="215"/>
                  </a:lnTo>
                  <a:lnTo>
                    <a:pt x="110" y="240"/>
                  </a:lnTo>
                  <a:lnTo>
                    <a:pt x="242" y="207"/>
                  </a:lnTo>
                  <a:lnTo>
                    <a:pt x="270" y="144"/>
                  </a:lnTo>
                  <a:lnTo>
                    <a:pt x="270" y="136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5200" y="412596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56" y="0"/>
                  </a:moveTo>
                  <a:lnTo>
                    <a:pt x="111" y="55"/>
                  </a:lnTo>
                  <a:lnTo>
                    <a:pt x="111" y="111"/>
                  </a:lnTo>
                  <a:lnTo>
                    <a:pt x="111" y="166"/>
                  </a:lnTo>
                  <a:lnTo>
                    <a:pt x="111" y="166"/>
                  </a:lnTo>
                  <a:lnTo>
                    <a:pt x="56" y="221"/>
                  </a:lnTo>
                  <a:lnTo>
                    <a:pt x="0" y="221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56" y="111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6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8880" y="3505320"/>
              <a:ext cx="314280" cy="290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232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27960" y="3260880"/>
              <a:ext cx="214200" cy="801360"/>
            </a:xfrm>
            <a:custGeom>
              <a:avLst/>
              <a:gdLst/>
              <a:ahLst/>
              <a:rect l="l" t="t" r="r" b="b"/>
              <a:pathLst>
                <a:path w="135" h="505">
                  <a:moveTo>
                    <a:pt x="0" y="0"/>
                  </a:moveTo>
                  <a:lnTo>
                    <a:pt x="134" y="0"/>
                  </a:lnTo>
                  <a:lnTo>
                    <a:pt x="134" y="504"/>
                  </a:lnTo>
                  <a:lnTo>
                    <a:pt x="0" y="50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160" y="2708280"/>
              <a:ext cx="993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8880" y="2189160"/>
              <a:ext cx="0" cy="199548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5200" y="6472080"/>
            <a:ext cx="5267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Side Scatter Channe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laser light source is used, the amount of light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catte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e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i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erpendicular to the axis that the laser light is traveling) is detected in the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side or 90</a:t>
            </a:r>
            <a:r>
              <a:rPr b="1" lang="en-US" sz="3200" spc="-1" strike="noStrike" baseline="30000">
                <a:solidFill>
                  <a:srgbClr val="d49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 scatter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nsity of side scatter is proportional to the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ha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ptical homogeneit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cells (or other partic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741320" y="260280"/>
            <a:ext cx="662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90 Degree Light Sc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85040" y="1047600"/>
            <a:ext cx="8879760" cy="4854960"/>
            <a:chOff x="185040" y="1047600"/>
            <a:chExt cx="8879760" cy="4854960"/>
          </a:xfrm>
        </p:grpSpPr>
        <p:sp>
          <p:nvSpPr>
            <p:cNvPr id="262" name=""/>
            <p:cNvSpPr/>
            <p:nvPr/>
          </p:nvSpPr>
          <p:spPr>
            <a:xfrm>
              <a:off x="3370320" y="1047600"/>
              <a:ext cx="1636560" cy="3232440"/>
            </a:xfrm>
            <a:custGeom>
              <a:avLst/>
              <a:gdLst/>
              <a:ahLst/>
              <a:rect l="l" t="t" r="r" b="b"/>
              <a:pathLst>
                <a:path w="1031" h="2036">
                  <a:moveTo>
                    <a:pt x="0" y="161"/>
                  </a:moveTo>
                  <a:lnTo>
                    <a:pt x="0" y="643"/>
                  </a:lnTo>
                  <a:lnTo>
                    <a:pt x="0" y="1553"/>
                  </a:lnTo>
                  <a:lnTo>
                    <a:pt x="0" y="2035"/>
                  </a:lnTo>
                  <a:lnTo>
                    <a:pt x="343" y="1874"/>
                  </a:lnTo>
                  <a:lnTo>
                    <a:pt x="458" y="2035"/>
                  </a:lnTo>
                  <a:lnTo>
                    <a:pt x="744" y="1874"/>
                  </a:lnTo>
                  <a:lnTo>
                    <a:pt x="1030" y="2035"/>
                  </a:lnTo>
                  <a:lnTo>
                    <a:pt x="1030" y="1553"/>
                  </a:lnTo>
                  <a:lnTo>
                    <a:pt x="1030" y="643"/>
                  </a:lnTo>
                  <a:lnTo>
                    <a:pt x="1030" y="54"/>
                  </a:lnTo>
                  <a:lnTo>
                    <a:pt x="801" y="321"/>
                  </a:lnTo>
                  <a:lnTo>
                    <a:pt x="572" y="161"/>
                  </a:lnTo>
                  <a:lnTo>
                    <a:pt x="401" y="321"/>
                  </a:lnTo>
                  <a:lnTo>
                    <a:pt x="0" y="0"/>
                  </a:lnTo>
                  <a:lnTo>
                    <a:pt x="0" y="16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81480" y="1114560"/>
              <a:ext cx="0" cy="234612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0640" y="1211400"/>
              <a:ext cx="0" cy="224928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85040" y="1870200"/>
              <a:ext cx="8879760" cy="4032360"/>
              <a:chOff x="185040" y="1870200"/>
              <a:chExt cx="8879760" cy="4032360"/>
            </a:xfrm>
          </p:grpSpPr>
          <p:sp>
            <p:nvSpPr>
              <p:cNvPr id="266" name=""/>
              <p:cNvSpPr/>
              <p:nvPr/>
            </p:nvSpPr>
            <p:spPr>
              <a:xfrm>
                <a:off x="654120" y="2685960"/>
                <a:ext cx="314280" cy="2905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3232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1200" y="2408400"/>
                <a:ext cx="0" cy="1695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9000" y="3097080"/>
                <a:ext cx="0" cy="171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361800" y="2895480"/>
                <a:ext cx="155880" cy="1605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092240" y="2522520"/>
                <a:ext cx="155520" cy="162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6240" y="2795760"/>
                <a:ext cx="18576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82520" y="2959200"/>
                <a:ext cx="150840" cy="60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6120" y="2809800"/>
                <a:ext cx="18756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88800" y="2629080"/>
                <a:ext cx="150840" cy="58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722600" y="2847960"/>
                <a:ext cx="166032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91040" y="2100240"/>
                <a:ext cx="0" cy="1398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59720" y="2422440"/>
                <a:ext cx="214200" cy="801720"/>
              </a:xfrm>
              <a:custGeom>
                <a:avLst/>
                <a:gdLst/>
                <a:ahLst/>
                <a:rect l="l" t="t" r="r" b="b"/>
                <a:pathLst>
                  <a:path w="135" h="505">
                    <a:moveTo>
                      <a:pt x="0" y="0"/>
                    </a:moveTo>
                    <a:lnTo>
                      <a:pt x="134" y="0"/>
                    </a:lnTo>
                    <a:lnTo>
                      <a:pt x="134" y="504"/>
                    </a:lnTo>
                    <a:lnTo>
                      <a:pt x="0" y="50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2b2b2b"/>
                  </a:gs>
                </a:gsLst>
                <a:path path="rect">
                  <a:fillToRect l="50000" t="50000" r="50000" b="50000"/>
                </a:path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86040" y="2631960"/>
                <a:ext cx="1778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6160"/>
                    <a:tab algn="l" pos="2631960"/>
                    <a:tab algn="l" pos="3948120"/>
                    <a:tab algn="l" pos="5264280"/>
                    <a:tab algn="l" pos="6580080"/>
                    <a:tab algn="l" pos="7896240"/>
                    <a:tab algn="l" pos="9212400"/>
                    <a:tab algn="l" pos="105282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FALS Senso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56040" y="2654280"/>
                <a:ext cx="331920" cy="281160"/>
              </a:xfrm>
              <a:custGeom>
                <a:avLst/>
                <a:gdLst/>
                <a:ahLst/>
                <a:rect l="l" t="t" r="r" b="b"/>
                <a:pathLst>
                  <a:path w="209" h="177">
                    <a:moveTo>
                      <a:pt x="208" y="59"/>
                    </a:moveTo>
                    <a:lnTo>
                      <a:pt x="173" y="17"/>
                    </a:lnTo>
                    <a:lnTo>
                      <a:pt x="86" y="0"/>
                    </a:lnTo>
                    <a:lnTo>
                      <a:pt x="36" y="34"/>
                    </a:lnTo>
                    <a:lnTo>
                      <a:pt x="0" y="92"/>
                    </a:lnTo>
                    <a:lnTo>
                      <a:pt x="36" y="143"/>
                    </a:lnTo>
                    <a:lnTo>
                      <a:pt x="108" y="176"/>
                    </a:lnTo>
                    <a:lnTo>
                      <a:pt x="173" y="160"/>
                    </a:lnTo>
                    <a:lnTo>
                      <a:pt x="208" y="92"/>
                    </a:lnTo>
                    <a:lnTo>
                      <a:pt x="208" y="76"/>
                    </a:lnTo>
                    <a:lnTo>
                      <a:pt x="208" y="59"/>
                    </a:lnTo>
                  </a:path>
                </a:pathLst>
              </a:custGeom>
              <a:solidFill>
                <a:srgbClr val="57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95560" y="2662200"/>
                <a:ext cx="384480" cy="341280"/>
              </a:xfrm>
              <a:custGeom>
                <a:avLst/>
                <a:gdLst/>
                <a:ahLst/>
                <a:rect l="l" t="t" r="r" b="b"/>
                <a:pathLst>
                  <a:path w="242" h="215">
                    <a:moveTo>
                      <a:pt x="241" y="121"/>
                    </a:moveTo>
                    <a:lnTo>
                      <a:pt x="229" y="43"/>
                    </a:lnTo>
                    <a:lnTo>
                      <a:pt x="167" y="0"/>
                    </a:lnTo>
                    <a:lnTo>
                      <a:pt x="99" y="0"/>
                    </a:lnTo>
                    <a:lnTo>
                      <a:pt x="38" y="21"/>
                    </a:lnTo>
                    <a:lnTo>
                      <a:pt x="0" y="71"/>
                    </a:lnTo>
                    <a:lnTo>
                      <a:pt x="0" y="135"/>
                    </a:lnTo>
                    <a:lnTo>
                      <a:pt x="31" y="193"/>
                    </a:lnTo>
                    <a:lnTo>
                      <a:pt x="99" y="214"/>
                    </a:lnTo>
                    <a:lnTo>
                      <a:pt x="217" y="186"/>
                    </a:lnTo>
                    <a:lnTo>
                      <a:pt x="241" y="128"/>
                    </a:lnTo>
                    <a:lnTo>
                      <a:pt x="241" y="121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59280" y="2106720"/>
                <a:ext cx="333360" cy="280800"/>
              </a:xfrm>
              <a:custGeom>
                <a:avLst/>
                <a:gdLst/>
                <a:ahLst/>
                <a:rect l="l" t="t" r="r" b="b"/>
                <a:pathLst>
                  <a:path w="210" h="177">
                    <a:moveTo>
                      <a:pt x="209" y="59"/>
                    </a:moveTo>
                    <a:lnTo>
                      <a:pt x="173" y="17"/>
                    </a:lnTo>
                    <a:lnTo>
                      <a:pt x="87" y="0"/>
                    </a:lnTo>
                    <a:lnTo>
                      <a:pt x="36" y="34"/>
                    </a:lnTo>
                    <a:lnTo>
                      <a:pt x="0" y="92"/>
                    </a:lnTo>
                    <a:lnTo>
                      <a:pt x="36" y="143"/>
                    </a:lnTo>
                    <a:lnTo>
                      <a:pt x="109" y="176"/>
                    </a:lnTo>
                    <a:lnTo>
                      <a:pt x="173" y="159"/>
                    </a:lnTo>
                    <a:lnTo>
                      <a:pt x="209" y="92"/>
                    </a:lnTo>
                    <a:lnTo>
                      <a:pt x="209" y="76"/>
                    </a:lnTo>
                    <a:lnTo>
                      <a:pt x="209" y="59"/>
                    </a:lnTo>
                  </a:path>
                </a:pathLst>
              </a:custGeom>
              <a:solidFill>
                <a:srgbClr val="57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03840" y="1982880"/>
                <a:ext cx="468000" cy="477720"/>
              </a:xfrm>
              <a:custGeom>
                <a:avLst/>
                <a:gdLst/>
                <a:ahLst/>
                <a:rect l="l" t="t" r="r" b="b"/>
                <a:pathLst>
                  <a:path w="295" h="301">
                    <a:moveTo>
                      <a:pt x="294" y="169"/>
                    </a:moveTo>
                    <a:lnTo>
                      <a:pt x="279" y="60"/>
                    </a:lnTo>
                    <a:lnTo>
                      <a:pt x="203" y="0"/>
                    </a:lnTo>
                    <a:lnTo>
                      <a:pt x="120" y="0"/>
                    </a:lnTo>
                    <a:lnTo>
                      <a:pt x="45" y="29"/>
                    </a:lnTo>
                    <a:lnTo>
                      <a:pt x="0" y="100"/>
                    </a:lnTo>
                    <a:lnTo>
                      <a:pt x="0" y="190"/>
                    </a:lnTo>
                    <a:lnTo>
                      <a:pt x="38" y="269"/>
                    </a:lnTo>
                    <a:lnTo>
                      <a:pt x="120" y="300"/>
                    </a:lnTo>
                    <a:lnTo>
                      <a:pt x="264" y="259"/>
                    </a:lnTo>
                    <a:lnTo>
                      <a:pt x="294" y="179"/>
                    </a:lnTo>
                    <a:lnTo>
                      <a:pt x="294" y="169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71880" y="2152800"/>
                <a:ext cx="308160" cy="255600"/>
              </a:xfrm>
              <a:custGeom>
                <a:avLst/>
                <a:gdLst/>
                <a:ahLst/>
                <a:rect l="l" t="t" r="r" b="b"/>
                <a:pathLst>
                  <a:path w="194" h="161">
                    <a:moveTo>
                      <a:pt x="79" y="160"/>
                    </a:moveTo>
                    <a:lnTo>
                      <a:pt x="107" y="150"/>
                    </a:lnTo>
                    <a:lnTo>
                      <a:pt x="136" y="120"/>
                    </a:lnTo>
                    <a:lnTo>
                      <a:pt x="193" y="120"/>
                    </a:lnTo>
                    <a:lnTo>
                      <a:pt x="193" y="80"/>
                    </a:lnTo>
                    <a:lnTo>
                      <a:pt x="193" y="80"/>
                    </a:lnTo>
                    <a:lnTo>
                      <a:pt x="193" y="40"/>
                    </a:lnTo>
                    <a:lnTo>
                      <a:pt x="193" y="0"/>
                    </a:lnTo>
                    <a:lnTo>
                      <a:pt x="136" y="0"/>
                    </a:lnTo>
                    <a:lnTo>
                      <a:pt x="79" y="40"/>
                    </a:lnTo>
                    <a:lnTo>
                      <a:pt x="136" y="53"/>
                    </a:lnTo>
                    <a:lnTo>
                      <a:pt x="193" y="80"/>
                    </a:lnTo>
                    <a:lnTo>
                      <a:pt x="193" y="80"/>
                    </a:lnTo>
                    <a:lnTo>
                      <a:pt x="136" y="120"/>
                    </a:lnTo>
                    <a:lnTo>
                      <a:pt x="79" y="120"/>
                    </a:lnTo>
                    <a:lnTo>
                      <a:pt x="21" y="120"/>
                    </a:lnTo>
                    <a:lnTo>
                      <a:pt x="21" y="120"/>
                    </a:lnTo>
                    <a:lnTo>
                      <a:pt x="0" y="140"/>
                    </a:lnTo>
                    <a:lnTo>
                      <a:pt x="14" y="156"/>
                    </a:lnTo>
                    <a:lnTo>
                      <a:pt x="79" y="160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11480" y="2754360"/>
                <a:ext cx="260640" cy="2412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22840" y="3341520"/>
                <a:ext cx="457200" cy="425520"/>
              </a:xfrm>
              <a:custGeom>
                <a:avLst/>
                <a:gdLst/>
                <a:ahLst/>
                <a:rect l="l" t="t" r="r" b="b"/>
                <a:pathLst>
                  <a:path w="288" h="268">
                    <a:moveTo>
                      <a:pt x="287" y="151"/>
                    </a:moveTo>
                    <a:lnTo>
                      <a:pt x="272" y="53"/>
                    </a:lnTo>
                    <a:lnTo>
                      <a:pt x="198" y="0"/>
                    </a:lnTo>
                    <a:lnTo>
                      <a:pt x="117" y="0"/>
                    </a:lnTo>
                    <a:lnTo>
                      <a:pt x="44" y="27"/>
                    </a:lnTo>
                    <a:lnTo>
                      <a:pt x="0" y="89"/>
                    </a:lnTo>
                    <a:lnTo>
                      <a:pt x="0" y="169"/>
                    </a:lnTo>
                    <a:lnTo>
                      <a:pt x="37" y="240"/>
                    </a:lnTo>
                    <a:lnTo>
                      <a:pt x="117" y="267"/>
                    </a:lnTo>
                    <a:lnTo>
                      <a:pt x="257" y="231"/>
                    </a:lnTo>
                    <a:lnTo>
                      <a:pt x="287" y="160"/>
                    </a:lnTo>
                    <a:lnTo>
                      <a:pt x="287" y="151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98880" y="3354480"/>
                <a:ext cx="189000" cy="392040"/>
              </a:xfrm>
              <a:custGeom>
                <a:avLst/>
                <a:gdLst/>
                <a:ahLst/>
                <a:rect l="l" t="t" r="r" b="b"/>
                <a:pathLst>
                  <a:path w="119" h="247">
                    <a:moveTo>
                      <a:pt x="59" y="0"/>
                    </a:moveTo>
                    <a:lnTo>
                      <a:pt x="118" y="62"/>
                    </a:lnTo>
                    <a:lnTo>
                      <a:pt x="118" y="123"/>
                    </a:lnTo>
                    <a:lnTo>
                      <a:pt x="118" y="185"/>
                    </a:lnTo>
                    <a:lnTo>
                      <a:pt x="118" y="185"/>
                    </a:lnTo>
                    <a:lnTo>
                      <a:pt x="59" y="246"/>
                    </a:lnTo>
                    <a:lnTo>
                      <a:pt x="0" y="246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59" y="123"/>
                    </a:lnTo>
                    <a:lnTo>
                      <a:pt x="0" y="1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72080" y="2849400"/>
                <a:ext cx="490320" cy="2092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10160" y="2849400"/>
                <a:ext cx="909720" cy="2048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41800" y="3133800"/>
                <a:ext cx="468360" cy="1415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86160" y="3171960"/>
                <a:ext cx="544680" cy="1333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10000" y="3111480"/>
                <a:ext cx="628560" cy="1390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84520" y="3000240"/>
                <a:ext cx="722520" cy="1519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30560" y="3087720"/>
                <a:ext cx="405000" cy="1576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09400" y="5508720"/>
                <a:ext cx="172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6160"/>
                    <a:tab algn="l" pos="2631960"/>
                    <a:tab algn="l" pos="3948120"/>
                    <a:tab algn="l" pos="5264280"/>
                    <a:tab algn="l" pos="6580080"/>
                    <a:tab algn="l" pos="7896240"/>
                    <a:tab algn="l" pos="9212400"/>
                    <a:tab algn="l" pos="105282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90LS Senso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040" y="1870200"/>
                <a:ext cx="993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6160"/>
                    <a:tab algn="l" pos="2631960"/>
                    <a:tab algn="l" pos="3948120"/>
                    <a:tab algn="l" pos="5264280"/>
                    <a:tab algn="l" pos="6580080"/>
                    <a:tab algn="l" pos="7896240"/>
                    <a:tab algn="l" pos="9212400"/>
                    <a:tab algn="l" pos="105282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as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5064120" y="2816280"/>
                <a:ext cx="1638360" cy="17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086440" y="2653920"/>
                <a:ext cx="1627200" cy="112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84640" y="2914560"/>
                <a:ext cx="1629000" cy="61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100480" y="2487600"/>
                <a:ext cx="1589400" cy="16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11640" y="3062160"/>
                <a:ext cx="1581120" cy="96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00560" y="4545000"/>
                <a:ext cx="1297080" cy="797040"/>
              </a:xfrm>
              <a:prstGeom prst="ellipse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2b2b2b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3805200" y="6472080"/>
            <a:ext cx="5267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Light Scatte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ward scatter tends to be more sensitive to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ace properti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particles (e.g., cell ruffling) than side sc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used to distinguish </a:t>
            </a: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l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dea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scatter tends to be more sensitive to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clusions withi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s than forward sc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used to distinguish </a:t>
            </a: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granul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from </a:t>
            </a: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non-granul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Fluorescence Channel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luorescence emitted by each fluorochrome is usually detected in a unique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fluorescence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ity of detection is controlled by the wavelength selectivity of optical filters and mi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-28440" y="2657520"/>
            <a:ext cx="187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160" y="16606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16200" y="120600"/>
            <a:ext cx="7208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luorescence Dete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61800" y="895320"/>
            <a:ext cx="8703000" cy="5159520"/>
            <a:chOff x="361800" y="895320"/>
            <a:chExt cx="8703000" cy="5159520"/>
          </a:xfrm>
        </p:grpSpPr>
        <p:sp>
          <p:nvSpPr>
            <p:cNvPr id="311" name=""/>
            <p:cNvSpPr/>
            <p:nvPr/>
          </p:nvSpPr>
          <p:spPr>
            <a:xfrm>
              <a:off x="3370320" y="895320"/>
              <a:ext cx="1636560" cy="3232080"/>
            </a:xfrm>
            <a:custGeom>
              <a:avLst/>
              <a:gdLst/>
              <a:ahLst/>
              <a:rect l="l" t="t" r="r" b="b"/>
              <a:pathLst>
                <a:path w="1031" h="2036">
                  <a:moveTo>
                    <a:pt x="0" y="161"/>
                  </a:moveTo>
                  <a:lnTo>
                    <a:pt x="0" y="643"/>
                  </a:lnTo>
                  <a:lnTo>
                    <a:pt x="0" y="1553"/>
                  </a:lnTo>
                  <a:lnTo>
                    <a:pt x="0" y="2035"/>
                  </a:lnTo>
                  <a:lnTo>
                    <a:pt x="343" y="1874"/>
                  </a:lnTo>
                  <a:lnTo>
                    <a:pt x="458" y="2035"/>
                  </a:lnTo>
                  <a:lnTo>
                    <a:pt x="744" y="1874"/>
                  </a:lnTo>
                  <a:lnTo>
                    <a:pt x="1030" y="2035"/>
                  </a:lnTo>
                  <a:lnTo>
                    <a:pt x="1030" y="1553"/>
                  </a:lnTo>
                  <a:lnTo>
                    <a:pt x="1030" y="643"/>
                  </a:lnTo>
                  <a:lnTo>
                    <a:pt x="1030" y="54"/>
                  </a:lnTo>
                  <a:lnTo>
                    <a:pt x="801" y="321"/>
                  </a:lnTo>
                  <a:lnTo>
                    <a:pt x="572" y="161"/>
                  </a:lnTo>
                  <a:lnTo>
                    <a:pt x="401" y="321"/>
                  </a:lnTo>
                  <a:lnTo>
                    <a:pt x="0" y="0"/>
                  </a:lnTo>
                  <a:lnTo>
                    <a:pt x="0" y="16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2840" y="3189240"/>
              <a:ext cx="457200" cy="425520"/>
            </a:xfrm>
            <a:custGeom>
              <a:avLst/>
              <a:gdLst/>
              <a:ahLst/>
              <a:rect l="l" t="t" r="r" b="b"/>
              <a:pathLst>
                <a:path w="288" h="268">
                  <a:moveTo>
                    <a:pt x="287" y="151"/>
                  </a:moveTo>
                  <a:lnTo>
                    <a:pt x="272" y="53"/>
                  </a:lnTo>
                  <a:lnTo>
                    <a:pt x="198" y="0"/>
                  </a:lnTo>
                  <a:lnTo>
                    <a:pt x="117" y="0"/>
                  </a:lnTo>
                  <a:lnTo>
                    <a:pt x="44" y="27"/>
                  </a:lnTo>
                  <a:lnTo>
                    <a:pt x="0" y="89"/>
                  </a:lnTo>
                  <a:lnTo>
                    <a:pt x="0" y="169"/>
                  </a:lnTo>
                  <a:lnTo>
                    <a:pt x="37" y="240"/>
                  </a:lnTo>
                  <a:lnTo>
                    <a:pt x="117" y="267"/>
                  </a:lnTo>
                  <a:lnTo>
                    <a:pt x="257" y="231"/>
                  </a:lnTo>
                  <a:lnTo>
                    <a:pt x="287" y="160"/>
                  </a:lnTo>
                  <a:lnTo>
                    <a:pt x="287" y="151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98880" y="3201840"/>
              <a:ext cx="189000" cy="39240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59" y="0"/>
                  </a:moveTo>
                  <a:lnTo>
                    <a:pt x="118" y="62"/>
                  </a:lnTo>
                  <a:lnTo>
                    <a:pt x="118" y="123"/>
                  </a:lnTo>
                  <a:lnTo>
                    <a:pt x="118" y="185"/>
                  </a:lnTo>
                  <a:lnTo>
                    <a:pt x="118" y="185"/>
                  </a:lnTo>
                  <a:lnTo>
                    <a:pt x="59" y="246"/>
                  </a:lnTo>
                  <a:lnTo>
                    <a:pt x="0" y="24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59" y="123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59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59080" y="3016080"/>
              <a:ext cx="422280" cy="1498680"/>
            </a:xfrm>
            <a:prstGeom prst="line">
              <a:avLst/>
            </a:prstGeom>
            <a:ln w="25560">
              <a:solidFill>
                <a:srgbClr val="d4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2920" y="3016080"/>
              <a:ext cx="541440" cy="1454400"/>
            </a:xfrm>
            <a:prstGeom prst="line">
              <a:avLst/>
            </a:prstGeom>
            <a:ln w="25560">
              <a:solidFill>
                <a:srgbClr val="741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05320" y="2917800"/>
              <a:ext cx="733320" cy="1596960"/>
            </a:xfrm>
            <a:prstGeom prst="line">
              <a:avLst/>
            </a:prstGeom>
            <a:ln w="25560">
              <a:solidFill>
                <a:srgbClr val="ff39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27320" y="2965320"/>
              <a:ext cx="390600" cy="1592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3760" y="2678040"/>
              <a:ext cx="490320" cy="2092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56160" y="2725560"/>
              <a:ext cx="909720" cy="2048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00560" y="4392720"/>
              <a:ext cx="1297080" cy="796680"/>
            </a:xfrm>
            <a:prstGeom prst="ellipse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813280" y="3695760"/>
              <a:ext cx="3114720" cy="1562040"/>
              <a:chOff x="5813280" y="3695760"/>
              <a:chExt cx="3114720" cy="1562040"/>
            </a:xfrm>
          </p:grpSpPr>
          <p:sp>
            <p:nvSpPr>
              <p:cNvPr id="322" name=""/>
              <p:cNvSpPr/>
              <p:nvPr/>
            </p:nvSpPr>
            <p:spPr>
              <a:xfrm>
                <a:off x="5884920" y="3695760"/>
                <a:ext cx="3043080" cy="156204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19960" y="383544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32560" y="4781520"/>
                <a:ext cx="2062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31080" y="3941640"/>
                <a:ext cx="1376280" cy="806400"/>
              </a:xfrm>
              <a:custGeom>
                <a:avLst/>
                <a:gdLst/>
                <a:ahLst/>
                <a:rect l="l" t="t" r="r" b="b"/>
                <a:pathLst>
                  <a:path w="867" h="508">
                    <a:moveTo>
                      <a:pt x="0" y="507"/>
                    </a:moveTo>
                    <a:lnTo>
                      <a:pt x="85" y="485"/>
                    </a:lnTo>
                    <a:lnTo>
                      <a:pt x="112" y="448"/>
                    </a:lnTo>
                    <a:lnTo>
                      <a:pt x="137" y="388"/>
                    </a:lnTo>
                    <a:lnTo>
                      <a:pt x="172" y="268"/>
                    </a:lnTo>
                    <a:lnTo>
                      <a:pt x="202" y="127"/>
                    </a:lnTo>
                    <a:lnTo>
                      <a:pt x="245" y="7"/>
                    </a:lnTo>
                    <a:lnTo>
                      <a:pt x="276" y="0"/>
                    </a:lnTo>
                    <a:lnTo>
                      <a:pt x="289" y="37"/>
                    </a:lnTo>
                    <a:lnTo>
                      <a:pt x="327" y="134"/>
                    </a:lnTo>
                    <a:lnTo>
                      <a:pt x="367" y="253"/>
                    </a:lnTo>
                    <a:lnTo>
                      <a:pt x="431" y="336"/>
                    </a:lnTo>
                    <a:lnTo>
                      <a:pt x="499" y="373"/>
                    </a:lnTo>
                    <a:lnTo>
                      <a:pt x="595" y="448"/>
                    </a:lnTo>
                    <a:lnTo>
                      <a:pt x="711" y="492"/>
                    </a:lnTo>
                    <a:lnTo>
                      <a:pt x="866" y="507"/>
                    </a:lnTo>
                    <a:lnTo>
                      <a:pt x="0" y="507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13280" y="3921120"/>
                <a:ext cx="676440" cy="8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6866280" y="4829040"/>
                <a:ext cx="14007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6160"/>
                    <a:tab algn="l" pos="2631960"/>
                    <a:tab algn="l" pos="3948120"/>
                    <a:tab algn="l" pos="5264280"/>
                    <a:tab algn="l" pos="6580080"/>
                    <a:tab algn="l" pos="7896240"/>
                    <a:tab algn="l" pos="9212400"/>
                    <a:tab algn="l" pos="105282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Fluorescen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54120" y="2533680"/>
              <a:ext cx="314280" cy="290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232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1200" y="2255760"/>
              <a:ext cx="0" cy="169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9000" y="2944800"/>
              <a:ext cx="0" cy="1713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61800" y="2742840"/>
              <a:ext cx="155880" cy="160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092240" y="2370240"/>
              <a:ext cx="155520" cy="162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6240" y="2643120"/>
              <a:ext cx="185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82520" y="2806560"/>
              <a:ext cx="150840" cy="60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2476440"/>
              <a:ext cx="150840" cy="58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9400" y="2695680"/>
              <a:ext cx="16606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81480" y="961920"/>
              <a:ext cx="0" cy="230832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3360" y="1062000"/>
              <a:ext cx="0" cy="2170080"/>
            </a:xfrm>
            <a:prstGeom prst="line">
              <a:avLst/>
            </a:prstGeom>
            <a:ln w="127080">
              <a:solidFill>
                <a:srgbClr val="dac8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59720" y="2270160"/>
              <a:ext cx="214200" cy="801720"/>
            </a:xfrm>
            <a:custGeom>
              <a:avLst/>
              <a:gdLst/>
              <a:ahLst/>
              <a:rect l="l" t="t" r="r" b="b"/>
              <a:pathLst>
                <a:path w="135" h="505">
                  <a:moveTo>
                    <a:pt x="0" y="0"/>
                  </a:moveTo>
                  <a:lnTo>
                    <a:pt x="134" y="0"/>
                  </a:lnTo>
                  <a:lnTo>
                    <a:pt x="134" y="504"/>
                  </a:lnTo>
                  <a:lnTo>
                    <a:pt x="0" y="50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86040" y="2479680"/>
              <a:ext cx="1778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 Sens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59280" y="1954080"/>
              <a:ext cx="333360" cy="281160"/>
            </a:xfrm>
            <a:custGeom>
              <a:avLst/>
              <a:gdLst/>
              <a:ahLst/>
              <a:rect l="l" t="t" r="r" b="b"/>
              <a:pathLst>
                <a:path w="210" h="177">
                  <a:moveTo>
                    <a:pt x="209" y="59"/>
                  </a:moveTo>
                  <a:lnTo>
                    <a:pt x="173" y="17"/>
                  </a:lnTo>
                  <a:lnTo>
                    <a:pt x="87" y="0"/>
                  </a:lnTo>
                  <a:lnTo>
                    <a:pt x="36" y="34"/>
                  </a:lnTo>
                  <a:lnTo>
                    <a:pt x="0" y="92"/>
                  </a:lnTo>
                  <a:lnTo>
                    <a:pt x="36" y="143"/>
                  </a:lnTo>
                  <a:lnTo>
                    <a:pt x="109" y="176"/>
                  </a:lnTo>
                  <a:lnTo>
                    <a:pt x="173" y="159"/>
                  </a:lnTo>
                  <a:lnTo>
                    <a:pt x="209" y="92"/>
                  </a:lnTo>
                  <a:lnTo>
                    <a:pt x="209" y="76"/>
                  </a:lnTo>
                  <a:lnTo>
                    <a:pt x="209" y="59"/>
                  </a:lnTo>
                </a:path>
              </a:pathLst>
            </a:custGeom>
            <a:solidFill>
              <a:srgbClr val="57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03840" y="1830240"/>
              <a:ext cx="468000" cy="478080"/>
            </a:xfrm>
            <a:custGeom>
              <a:avLst/>
              <a:gdLst/>
              <a:ahLst/>
              <a:rect l="l" t="t" r="r" b="b"/>
              <a:pathLst>
                <a:path w="295" h="301">
                  <a:moveTo>
                    <a:pt x="294" y="169"/>
                  </a:moveTo>
                  <a:lnTo>
                    <a:pt x="279" y="60"/>
                  </a:lnTo>
                  <a:lnTo>
                    <a:pt x="203" y="0"/>
                  </a:lnTo>
                  <a:lnTo>
                    <a:pt x="120" y="0"/>
                  </a:lnTo>
                  <a:lnTo>
                    <a:pt x="45" y="29"/>
                  </a:lnTo>
                  <a:lnTo>
                    <a:pt x="0" y="100"/>
                  </a:lnTo>
                  <a:lnTo>
                    <a:pt x="0" y="190"/>
                  </a:lnTo>
                  <a:lnTo>
                    <a:pt x="38" y="269"/>
                  </a:lnTo>
                  <a:lnTo>
                    <a:pt x="120" y="300"/>
                  </a:lnTo>
                  <a:lnTo>
                    <a:pt x="264" y="259"/>
                  </a:lnTo>
                  <a:lnTo>
                    <a:pt x="294" y="179"/>
                  </a:lnTo>
                  <a:lnTo>
                    <a:pt x="294" y="169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71880" y="2000160"/>
              <a:ext cx="308160" cy="255600"/>
            </a:xfrm>
            <a:custGeom>
              <a:avLst/>
              <a:gdLst/>
              <a:ahLst/>
              <a:rect l="l" t="t" r="r" b="b"/>
              <a:pathLst>
                <a:path w="194" h="161">
                  <a:moveTo>
                    <a:pt x="79" y="160"/>
                  </a:moveTo>
                  <a:lnTo>
                    <a:pt x="107" y="150"/>
                  </a:lnTo>
                  <a:lnTo>
                    <a:pt x="136" y="120"/>
                  </a:lnTo>
                  <a:lnTo>
                    <a:pt x="193" y="120"/>
                  </a:lnTo>
                  <a:lnTo>
                    <a:pt x="193" y="80"/>
                  </a:lnTo>
                  <a:lnTo>
                    <a:pt x="193" y="80"/>
                  </a:lnTo>
                  <a:lnTo>
                    <a:pt x="193" y="40"/>
                  </a:lnTo>
                  <a:lnTo>
                    <a:pt x="193" y="0"/>
                  </a:lnTo>
                  <a:lnTo>
                    <a:pt x="136" y="0"/>
                  </a:lnTo>
                  <a:lnTo>
                    <a:pt x="79" y="40"/>
                  </a:lnTo>
                  <a:lnTo>
                    <a:pt x="136" y="53"/>
                  </a:lnTo>
                  <a:lnTo>
                    <a:pt x="193" y="80"/>
                  </a:lnTo>
                  <a:lnTo>
                    <a:pt x="193" y="80"/>
                  </a:lnTo>
                  <a:lnTo>
                    <a:pt x="136" y="120"/>
                  </a:lnTo>
                  <a:lnTo>
                    <a:pt x="79" y="120"/>
                  </a:lnTo>
                  <a:lnTo>
                    <a:pt x="21" y="120"/>
                  </a:lnTo>
                  <a:lnTo>
                    <a:pt x="21" y="120"/>
                  </a:lnTo>
                  <a:lnTo>
                    <a:pt x="0" y="140"/>
                  </a:lnTo>
                  <a:lnTo>
                    <a:pt x="14" y="156"/>
                  </a:lnTo>
                  <a:lnTo>
                    <a:pt x="79" y="16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27640" y="4683240"/>
              <a:ext cx="215640" cy="2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67400" y="4651200"/>
              <a:ext cx="169560" cy="154080"/>
            </a:xfrm>
            <a:prstGeom prst="ellipse">
              <a:avLst/>
            </a:prstGeom>
            <a:solidFill>
              <a:srgbClr val="d49fff"/>
            </a:solidFill>
            <a:ln w="50760">
              <a:solidFill>
                <a:srgbClr val="d4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13280" y="4589640"/>
              <a:ext cx="230400" cy="209520"/>
            </a:xfrm>
            <a:prstGeom prst="ellipse">
              <a:avLst/>
            </a:prstGeom>
            <a:solidFill>
              <a:srgbClr val="741bff"/>
            </a:solidFill>
            <a:ln w="12600">
              <a:solidFill>
                <a:srgbClr val="741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3520" y="4637160"/>
              <a:ext cx="207720" cy="171360"/>
            </a:xfrm>
            <a:prstGeom prst="ellipse">
              <a:avLst/>
            </a:prstGeom>
            <a:solidFill>
              <a:srgbClr val="ff3938"/>
            </a:solidFill>
            <a:ln w="12600">
              <a:solidFill>
                <a:srgbClr val="ff39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21880" y="5356080"/>
              <a:ext cx="2898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luorescence dete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PMT3, PMT4 etc.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091120" y="2657520"/>
              <a:ext cx="1627200" cy="30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114880" y="2495520"/>
              <a:ext cx="1614600" cy="125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3440" y="2768760"/>
              <a:ext cx="1616040" cy="48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121360" y="2335320"/>
              <a:ext cx="1589040" cy="169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2520" y="2909880"/>
              <a:ext cx="1581120" cy="968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95560" y="2509920"/>
              <a:ext cx="384480" cy="341280"/>
            </a:xfrm>
            <a:custGeom>
              <a:avLst/>
              <a:gdLst/>
              <a:ahLst/>
              <a:rect l="l" t="t" r="r" b="b"/>
              <a:pathLst>
                <a:path w="242" h="215">
                  <a:moveTo>
                    <a:pt x="241" y="121"/>
                  </a:moveTo>
                  <a:lnTo>
                    <a:pt x="229" y="43"/>
                  </a:lnTo>
                  <a:lnTo>
                    <a:pt x="167" y="0"/>
                  </a:lnTo>
                  <a:lnTo>
                    <a:pt x="99" y="0"/>
                  </a:lnTo>
                  <a:lnTo>
                    <a:pt x="38" y="21"/>
                  </a:lnTo>
                  <a:lnTo>
                    <a:pt x="0" y="71"/>
                  </a:lnTo>
                  <a:lnTo>
                    <a:pt x="0" y="135"/>
                  </a:lnTo>
                  <a:lnTo>
                    <a:pt x="31" y="193"/>
                  </a:lnTo>
                  <a:lnTo>
                    <a:pt x="99" y="214"/>
                  </a:lnTo>
                  <a:lnTo>
                    <a:pt x="217" y="186"/>
                  </a:lnTo>
                  <a:lnTo>
                    <a:pt x="241" y="128"/>
                  </a:lnTo>
                  <a:lnTo>
                    <a:pt x="241" y="121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90960" y="2592360"/>
              <a:ext cx="260280" cy="2412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805200" y="6472080"/>
            <a:ext cx="5267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Filter Proper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cal filters are constructed from materials that absorb certain wavelengths (while transmitting oth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tions between absorbance and transmission are not perfect; the sharpness can be specified during filter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Flow Cyto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properties of cells in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Flow S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rting (separating) cells based on properties measured in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called </a:t>
            </a: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Fluorescence-Activated Cell Sorting (FA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Filter Proper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using laser light sources, filters must have very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har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utons and cutoffs since there will be many orders of magnitude more scattered laser light than fluoresc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pecify wavelengths that filter must reject to certain tolerance (e.g., reject 488 nm light at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l: only 0.0001% of incident light at 488 nm gets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Filter Proper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Long pass filte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mit wavelengths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b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cut-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Short pass filte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mit wavelengths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el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cut-of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Band pass filte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mit wavelengths in a narrow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r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ound a specified 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Band wid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pec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19440" y="590400"/>
            <a:ext cx="5572080" cy="74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tandard Long Pass Filter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2273400"/>
            <a:ext cx="2197440" cy="606240"/>
          </a:xfrm>
          <a:custGeom>
            <a:avLst/>
            <a:gdLst/>
            <a:ahLst/>
            <a:rect l="l" t="t" r="r" b="b"/>
            <a:pathLst>
              <a:path w="1384" h="382">
                <a:moveTo>
                  <a:pt x="0" y="0"/>
                </a:moveTo>
                <a:lnTo>
                  <a:pt x="1361" y="0"/>
                </a:lnTo>
                <a:lnTo>
                  <a:pt x="1325" y="86"/>
                </a:lnTo>
                <a:lnTo>
                  <a:pt x="1369" y="101"/>
                </a:lnTo>
                <a:lnTo>
                  <a:pt x="1347" y="101"/>
                </a:lnTo>
                <a:lnTo>
                  <a:pt x="1311" y="223"/>
                </a:lnTo>
                <a:lnTo>
                  <a:pt x="1383" y="302"/>
                </a:lnTo>
                <a:lnTo>
                  <a:pt x="1383" y="331"/>
                </a:lnTo>
                <a:lnTo>
                  <a:pt x="1376" y="381"/>
                </a:lnTo>
                <a:lnTo>
                  <a:pt x="7" y="38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fefefe"/>
              </a:gs>
            </a:gsLst>
            <a:lin ang="13500000"/>
          </a:gradFill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255920" y="1943280"/>
            <a:ext cx="457200" cy="1287000"/>
            <a:chOff x="4255920" y="1943280"/>
            <a:chExt cx="457200" cy="1287000"/>
          </a:xfrm>
        </p:grpSpPr>
        <p:sp>
          <p:nvSpPr>
            <p:cNvPr id="366" name=""/>
            <p:cNvSpPr/>
            <p:nvPr/>
          </p:nvSpPr>
          <p:spPr>
            <a:xfrm rot="21540000">
              <a:off x="4347720" y="1946160"/>
              <a:ext cx="354240" cy="12686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1540000">
              <a:off x="4266720" y="1959120"/>
              <a:ext cx="355680" cy="1268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5424840" y="1770120"/>
            <a:ext cx="212796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ransmitted 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5480" y="1701720"/>
            <a:ext cx="151992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Light 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73400" y="2273400"/>
            <a:ext cx="2195280" cy="606240"/>
          </a:xfrm>
          <a:custGeom>
            <a:avLst/>
            <a:gdLst/>
            <a:ahLst/>
            <a:rect l="l" t="t" r="r" b="b"/>
            <a:pathLst>
              <a:path w="1383" h="382">
                <a:moveTo>
                  <a:pt x="1382" y="0"/>
                </a:moveTo>
                <a:lnTo>
                  <a:pt x="22" y="0"/>
                </a:lnTo>
                <a:lnTo>
                  <a:pt x="58" y="86"/>
                </a:lnTo>
                <a:lnTo>
                  <a:pt x="14" y="101"/>
                </a:lnTo>
                <a:lnTo>
                  <a:pt x="36" y="101"/>
                </a:lnTo>
                <a:lnTo>
                  <a:pt x="72" y="223"/>
                </a:lnTo>
                <a:lnTo>
                  <a:pt x="0" y="302"/>
                </a:lnTo>
                <a:lnTo>
                  <a:pt x="0" y="331"/>
                </a:lnTo>
                <a:lnTo>
                  <a:pt x="7" y="381"/>
                </a:lnTo>
                <a:lnTo>
                  <a:pt x="1375" y="381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13500000"/>
          </a:gradFill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2120" y="1517760"/>
            <a:ext cx="276048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20 nm Long Pass Fil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27600" y="3051000"/>
            <a:ext cx="15318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27000" bIns="27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&gt;520 nm 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76800" y="5267160"/>
            <a:ext cx="2197080" cy="606600"/>
          </a:xfrm>
          <a:custGeom>
            <a:avLst/>
            <a:gdLst/>
            <a:ahLst/>
            <a:rect l="l" t="t" r="r" b="b"/>
            <a:pathLst>
              <a:path w="1384" h="382">
                <a:moveTo>
                  <a:pt x="0" y="0"/>
                </a:moveTo>
                <a:lnTo>
                  <a:pt x="1361" y="0"/>
                </a:lnTo>
                <a:lnTo>
                  <a:pt x="1325" y="86"/>
                </a:lnTo>
                <a:lnTo>
                  <a:pt x="1369" y="101"/>
                </a:lnTo>
                <a:lnTo>
                  <a:pt x="1347" y="101"/>
                </a:lnTo>
                <a:lnTo>
                  <a:pt x="1311" y="223"/>
                </a:lnTo>
                <a:lnTo>
                  <a:pt x="1383" y="302"/>
                </a:lnTo>
                <a:lnTo>
                  <a:pt x="1383" y="331"/>
                </a:lnTo>
                <a:lnTo>
                  <a:pt x="1376" y="381"/>
                </a:lnTo>
                <a:lnTo>
                  <a:pt x="7" y="38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aec5e"/>
              </a:gs>
              <a:gs pos="100000">
                <a:srgbClr val="edee7d"/>
              </a:gs>
            </a:gsLst>
            <a:lin ang="13500000"/>
          </a:gradFill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51360" y="4937400"/>
            <a:ext cx="456840" cy="1287000"/>
            <a:chOff x="3951360" y="4937400"/>
            <a:chExt cx="456840" cy="1287000"/>
          </a:xfrm>
        </p:grpSpPr>
        <p:sp>
          <p:nvSpPr>
            <p:cNvPr id="375" name=""/>
            <p:cNvSpPr/>
            <p:nvPr/>
          </p:nvSpPr>
          <p:spPr>
            <a:xfrm rot="21540000">
              <a:off x="4043160" y="4940280"/>
              <a:ext cx="353880" cy="12682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1540000">
              <a:off x="3962160" y="4952880"/>
              <a:ext cx="355320" cy="12686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119920" y="4764240"/>
            <a:ext cx="212796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ransmitted 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70560" y="4695840"/>
            <a:ext cx="151992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Light 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68480" y="5267160"/>
            <a:ext cx="2195640" cy="606600"/>
          </a:xfrm>
          <a:custGeom>
            <a:avLst/>
            <a:gdLst/>
            <a:ahLst/>
            <a:rect l="l" t="t" r="r" b="b"/>
            <a:pathLst>
              <a:path w="1383" h="382">
                <a:moveTo>
                  <a:pt x="1382" y="0"/>
                </a:moveTo>
                <a:lnTo>
                  <a:pt x="22" y="0"/>
                </a:lnTo>
                <a:lnTo>
                  <a:pt x="58" y="86"/>
                </a:lnTo>
                <a:lnTo>
                  <a:pt x="14" y="101"/>
                </a:lnTo>
                <a:lnTo>
                  <a:pt x="36" y="101"/>
                </a:lnTo>
                <a:lnTo>
                  <a:pt x="72" y="223"/>
                </a:lnTo>
                <a:lnTo>
                  <a:pt x="0" y="302"/>
                </a:lnTo>
                <a:lnTo>
                  <a:pt x="0" y="331"/>
                </a:lnTo>
                <a:lnTo>
                  <a:pt x="7" y="381"/>
                </a:lnTo>
                <a:lnTo>
                  <a:pt x="1375" y="381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13500000"/>
          </a:gradFill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200" y="4511520"/>
            <a:ext cx="280296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75 nm Short Pass Fil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2680" y="6045120"/>
            <a:ext cx="15321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27000" bIns="27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&lt;575 nm 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6440" y="3695760"/>
            <a:ext cx="7772400" cy="74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tandard Short Pass Fil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1200" y="6243480"/>
            <a:ext cx="2981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tandard Band Pass Fil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91080" y="3165480"/>
            <a:ext cx="3184560" cy="878040"/>
          </a:xfrm>
          <a:custGeom>
            <a:avLst/>
            <a:gdLst/>
            <a:ahLst/>
            <a:rect l="l" t="t" r="r" b="b"/>
            <a:pathLst>
              <a:path w="2006" h="553">
                <a:moveTo>
                  <a:pt x="0" y="552"/>
                </a:moveTo>
                <a:lnTo>
                  <a:pt x="1974" y="552"/>
                </a:lnTo>
                <a:lnTo>
                  <a:pt x="1921" y="427"/>
                </a:lnTo>
                <a:lnTo>
                  <a:pt x="1984" y="406"/>
                </a:lnTo>
                <a:lnTo>
                  <a:pt x="1953" y="406"/>
                </a:lnTo>
                <a:lnTo>
                  <a:pt x="1901" y="229"/>
                </a:lnTo>
                <a:lnTo>
                  <a:pt x="2005" y="115"/>
                </a:lnTo>
                <a:lnTo>
                  <a:pt x="2005" y="73"/>
                </a:lnTo>
                <a:lnTo>
                  <a:pt x="1995" y="0"/>
                </a:lnTo>
                <a:lnTo>
                  <a:pt x="10" y="0"/>
                </a:lnTo>
                <a:lnTo>
                  <a:pt x="0" y="552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116240" y="2683440"/>
            <a:ext cx="668520" cy="1872360"/>
            <a:chOff x="4116240" y="2683440"/>
            <a:chExt cx="668520" cy="1872360"/>
          </a:xfrm>
        </p:grpSpPr>
        <p:sp>
          <p:nvSpPr>
            <p:cNvPr id="387" name=""/>
            <p:cNvSpPr/>
            <p:nvPr/>
          </p:nvSpPr>
          <p:spPr>
            <a:xfrm rot="21540000">
              <a:off x="4249440" y="2687760"/>
              <a:ext cx="519120" cy="18446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1540000">
              <a:off x="4132080" y="2706480"/>
              <a:ext cx="520560" cy="18446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815080" y="2540160"/>
            <a:ext cx="21790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ransmitted 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00520" y="2441520"/>
            <a:ext cx="2299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White Light 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43080" y="3165480"/>
            <a:ext cx="3182760" cy="878040"/>
          </a:xfrm>
          <a:custGeom>
            <a:avLst/>
            <a:gdLst/>
            <a:ahLst/>
            <a:rect l="l" t="t" r="r" b="b"/>
            <a:pathLst>
              <a:path w="2005" h="553">
                <a:moveTo>
                  <a:pt x="2004" y="0"/>
                </a:moveTo>
                <a:lnTo>
                  <a:pt x="31" y="0"/>
                </a:lnTo>
                <a:lnTo>
                  <a:pt x="84" y="125"/>
                </a:lnTo>
                <a:lnTo>
                  <a:pt x="21" y="146"/>
                </a:lnTo>
                <a:lnTo>
                  <a:pt x="52" y="146"/>
                </a:lnTo>
                <a:lnTo>
                  <a:pt x="104" y="323"/>
                </a:lnTo>
                <a:lnTo>
                  <a:pt x="0" y="437"/>
                </a:lnTo>
                <a:lnTo>
                  <a:pt x="0" y="479"/>
                </a:lnTo>
                <a:lnTo>
                  <a:pt x="10" y="552"/>
                </a:lnTo>
                <a:lnTo>
                  <a:pt x="1994" y="552"/>
                </a:lnTo>
                <a:lnTo>
                  <a:pt x="2004" y="0"/>
                </a:lnTo>
              </a:path>
            </a:pathLst>
          </a:cu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13500000"/>
          </a:gradFill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27160" y="1955880"/>
            <a:ext cx="327168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630 nm BandPass Fil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50000" y="4295880"/>
            <a:ext cx="2543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620 -640 nm 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5200" y="6472080"/>
            <a:ext cx="5267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Filter Proper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filter is placed at a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45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ang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 light source, light which would have been transmitted by that filter is still transmitted but light that would have been blocked is reflected (at a 9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g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his way, a filter is called a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dichroic filt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dichroic mi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991040" y="3276720"/>
            <a:ext cx="3659400" cy="1011240"/>
          </a:xfrm>
          <a:custGeom>
            <a:avLst/>
            <a:gdLst/>
            <a:ahLst/>
            <a:rect l="l" t="t" r="r" b="b"/>
            <a:pathLst>
              <a:path w="2305" h="637">
                <a:moveTo>
                  <a:pt x="0" y="0"/>
                </a:moveTo>
                <a:lnTo>
                  <a:pt x="2268" y="0"/>
                </a:lnTo>
                <a:lnTo>
                  <a:pt x="2208" y="144"/>
                </a:lnTo>
                <a:lnTo>
                  <a:pt x="2280" y="168"/>
                </a:lnTo>
                <a:lnTo>
                  <a:pt x="2244" y="168"/>
                </a:lnTo>
                <a:lnTo>
                  <a:pt x="2184" y="372"/>
                </a:lnTo>
                <a:lnTo>
                  <a:pt x="2304" y="504"/>
                </a:lnTo>
                <a:lnTo>
                  <a:pt x="2304" y="552"/>
                </a:lnTo>
                <a:lnTo>
                  <a:pt x="2292" y="636"/>
                </a:lnTo>
                <a:lnTo>
                  <a:pt x="426" y="63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fefefe"/>
              </a:gs>
            </a:gsLst>
            <a:lin ang="13500000"/>
          </a:gradFill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33360" y="75960"/>
            <a:ext cx="5257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chroic Filter/Mirro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3180000">
            <a:off x="4385880" y="3339720"/>
            <a:ext cx="2121120" cy="596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3180000">
            <a:off x="4310280" y="3416040"/>
            <a:ext cx="2120760" cy="596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50000">
                <a:srgbClr val="cecece"/>
              </a:gs>
              <a:gs pos="100000">
                <a:srgbClr val="292929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42840" y="3238560"/>
            <a:ext cx="4726080" cy="3411360"/>
          </a:xfrm>
          <a:custGeom>
            <a:avLst/>
            <a:gdLst/>
            <a:ahLst/>
            <a:rect l="l" t="t" r="r" b="b"/>
            <a:pathLst>
              <a:path w="2977" h="2149">
                <a:moveTo>
                  <a:pt x="72" y="0"/>
                </a:moveTo>
                <a:lnTo>
                  <a:pt x="2604" y="0"/>
                </a:lnTo>
                <a:lnTo>
                  <a:pt x="2976" y="624"/>
                </a:lnTo>
                <a:lnTo>
                  <a:pt x="2964" y="2136"/>
                </a:lnTo>
                <a:lnTo>
                  <a:pt x="2856" y="2052"/>
                </a:lnTo>
                <a:lnTo>
                  <a:pt x="2760" y="2148"/>
                </a:lnTo>
                <a:lnTo>
                  <a:pt x="2640" y="1992"/>
                </a:lnTo>
                <a:lnTo>
                  <a:pt x="2532" y="2112"/>
                </a:lnTo>
                <a:lnTo>
                  <a:pt x="2424" y="1932"/>
                </a:lnTo>
                <a:lnTo>
                  <a:pt x="2424" y="660"/>
                </a:lnTo>
                <a:lnTo>
                  <a:pt x="288" y="660"/>
                </a:lnTo>
                <a:lnTo>
                  <a:pt x="84" y="564"/>
                </a:lnTo>
                <a:lnTo>
                  <a:pt x="324" y="420"/>
                </a:lnTo>
                <a:lnTo>
                  <a:pt x="108" y="264"/>
                </a:lnTo>
                <a:lnTo>
                  <a:pt x="144" y="144"/>
                </a:lnTo>
                <a:lnTo>
                  <a:pt x="0" y="84"/>
                </a:lnTo>
                <a:lnTo>
                  <a:pt x="72" y="0"/>
                </a:lnTo>
              </a:path>
            </a:pathLst>
          </a:custGeom>
          <a:gradFill rotWithShape="0">
            <a:gsLst>
              <a:gs pos="0">
                <a:srgbClr val="063de8"/>
              </a:gs>
              <a:gs pos="50000">
                <a:srgbClr val="0536cf"/>
              </a:gs>
              <a:gs pos="100000">
                <a:srgbClr val="063de8"/>
              </a:gs>
            </a:gsLst>
            <a:lin ang="8100000"/>
          </a:gradFill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76640" y="1947960"/>
            <a:ext cx="322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Filter placed at 45</a:t>
            </a:r>
            <a:r>
              <a:rPr b="1" lang="en-US" sz="2800" spc="-1" strike="noStrike" baseline="30000">
                <a:solidFill>
                  <a:srgbClr val="fc0128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98640" y="6281640"/>
            <a:ext cx="239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flected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03720" y="2665440"/>
            <a:ext cx="259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ransmitted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5000" y="2665440"/>
            <a:ext cx="18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Light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43480" y="5710320"/>
            <a:ext cx="26766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original from Purdue University Cytometry Laboratories; modified by R.F. Mur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Filter Layou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imultaneous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asure more than one scatter or fluorescence from each cell, we typically use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ultiple channel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ultiple detec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of multiple channel layout must 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pectral propert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fluorochromes being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proper ord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filters and mi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509840" y="1509840"/>
            <a:ext cx="6426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20800" y="3006720"/>
            <a:ext cx="4273560" cy="698400"/>
          </a:xfrm>
          <a:custGeom>
            <a:avLst/>
            <a:gdLst/>
            <a:ahLst/>
            <a:rect l="l" t="t" r="r" b="b"/>
            <a:pathLst>
              <a:path w="2692" h="440">
                <a:moveTo>
                  <a:pt x="0" y="0"/>
                </a:moveTo>
                <a:lnTo>
                  <a:pt x="2691" y="0"/>
                </a:lnTo>
                <a:lnTo>
                  <a:pt x="2691" y="439"/>
                </a:lnTo>
                <a:lnTo>
                  <a:pt x="0" y="439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73360" y="301932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83160" y="301464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94400" y="301464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05640" y="3011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7980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8780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580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05240" y="301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4472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5416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6252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70520" y="301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6840" y="301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4664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5608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408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73360" y="36831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83160" y="368136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94400" y="368136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5640" y="36781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4560" y="3112920"/>
            <a:ext cx="1847880" cy="576360"/>
          </a:xfrm>
          <a:custGeom>
            <a:avLst/>
            <a:gdLst/>
            <a:ahLst/>
            <a:rect l="l" t="t" r="r" b="b"/>
            <a:pathLst>
              <a:path w="1164" h="363">
                <a:moveTo>
                  <a:pt x="0" y="357"/>
                </a:moveTo>
                <a:lnTo>
                  <a:pt x="88" y="337"/>
                </a:lnTo>
                <a:lnTo>
                  <a:pt x="103" y="328"/>
                </a:lnTo>
                <a:lnTo>
                  <a:pt x="126" y="319"/>
                </a:lnTo>
                <a:lnTo>
                  <a:pt x="155" y="302"/>
                </a:lnTo>
                <a:lnTo>
                  <a:pt x="177" y="276"/>
                </a:lnTo>
                <a:lnTo>
                  <a:pt x="200" y="254"/>
                </a:lnTo>
                <a:lnTo>
                  <a:pt x="222" y="218"/>
                </a:lnTo>
                <a:lnTo>
                  <a:pt x="244" y="193"/>
                </a:lnTo>
                <a:lnTo>
                  <a:pt x="259" y="131"/>
                </a:lnTo>
                <a:lnTo>
                  <a:pt x="274" y="92"/>
                </a:lnTo>
                <a:lnTo>
                  <a:pt x="286" y="77"/>
                </a:lnTo>
                <a:lnTo>
                  <a:pt x="300" y="55"/>
                </a:lnTo>
                <a:lnTo>
                  <a:pt x="330" y="27"/>
                </a:lnTo>
                <a:lnTo>
                  <a:pt x="392" y="24"/>
                </a:lnTo>
                <a:lnTo>
                  <a:pt x="443" y="15"/>
                </a:lnTo>
                <a:lnTo>
                  <a:pt x="532" y="5"/>
                </a:lnTo>
                <a:lnTo>
                  <a:pt x="561" y="0"/>
                </a:lnTo>
                <a:lnTo>
                  <a:pt x="606" y="5"/>
                </a:lnTo>
                <a:lnTo>
                  <a:pt x="628" y="13"/>
                </a:lnTo>
                <a:lnTo>
                  <a:pt x="680" y="29"/>
                </a:lnTo>
                <a:lnTo>
                  <a:pt x="731" y="58"/>
                </a:lnTo>
                <a:lnTo>
                  <a:pt x="776" y="111"/>
                </a:lnTo>
                <a:lnTo>
                  <a:pt x="820" y="202"/>
                </a:lnTo>
                <a:lnTo>
                  <a:pt x="850" y="250"/>
                </a:lnTo>
                <a:lnTo>
                  <a:pt x="865" y="276"/>
                </a:lnTo>
                <a:lnTo>
                  <a:pt x="886" y="286"/>
                </a:lnTo>
                <a:lnTo>
                  <a:pt x="924" y="305"/>
                </a:lnTo>
                <a:lnTo>
                  <a:pt x="990" y="319"/>
                </a:lnTo>
                <a:lnTo>
                  <a:pt x="1042" y="332"/>
                </a:lnTo>
                <a:lnTo>
                  <a:pt x="1163" y="358"/>
                </a:lnTo>
                <a:lnTo>
                  <a:pt x="456" y="360"/>
                </a:lnTo>
                <a:lnTo>
                  <a:pt x="3" y="362"/>
                </a:lnTo>
              </a:path>
            </a:pathLst>
          </a:custGeom>
          <a:gradFill rotWithShape="0">
            <a:gsLst>
              <a:gs pos="0">
                <a:srgbClr val="4d71c9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02000" y="3141720"/>
            <a:ext cx="2581200" cy="552240"/>
          </a:xfrm>
          <a:custGeom>
            <a:avLst/>
            <a:gdLst/>
            <a:ahLst/>
            <a:rect l="l" t="t" r="r" b="b"/>
            <a:pathLst>
              <a:path w="1626" h="348">
                <a:moveTo>
                  <a:pt x="0" y="347"/>
                </a:moveTo>
                <a:lnTo>
                  <a:pt x="139" y="295"/>
                </a:lnTo>
                <a:lnTo>
                  <a:pt x="212" y="265"/>
                </a:lnTo>
                <a:lnTo>
                  <a:pt x="279" y="229"/>
                </a:lnTo>
                <a:lnTo>
                  <a:pt x="338" y="200"/>
                </a:lnTo>
                <a:lnTo>
                  <a:pt x="382" y="167"/>
                </a:lnTo>
                <a:lnTo>
                  <a:pt x="442" y="134"/>
                </a:lnTo>
                <a:lnTo>
                  <a:pt x="515" y="89"/>
                </a:lnTo>
                <a:lnTo>
                  <a:pt x="575" y="50"/>
                </a:lnTo>
                <a:lnTo>
                  <a:pt x="641" y="15"/>
                </a:lnTo>
                <a:lnTo>
                  <a:pt x="670" y="4"/>
                </a:lnTo>
                <a:lnTo>
                  <a:pt x="700" y="0"/>
                </a:lnTo>
                <a:lnTo>
                  <a:pt x="714" y="0"/>
                </a:lnTo>
                <a:lnTo>
                  <a:pt x="737" y="2"/>
                </a:lnTo>
                <a:lnTo>
                  <a:pt x="759" y="6"/>
                </a:lnTo>
                <a:lnTo>
                  <a:pt x="789" y="15"/>
                </a:lnTo>
                <a:lnTo>
                  <a:pt x="833" y="47"/>
                </a:lnTo>
                <a:lnTo>
                  <a:pt x="863" y="69"/>
                </a:lnTo>
                <a:lnTo>
                  <a:pt x="914" y="100"/>
                </a:lnTo>
                <a:lnTo>
                  <a:pt x="959" y="134"/>
                </a:lnTo>
                <a:lnTo>
                  <a:pt x="1003" y="169"/>
                </a:lnTo>
                <a:lnTo>
                  <a:pt x="1144" y="256"/>
                </a:lnTo>
                <a:lnTo>
                  <a:pt x="1217" y="284"/>
                </a:lnTo>
                <a:lnTo>
                  <a:pt x="1277" y="306"/>
                </a:lnTo>
                <a:lnTo>
                  <a:pt x="1314" y="310"/>
                </a:lnTo>
                <a:lnTo>
                  <a:pt x="1365" y="319"/>
                </a:lnTo>
                <a:lnTo>
                  <a:pt x="1454" y="329"/>
                </a:lnTo>
                <a:lnTo>
                  <a:pt x="1535" y="336"/>
                </a:lnTo>
                <a:lnTo>
                  <a:pt x="1625" y="343"/>
                </a:lnTo>
                <a:lnTo>
                  <a:pt x="1" y="346"/>
                </a:lnTo>
              </a:path>
            </a:pathLst>
          </a:custGeom>
          <a:gradFill rotWithShape="0">
            <a:gsLst>
              <a:gs pos="0">
                <a:srgbClr val="f95ab7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20800" y="3740040"/>
            <a:ext cx="4259160" cy="673200"/>
          </a:xfrm>
          <a:custGeom>
            <a:avLst/>
            <a:gdLst/>
            <a:ahLst/>
            <a:rect l="l" t="t" r="r" b="b"/>
            <a:pathLst>
              <a:path w="2683" h="424">
                <a:moveTo>
                  <a:pt x="0" y="0"/>
                </a:moveTo>
                <a:lnTo>
                  <a:pt x="2682" y="0"/>
                </a:lnTo>
                <a:lnTo>
                  <a:pt x="2682" y="423"/>
                </a:lnTo>
                <a:lnTo>
                  <a:pt x="0" y="423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68680" y="3751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76680" y="374796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86480" y="374796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92680" y="374508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7656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8456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8932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94440" y="37465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4328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804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604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60800" y="37465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35400" y="37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4016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4492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5148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92680" y="44100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65400" y="3841920"/>
            <a:ext cx="1629000" cy="556920"/>
          </a:xfrm>
          <a:custGeom>
            <a:avLst/>
            <a:gdLst/>
            <a:ahLst/>
            <a:rect l="l" t="t" r="r" b="b"/>
            <a:pathLst>
              <a:path w="1026" h="351">
                <a:moveTo>
                  <a:pt x="0" y="348"/>
                </a:moveTo>
                <a:lnTo>
                  <a:pt x="36" y="346"/>
                </a:lnTo>
                <a:lnTo>
                  <a:pt x="88" y="335"/>
                </a:lnTo>
                <a:lnTo>
                  <a:pt x="125" y="322"/>
                </a:lnTo>
                <a:lnTo>
                  <a:pt x="147" y="305"/>
                </a:lnTo>
                <a:lnTo>
                  <a:pt x="184" y="269"/>
                </a:lnTo>
                <a:lnTo>
                  <a:pt x="207" y="240"/>
                </a:lnTo>
                <a:lnTo>
                  <a:pt x="228" y="200"/>
                </a:lnTo>
                <a:lnTo>
                  <a:pt x="273" y="126"/>
                </a:lnTo>
                <a:lnTo>
                  <a:pt x="309" y="92"/>
                </a:lnTo>
                <a:lnTo>
                  <a:pt x="361" y="79"/>
                </a:lnTo>
                <a:lnTo>
                  <a:pt x="405" y="68"/>
                </a:lnTo>
                <a:lnTo>
                  <a:pt x="479" y="77"/>
                </a:lnTo>
                <a:lnTo>
                  <a:pt x="531" y="81"/>
                </a:lnTo>
                <a:lnTo>
                  <a:pt x="589" y="77"/>
                </a:lnTo>
                <a:lnTo>
                  <a:pt x="656" y="59"/>
                </a:lnTo>
                <a:lnTo>
                  <a:pt x="685" y="35"/>
                </a:lnTo>
                <a:lnTo>
                  <a:pt x="715" y="18"/>
                </a:lnTo>
                <a:lnTo>
                  <a:pt x="766" y="6"/>
                </a:lnTo>
                <a:lnTo>
                  <a:pt x="803" y="0"/>
                </a:lnTo>
                <a:lnTo>
                  <a:pt x="826" y="14"/>
                </a:lnTo>
                <a:lnTo>
                  <a:pt x="811" y="77"/>
                </a:lnTo>
                <a:lnTo>
                  <a:pt x="826" y="131"/>
                </a:lnTo>
                <a:lnTo>
                  <a:pt x="833" y="183"/>
                </a:lnTo>
                <a:lnTo>
                  <a:pt x="840" y="240"/>
                </a:lnTo>
                <a:lnTo>
                  <a:pt x="855" y="275"/>
                </a:lnTo>
                <a:lnTo>
                  <a:pt x="877" y="298"/>
                </a:lnTo>
                <a:lnTo>
                  <a:pt x="899" y="316"/>
                </a:lnTo>
                <a:lnTo>
                  <a:pt x="929" y="333"/>
                </a:lnTo>
                <a:lnTo>
                  <a:pt x="958" y="342"/>
                </a:lnTo>
                <a:lnTo>
                  <a:pt x="1025" y="35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05360" y="3838680"/>
            <a:ext cx="1260360" cy="565200"/>
          </a:xfrm>
          <a:custGeom>
            <a:avLst/>
            <a:gdLst/>
            <a:ahLst/>
            <a:rect l="l" t="t" r="r" b="b"/>
            <a:pathLst>
              <a:path w="794" h="356">
                <a:moveTo>
                  <a:pt x="0" y="355"/>
                </a:moveTo>
                <a:lnTo>
                  <a:pt x="57" y="343"/>
                </a:lnTo>
                <a:lnTo>
                  <a:pt x="116" y="334"/>
                </a:lnTo>
                <a:lnTo>
                  <a:pt x="145" y="323"/>
                </a:lnTo>
                <a:lnTo>
                  <a:pt x="168" y="306"/>
                </a:lnTo>
                <a:lnTo>
                  <a:pt x="197" y="269"/>
                </a:lnTo>
                <a:lnTo>
                  <a:pt x="219" y="191"/>
                </a:lnTo>
                <a:lnTo>
                  <a:pt x="248" y="110"/>
                </a:lnTo>
                <a:lnTo>
                  <a:pt x="271" y="61"/>
                </a:lnTo>
                <a:lnTo>
                  <a:pt x="285" y="21"/>
                </a:lnTo>
                <a:lnTo>
                  <a:pt x="285" y="5"/>
                </a:lnTo>
                <a:lnTo>
                  <a:pt x="315" y="0"/>
                </a:lnTo>
                <a:lnTo>
                  <a:pt x="322" y="4"/>
                </a:lnTo>
                <a:lnTo>
                  <a:pt x="344" y="80"/>
                </a:lnTo>
                <a:lnTo>
                  <a:pt x="373" y="163"/>
                </a:lnTo>
                <a:lnTo>
                  <a:pt x="425" y="259"/>
                </a:lnTo>
                <a:lnTo>
                  <a:pt x="499" y="290"/>
                </a:lnTo>
                <a:lnTo>
                  <a:pt x="572" y="308"/>
                </a:lnTo>
                <a:lnTo>
                  <a:pt x="639" y="325"/>
                </a:lnTo>
                <a:lnTo>
                  <a:pt x="713" y="343"/>
                </a:lnTo>
                <a:lnTo>
                  <a:pt x="793" y="349"/>
                </a:lnTo>
              </a:path>
            </a:pathLst>
          </a:custGeom>
          <a:gradFill rotWithShape="0">
            <a:gsLst>
              <a:gs pos="0">
                <a:srgbClr val="f6bf6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91000" y="3160800"/>
            <a:ext cx="1470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thi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69120" y="3835440"/>
            <a:ext cx="5709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664000" y="51624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72000" y="51609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1440" y="51609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16120" y="5191200"/>
            <a:ext cx="4273560" cy="714240"/>
          </a:xfrm>
          <a:custGeom>
            <a:avLst/>
            <a:gdLst/>
            <a:ahLst/>
            <a:rect l="l" t="t" r="r" b="b"/>
            <a:pathLst>
              <a:path w="2692" h="450">
                <a:moveTo>
                  <a:pt x="0" y="0"/>
                </a:moveTo>
                <a:lnTo>
                  <a:pt x="2691" y="0"/>
                </a:lnTo>
                <a:lnTo>
                  <a:pt x="2691" y="449"/>
                </a:lnTo>
                <a:lnTo>
                  <a:pt x="0" y="449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68680" y="5202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79920" y="52005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91160" y="52005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02400" y="51973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747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845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25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02360" y="51973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400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480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5928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68720" y="51973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3600" y="5202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4160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5140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608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8680" y="589104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79920" y="58896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91160" y="58896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02400" y="58863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16120" y="5292720"/>
            <a:ext cx="560520" cy="593640"/>
          </a:xfrm>
          <a:custGeom>
            <a:avLst/>
            <a:gdLst/>
            <a:ahLst/>
            <a:rect l="l" t="t" r="r" b="b"/>
            <a:pathLst>
              <a:path w="353" h="374">
                <a:moveTo>
                  <a:pt x="0" y="369"/>
                </a:moveTo>
                <a:lnTo>
                  <a:pt x="5" y="236"/>
                </a:lnTo>
                <a:lnTo>
                  <a:pt x="16" y="192"/>
                </a:lnTo>
                <a:lnTo>
                  <a:pt x="21" y="143"/>
                </a:lnTo>
                <a:lnTo>
                  <a:pt x="36" y="112"/>
                </a:lnTo>
                <a:lnTo>
                  <a:pt x="47" y="80"/>
                </a:lnTo>
                <a:lnTo>
                  <a:pt x="57" y="52"/>
                </a:lnTo>
                <a:lnTo>
                  <a:pt x="67" y="33"/>
                </a:lnTo>
                <a:lnTo>
                  <a:pt x="83" y="17"/>
                </a:lnTo>
                <a:lnTo>
                  <a:pt x="104" y="6"/>
                </a:lnTo>
                <a:lnTo>
                  <a:pt x="125" y="0"/>
                </a:lnTo>
                <a:lnTo>
                  <a:pt x="140" y="12"/>
                </a:lnTo>
                <a:lnTo>
                  <a:pt x="151" y="29"/>
                </a:lnTo>
                <a:lnTo>
                  <a:pt x="166" y="70"/>
                </a:lnTo>
                <a:lnTo>
                  <a:pt x="181" y="128"/>
                </a:lnTo>
                <a:lnTo>
                  <a:pt x="194" y="194"/>
                </a:lnTo>
                <a:lnTo>
                  <a:pt x="209" y="237"/>
                </a:lnTo>
                <a:lnTo>
                  <a:pt x="236" y="329"/>
                </a:lnTo>
                <a:lnTo>
                  <a:pt x="352" y="373"/>
                </a:lnTo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47840" y="5302080"/>
            <a:ext cx="1208160" cy="586080"/>
          </a:xfrm>
          <a:custGeom>
            <a:avLst/>
            <a:gdLst/>
            <a:ahLst/>
            <a:rect l="l" t="t" r="r" b="b"/>
            <a:pathLst>
              <a:path w="761" h="369">
                <a:moveTo>
                  <a:pt x="0" y="368"/>
                </a:moveTo>
                <a:lnTo>
                  <a:pt x="59" y="348"/>
                </a:lnTo>
                <a:lnTo>
                  <a:pt x="88" y="339"/>
                </a:lnTo>
                <a:lnTo>
                  <a:pt x="125" y="328"/>
                </a:lnTo>
                <a:lnTo>
                  <a:pt x="154" y="308"/>
                </a:lnTo>
                <a:lnTo>
                  <a:pt x="184" y="275"/>
                </a:lnTo>
                <a:lnTo>
                  <a:pt x="214" y="195"/>
                </a:lnTo>
                <a:lnTo>
                  <a:pt x="228" y="162"/>
                </a:lnTo>
                <a:lnTo>
                  <a:pt x="236" y="105"/>
                </a:lnTo>
                <a:lnTo>
                  <a:pt x="243" y="65"/>
                </a:lnTo>
                <a:lnTo>
                  <a:pt x="243" y="41"/>
                </a:lnTo>
                <a:lnTo>
                  <a:pt x="251" y="18"/>
                </a:lnTo>
                <a:lnTo>
                  <a:pt x="257" y="6"/>
                </a:lnTo>
                <a:lnTo>
                  <a:pt x="281" y="0"/>
                </a:lnTo>
                <a:lnTo>
                  <a:pt x="302" y="5"/>
                </a:lnTo>
                <a:lnTo>
                  <a:pt x="324" y="14"/>
                </a:lnTo>
                <a:lnTo>
                  <a:pt x="347" y="27"/>
                </a:lnTo>
                <a:lnTo>
                  <a:pt x="369" y="55"/>
                </a:lnTo>
                <a:lnTo>
                  <a:pt x="399" y="88"/>
                </a:lnTo>
                <a:lnTo>
                  <a:pt x="427" y="124"/>
                </a:lnTo>
                <a:lnTo>
                  <a:pt x="465" y="171"/>
                </a:lnTo>
                <a:lnTo>
                  <a:pt x="502" y="227"/>
                </a:lnTo>
                <a:lnTo>
                  <a:pt x="539" y="276"/>
                </a:lnTo>
                <a:lnTo>
                  <a:pt x="575" y="310"/>
                </a:lnTo>
                <a:lnTo>
                  <a:pt x="612" y="330"/>
                </a:lnTo>
                <a:lnTo>
                  <a:pt x="642" y="348"/>
                </a:lnTo>
                <a:lnTo>
                  <a:pt x="679" y="357"/>
                </a:lnTo>
                <a:lnTo>
                  <a:pt x="709" y="359"/>
                </a:lnTo>
                <a:lnTo>
                  <a:pt x="760" y="366"/>
                </a:lnTo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d29e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26840" y="5402160"/>
            <a:ext cx="26910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is-Parinar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6360" y="1666800"/>
            <a:ext cx="16880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exas 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96680" y="944640"/>
            <a:ext cx="19260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-TR Con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9640" y="2357280"/>
            <a:ext cx="453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20800" y="2309760"/>
            <a:ext cx="4273560" cy="674640"/>
          </a:xfrm>
          <a:custGeom>
            <a:avLst/>
            <a:gdLst/>
            <a:ahLst/>
            <a:rect l="l" t="t" r="r" b="b"/>
            <a:pathLst>
              <a:path w="2692" h="425">
                <a:moveTo>
                  <a:pt x="0" y="0"/>
                </a:moveTo>
                <a:lnTo>
                  <a:pt x="2691" y="0"/>
                </a:lnTo>
                <a:lnTo>
                  <a:pt x="2691" y="424"/>
                </a:lnTo>
                <a:lnTo>
                  <a:pt x="0" y="424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73360" y="23209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83160" y="231948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94400" y="231948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05640" y="231624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7980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8780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9580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05240" y="23162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4472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5272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6252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70520" y="23162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36840" y="2320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4664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5608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6408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73360" y="29703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83160" y="29671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94400" y="29671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05640" y="29653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84440" y="2421000"/>
            <a:ext cx="2298600" cy="554040"/>
          </a:xfrm>
          <a:custGeom>
            <a:avLst/>
            <a:gdLst/>
            <a:ahLst/>
            <a:rect l="l" t="t" r="r" b="b"/>
            <a:pathLst>
              <a:path w="1448" h="349">
                <a:moveTo>
                  <a:pt x="3" y="342"/>
                </a:moveTo>
                <a:lnTo>
                  <a:pt x="99" y="320"/>
                </a:lnTo>
                <a:lnTo>
                  <a:pt x="211" y="297"/>
                </a:lnTo>
                <a:lnTo>
                  <a:pt x="269" y="286"/>
                </a:lnTo>
                <a:lnTo>
                  <a:pt x="336" y="267"/>
                </a:lnTo>
                <a:lnTo>
                  <a:pt x="372" y="255"/>
                </a:lnTo>
                <a:lnTo>
                  <a:pt x="417" y="233"/>
                </a:lnTo>
                <a:lnTo>
                  <a:pt x="469" y="205"/>
                </a:lnTo>
                <a:lnTo>
                  <a:pt x="499" y="185"/>
                </a:lnTo>
                <a:lnTo>
                  <a:pt x="535" y="155"/>
                </a:lnTo>
                <a:lnTo>
                  <a:pt x="572" y="123"/>
                </a:lnTo>
                <a:lnTo>
                  <a:pt x="610" y="93"/>
                </a:lnTo>
                <a:lnTo>
                  <a:pt x="647" y="74"/>
                </a:lnTo>
                <a:lnTo>
                  <a:pt x="661" y="64"/>
                </a:lnTo>
                <a:lnTo>
                  <a:pt x="684" y="49"/>
                </a:lnTo>
                <a:lnTo>
                  <a:pt x="735" y="21"/>
                </a:lnTo>
                <a:lnTo>
                  <a:pt x="801" y="5"/>
                </a:lnTo>
                <a:lnTo>
                  <a:pt x="831" y="0"/>
                </a:lnTo>
                <a:lnTo>
                  <a:pt x="875" y="5"/>
                </a:lnTo>
                <a:lnTo>
                  <a:pt x="898" y="13"/>
                </a:lnTo>
                <a:lnTo>
                  <a:pt x="949" y="28"/>
                </a:lnTo>
                <a:lnTo>
                  <a:pt x="1002" y="57"/>
                </a:lnTo>
                <a:lnTo>
                  <a:pt x="1046" y="108"/>
                </a:lnTo>
                <a:lnTo>
                  <a:pt x="1090" y="197"/>
                </a:lnTo>
                <a:lnTo>
                  <a:pt x="1120" y="244"/>
                </a:lnTo>
                <a:lnTo>
                  <a:pt x="1134" y="269"/>
                </a:lnTo>
                <a:lnTo>
                  <a:pt x="1156" y="280"/>
                </a:lnTo>
                <a:lnTo>
                  <a:pt x="1193" y="297"/>
                </a:lnTo>
                <a:lnTo>
                  <a:pt x="1260" y="312"/>
                </a:lnTo>
                <a:lnTo>
                  <a:pt x="1312" y="324"/>
                </a:lnTo>
                <a:lnTo>
                  <a:pt x="1378" y="340"/>
                </a:lnTo>
                <a:lnTo>
                  <a:pt x="1407" y="331"/>
                </a:lnTo>
                <a:lnTo>
                  <a:pt x="1447" y="348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94120" y="2427120"/>
            <a:ext cx="1924200" cy="547920"/>
          </a:xfrm>
          <a:custGeom>
            <a:avLst/>
            <a:gdLst/>
            <a:ahLst/>
            <a:rect l="l" t="t" r="r" b="b"/>
            <a:pathLst>
              <a:path w="1212" h="345">
                <a:moveTo>
                  <a:pt x="0" y="344"/>
                </a:moveTo>
                <a:lnTo>
                  <a:pt x="79" y="301"/>
                </a:lnTo>
                <a:lnTo>
                  <a:pt x="168" y="260"/>
                </a:lnTo>
                <a:lnTo>
                  <a:pt x="242" y="218"/>
                </a:lnTo>
                <a:lnTo>
                  <a:pt x="294" y="190"/>
                </a:lnTo>
                <a:lnTo>
                  <a:pt x="338" y="163"/>
                </a:lnTo>
                <a:lnTo>
                  <a:pt x="398" y="131"/>
                </a:lnTo>
                <a:lnTo>
                  <a:pt x="471" y="87"/>
                </a:lnTo>
                <a:lnTo>
                  <a:pt x="531" y="49"/>
                </a:lnTo>
                <a:lnTo>
                  <a:pt x="597" y="15"/>
                </a:lnTo>
                <a:lnTo>
                  <a:pt x="627" y="5"/>
                </a:lnTo>
                <a:lnTo>
                  <a:pt x="656" y="0"/>
                </a:lnTo>
                <a:lnTo>
                  <a:pt x="671" y="0"/>
                </a:lnTo>
                <a:lnTo>
                  <a:pt x="694" y="2"/>
                </a:lnTo>
                <a:lnTo>
                  <a:pt x="716" y="6"/>
                </a:lnTo>
                <a:lnTo>
                  <a:pt x="746" y="15"/>
                </a:lnTo>
                <a:lnTo>
                  <a:pt x="789" y="47"/>
                </a:lnTo>
                <a:lnTo>
                  <a:pt x="819" y="68"/>
                </a:lnTo>
                <a:lnTo>
                  <a:pt x="871" y="98"/>
                </a:lnTo>
                <a:lnTo>
                  <a:pt x="915" y="131"/>
                </a:lnTo>
                <a:lnTo>
                  <a:pt x="960" y="165"/>
                </a:lnTo>
                <a:lnTo>
                  <a:pt x="989" y="196"/>
                </a:lnTo>
                <a:lnTo>
                  <a:pt x="1041" y="234"/>
                </a:lnTo>
                <a:lnTo>
                  <a:pt x="1093" y="263"/>
                </a:lnTo>
                <a:lnTo>
                  <a:pt x="1130" y="296"/>
                </a:lnTo>
                <a:lnTo>
                  <a:pt x="1160" y="313"/>
                </a:lnTo>
                <a:lnTo>
                  <a:pt x="1211" y="338"/>
                </a:lnTo>
              </a:path>
            </a:pathLst>
          </a:custGeom>
          <a:gradFill rotWithShape="0">
            <a:gsLst>
              <a:gs pos="0">
                <a:srgbClr val="f95ab7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19360" y="1563840"/>
            <a:ext cx="4275000" cy="701640"/>
          </a:xfrm>
          <a:custGeom>
            <a:avLst/>
            <a:gdLst/>
            <a:ahLst/>
            <a:rect l="l" t="t" r="r" b="b"/>
            <a:pathLst>
              <a:path w="2693" h="442">
                <a:moveTo>
                  <a:pt x="0" y="0"/>
                </a:moveTo>
                <a:lnTo>
                  <a:pt x="2692" y="0"/>
                </a:lnTo>
                <a:lnTo>
                  <a:pt x="2692" y="441"/>
                </a:lnTo>
                <a:lnTo>
                  <a:pt x="0" y="441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58960" y="1573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75240" y="157176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89360" y="157176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03840" y="15685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65400" y="1571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7808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9112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0236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30320" y="1571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4156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5604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6872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24240" y="15746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35480" y="1571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49600" y="1571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264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58960" y="22510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75240" y="2247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89360" y="2247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03840" y="22464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83160" y="1665360"/>
            <a:ext cx="1463400" cy="585720"/>
          </a:xfrm>
          <a:custGeom>
            <a:avLst/>
            <a:gdLst/>
            <a:ahLst/>
            <a:rect l="l" t="t" r="r" b="b"/>
            <a:pathLst>
              <a:path w="922" h="369">
                <a:moveTo>
                  <a:pt x="0" y="366"/>
                </a:moveTo>
                <a:lnTo>
                  <a:pt x="37" y="360"/>
                </a:lnTo>
                <a:lnTo>
                  <a:pt x="52" y="355"/>
                </a:lnTo>
                <a:lnTo>
                  <a:pt x="74" y="344"/>
                </a:lnTo>
                <a:lnTo>
                  <a:pt x="97" y="336"/>
                </a:lnTo>
                <a:lnTo>
                  <a:pt x="126" y="323"/>
                </a:lnTo>
                <a:lnTo>
                  <a:pt x="149" y="307"/>
                </a:lnTo>
                <a:lnTo>
                  <a:pt x="186" y="289"/>
                </a:lnTo>
                <a:lnTo>
                  <a:pt x="223" y="274"/>
                </a:lnTo>
                <a:lnTo>
                  <a:pt x="282" y="249"/>
                </a:lnTo>
                <a:lnTo>
                  <a:pt x="356" y="218"/>
                </a:lnTo>
                <a:lnTo>
                  <a:pt x="423" y="185"/>
                </a:lnTo>
                <a:lnTo>
                  <a:pt x="468" y="153"/>
                </a:lnTo>
                <a:lnTo>
                  <a:pt x="498" y="108"/>
                </a:lnTo>
                <a:lnTo>
                  <a:pt x="520" y="75"/>
                </a:lnTo>
                <a:lnTo>
                  <a:pt x="549" y="29"/>
                </a:lnTo>
                <a:lnTo>
                  <a:pt x="565" y="9"/>
                </a:lnTo>
                <a:lnTo>
                  <a:pt x="572" y="0"/>
                </a:lnTo>
                <a:lnTo>
                  <a:pt x="602" y="3"/>
                </a:lnTo>
                <a:lnTo>
                  <a:pt x="623" y="14"/>
                </a:lnTo>
                <a:lnTo>
                  <a:pt x="638" y="35"/>
                </a:lnTo>
                <a:lnTo>
                  <a:pt x="675" y="106"/>
                </a:lnTo>
                <a:lnTo>
                  <a:pt x="698" y="179"/>
                </a:lnTo>
                <a:lnTo>
                  <a:pt x="713" y="239"/>
                </a:lnTo>
                <a:lnTo>
                  <a:pt x="735" y="287"/>
                </a:lnTo>
                <a:lnTo>
                  <a:pt x="765" y="309"/>
                </a:lnTo>
                <a:lnTo>
                  <a:pt x="809" y="328"/>
                </a:lnTo>
                <a:lnTo>
                  <a:pt x="832" y="339"/>
                </a:lnTo>
                <a:lnTo>
                  <a:pt x="861" y="349"/>
                </a:lnTo>
                <a:lnTo>
                  <a:pt x="891" y="360"/>
                </a:lnTo>
                <a:lnTo>
                  <a:pt x="921" y="368"/>
                </a:lnTo>
              </a:path>
            </a:pathLst>
          </a:custGeom>
          <a:gradFill rotWithShape="0">
            <a:gsLst>
              <a:gs pos="0">
                <a:srgbClr val="f35b1b"/>
              </a:gs>
              <a:gs pos="100000">
                <a:srgbClr val="f69b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37000" y="1693800"/>
            <a:ext cx="1535040" cy="561960"/>
          </a:xfrm>
          <a:custGeom>
            <a:avLst/>
            <a:gdLst/>
            <a:ahLst/>
            <a:rect l="l" t="t" r="r" b="b"/>
            <a:pathLst>
              <a:path w="967" h="354">
                <a:moveTo>
                  <a:pt x="0" y="352"/>
                </a:moveTo>
                <a:lnTo>
                  <a:pt x="16" y="345"/>
                </a:lnTo>
                <a:lnTo>
                  <a:pt x="61" y="325"/>
                </a:lnTo>
                <a:lnTo>
                  <a:pt x="83" y="303"/>
                </a:lnTo>
                <a:lnTo>
                  <a:pt x="97" y="281"/>
                </a:lnTo>
                <a:lnTo>
                  <a:pt x="119" y="246"/>
                </a:lnTo>
                <a:lnTo>
                  <a:pt x="149" y="200"/>
                </a:lnTo>
                <a:lnTo>
                  <a:pt x="187" y="144"/>
                </a:lnTo>
                <a:lnTo>
                  <a:pt x="238" y="86"/>
                </a:lnTo>
                <a:lnTo>
                  <a:pt x="268" y="60"/>
                </a:lnTo>
                <a:lnTo>
                  <a:pt x="297" y="33"/>
                </a:lnTo>
                <a:lnTo>
                  <a:pt x="319" y="17"/>
                </a:lnTo>
                <a:lnTo>
                  <a:pt x="349" y="5"/>
                </a:lnTo>
                <a:lnTo>
                  <a:pt x="386" y="0"/>
                </a:lnTo>
                <a:lnTo>
                  <a:pt x="431" y="14"/>
                </a:lnTo>
                <a:lnTo>
                  <a:pt x="453" y="40"/>
                </a:lnTo>
                <a:lnTo>
                  <a:pt x="476" y="69"/>
                </a:lnTo>
                <a:lnTo>
                  <a:pt x="505" y="121"/>
                </a:lnTo>
                <a:lnTo>
                  <a:pt x="519" y="154"/>
                </a:lnTo>
                <a:lnTo>
                  <a:pt x="543" y="181"/>
                </a:lnTo>
                <a:lnTo>
                  <a:pt x="579" y="217"/>
                </a:lnTo>
                <a:lnTo>
                  <a:pt x="624" y="272"/>
                </a:lnTo>
                <a:lnTo>
                  <a:pt x="669" y="298"/>
                </a:lnTo>
                <a:lnTo>
                  <a:pt x="705" y="307"/>
                </a:lnTo>
                <a:lnTo>
                  <a:pt x="758" y="320"/>
                </a:lnTo>
                <a:lnTo>
                  <a:pt x="817" y="333"/>
                </a:lnTo>
                <a:lnTo>
                  <a:pt x="861" y="338"/>
                </a:lnTo>
                <a:lnTo>
                  <a:pt x="921" y="345"/>
                </a:lnTo>
                <a:lnTo>
                  <a:pt x="966" y="353"/>
                </a:lnTo>
              </a:path>
            </a:pathLst>
          </a:custGeom>
          <a:gradFill rotWithShape="0">
            <a:gsLst>
              <a:gs pos="0">
                <a:srgbClr val="cf0e30"/>
              </a:gs>
              <a:gs pos="100000">
                <a:srgbClr val="d326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7560" y="825480"/>
            <a:ext cx="4260960" cy="706320"/>
          </a:xfrm>
          <a:custGeom>
            <a:avLst/>
            <a:gdLst/>
            <a:ahLst/>
            <a:rect l="l" t="t" r="r" b="b"/>
            <a:pathLst>
              <a:path w="2684" h="445">
                <a:moveTo>
                  <a:pt x="0" y="0"/>
                </a:moveTo>
                <a:lnTo>
                  <a:pt x="2683" y="0"/>
                </a:lnTo>
                <a:lnTo>
                  <a:pt x="2683" y="444"/>
                </a:lnTo>
                <a:lnTo>
                  <a:pt x="0" y="444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4000" y="83664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73440" y="835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83240" y="835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91240" y="8319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7476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7988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8608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92640" y="831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3824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4624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7920" y="831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30360" y="836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3692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4348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5004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4000" y="151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73440" y="1512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683240" y="1512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91240" y="151128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33800" y="925560"/>
            <a:ext cx="2376360" cy="598320"/>
          </a:xfrm>
          <a:custGeom>
            <a:avLst/>
            <a:gdLst/>
            <a:ahLst/>
            <a:rect l="l" t="t" r="r" b="b"/>
            <a:pathLst>
              <a:path w="1497" h="377">
                <a:moveTo>
                  <a:pt x="0" y="376"/>
                </a:moveTo>
                <a:lnTo>
                  <a:pt x="73" y="363"/>
                </a:lnTo>
                <a:lnTo>
                  <a:pt x="125" y="347"/>
                </a:lnTo>
                <a:lnTo>
                  <a:pt x="177" y="330"/>
                </a:lnTo>
                <a:lnTo>
                  <a:pt x="228" y="312"/>
                </a:lnTo>
                <a:lnTo>
                  <a:pt x="250" y="290"/>
                </a:lnTo>
                <a:lnTo>
                  <a:pt x="280" y="259"/>
                </a:lnTo>
                <a:lnTo>
                  <a:pt x="317" y="243"/>
                </a:lnTo>
                <a:lnTo>
                  <a:pt x="368" y="230"/>
                </a:lnTo>
                <a:lnTo>
                  <a:pt x="419" y="225"/>
                </a:lnTo>
                <a:lnTo>
                  <a:pt x="471" y="214"/>
                </a:lnTo>
                <a:lnTo>
                  <a:pt x="486" y="201"/>
                </a:lnTo>
                <a:lnTo>
                  <a:pt x="530" y="155"/>
                </a:lnTo>
                <a:lnTo>
                  <a:pt x="560" y="117"/>
                </a:lnTo>
                <a:lnTo>
                  <a:pt x="582" y="86"/>
                </a:lnTo>
                <a:lnTo>
                  <a:pt x="604" y="51"/>
                </a:lnTo>
                <a:lnTo>
                  <a:pt x="626" y="21"/>
                </a:lnTo>
                <a:lnTo>
                  <a:pt x="641" y="4"/>
                </a:lnTo>
                <a:lnTo>
                  <a:pt x="678" y="0"/>
                </a:lnTo>
                <a:lnTo>
                  <a:pt x="708" y="6"/>
                </a:lnTo>
                <a:lnTo>
                  <a:pt x="744" y="29"/>
                </a:lnTo>
                <a:lnTo>
                  <a:pt x="774" y="75"/>
                </a:lnTo>
                <a:lnTo>
                  <a:pt x="796" y="195"/>
                </a:lnTo>
                <a:lnTo>
                  <a:pt x="869" y="319"/>
                </a:lnTo>
                <a:lnTo>
                  <a:pt x="892" y="339"/>
                </a:lnTo>
                <a:lnTo>
                  <a:pt x="958" y="343"/>
                </a:lnTo>
                <a:lnTo>
                  <a:pt x="1039" y="346"/>
                </a:lnTo>
                <a:lnTo>
                  <a:pt x="1091" y="346"/>
                </a:lnTo>
                <a:lnTo>
                  <a:pt x="1149" y="336"/>
                </a:lnTo>
                <a:lnTo>
                  <a:pt x="1186" y="319"/>
                </a:lnTo>
                <a:lnTo>
                  <a:pt x="1260" y="299"/>
                </a:lnTo>
                <a:lnTo>
                  <a:pt x="1348" y="303"/>
                </a:lnTo>
                <a:lnTo>
                  <a:pt x="1408" y="333"/>
                </a:lnTo>
                <a:lnTo>
                  <a:pt x="1444" y="358"/>
                </a:lnTo>
                <a:lnTo>
                  <a:pt x="1496" y="376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60960" y="932040"/>
            <a:ext cx="1709640" cy="595080"/>
          </a:xfrm>
          <a:custGeom>
            <a:avLst/>
            <a:gdLst/>
            <a:ahLst/>
            <a:rect l="l" t="t" r="r" b="b"/>
            <a:pathLst>
              <a:path w="1077" h="375">
                <a:moveTo>
                  <a:pt x="0" y="366"/>
                </a:moveTo>
                <a:lnTo>
                  <a:pt x="34" y="364"/>
                </a:lnTo>
                <a:lnTo>
                  <a:pt x="93" y="351"/>
                </a:lnTo>
                <a:lnTo>
                  <a:pt x="182" y="346"/>
                </a:lnTo>
                <a:lnTo>
                  <a:pt x="248" y="356"/>
                </a:lnTo>
                <a:lnTo>
                  <a:pt x="321" y="372"/>
                </a:lnTo>
                <a:lnTo>
                  <a:pt x="388" y="370"/>
                </a:lnTo>
                <a:lnTo>
                  <a:pt x="447" y="362"/>
                </a:lnTo>
                <a:lnTo>
                  <a:pt x="498" y="348"/>
                </a:lnTo>
                <a:lnTo>
                  <a:pt x="535" y="331"/>
                </a:lnTo>
                <a:lnTo>
                  <a:pt x="557" y="299"/>
                </a:lnTo>
                <a:lnTo>
                  <a:pt x="572" y="255"/>
                </a:lnTo>
                <a:lnTo>
                  <a:pt x="609" y="193"/>
                </a:lnTo>
                <a:lnTo>
                  <a:pt x="631" y="129"/>
                </a:lnTo>
                <a:lnTo>
                  <a:pt x="646" y="85"/>
                </a:lnTo>
                <a:lnTo>
                  <a:pt x="668" y="49"/>
                </a:lnTo>
                <a:lnTo>
                  <a:pt x="675" y="22"/>
                </a:lnTo>
                <a:lnTo>
                  <a:pt x="698" y="0"/>
                </a:lnTo>
                <a:lnTo>
                  <a:pt x="756" y="36"/>
                </a:lnTo>
                <a:lnTo>
                  <a:pt x="786" y="73"/>
                </a:lnTo>
                <a:lnTo>
                  <a:pt x="816" y="106"/>
                </a:lnTo>
                <a:lnTo>
                  <a:pt x="830" y="149"/>
                </a:lnTo>
                <a:lnTo>
                  <a:pt x="845" y="173"/>
                </a:lnTo>
                <a:lnTo>
                  <a:pt x="860" y="195"/>
                </a:lnTo>
                <a:lnTo>
                  <a:pt x="882" y="228"/>
                </a:lnTo>
                <a:lnTo>
                  <a:pt x="904" y="264"/>
                </a:lnTo>
                <a:lnTo>
                  <a:pt x="926" y="284"/>
                </a:lnTo>
                <a:lnTo>
                  <a:pt x="955" y="299"/>
                </a:lnTo>
                <a:lnTo>
                  <a:pt x="993" y="313"/>
                </a:lnTo>
                <a:lnTo>
                  <a:pt x="1007" y="323"/>
                </a:lnTo>
                <a:lnTo>
                  <a:pt x="1076" y="329"/>
                </a:lnTo>
                <a:lnTo>
                  <a:pt x="1074" y="370"/>
                </a:lnTo>
                <a:lnTo>
                  <a:pt x="11" y="374"/>
                </a:lnTo>
              </a:path>
            </a:pathLst>
          </a:custGeom>
          <a:gradFill rotWithShape="0">
            <a:gsLst>
              <a:gs pos="0">
                <a:srgbClr val="6e004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46600" y="855720"/>
            <a:ext cx="0" cy="1384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86440" y="857160"/>
            <a:ext cx="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68680" y="441648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76680" y="44132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86480" y="44132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20800" y="4441680"/>
            <a:ext cx="4259160" cy="714600"/>
          </a:xfrm>
          <a:custGeom>
            <a:avLst/>
            <a:gdLst/>
            <a:ahLst/>
            <a:rect l="l" t="t" r="r" b="b"/>
            <a:pathLst>
              <a:path w="2683" h="450">
                <a:moveTo>
                  <a:pt x="0" y="0"/>
                </a:moveTo>
                <a:lnTo>
                  <a:pt x="2682" y="0"/>
                </a:lnTo>
                <a:lnTo>
                  <a:pt x="2682" y="449"/>
                </a:lnTo>
                <a:lnTo>
                  <a:pt x="0" y="449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73360" y="44560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83160" y="4452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94400" y="4452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05640" y="444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7980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580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05240" y="4448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4472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272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70520" y="4448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6840" y="445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4664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5608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6408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73360" y="514368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683160" y="51404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94400" y="51404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05640" y="513720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00440" y="4551480"/>
            <a:ext cx="1361880" cy="595080"/>
          </a:xfrm>
          <a:custGeom>
            <a:avLst/>
            <a:gdLst/>
            <a:ahLst/>
            <a:rect l="l" t="t" r="r" b="b"/>
            <a:pathLst>
              <a:path w="858" h="375">
                <a:moveTo>
                  <a:pt x="0" y="374"/>
                </a:moveTo>
                <a:lnTo>
                  <a:pt x="59" y="363"/>
                </a:lnTo>
                <a:lnTo>
                  <a:pt x="88" y="352"/>
                </a:lnTo>
                <a:lnTo>
                  <a:pt x="133" y="339"/>
                </a:lnTo>
                <a:lnTo>
                  <a:pt x="148" y="325"/>
                </a:lnTo>
                <a:lnTo>
                  <a:pt x="192" y="307"/>
                </a:lnTo>
                <a:lnTo>
                  <a:pt x="236" y="289"/>
                </a:lnTo>
                <a:lnTo>
                  <a:pt x="273" y="269"/>
                </a:lnTo>
                <a:lnTo>
                  <a:pt x="281" y="251"/>
                </a:lnTo>
                <a:lnTo>
                  <a:pt x="296" y="204"/>
                </a:lnTo>
                <a:lnTo>
                  <a:pt x="303" y="152"/>
                </a:lnTo>
                <a:lnTo>
                  <a:pt x="325" y="119"/>
                </a:lnTo>
                <a:lnTo>
                  <a:pt x="340" y="85"/>
                </a:lnTo>
                <a:lnTo>
                  <a:pt x="355" y="55"/>
                </a:lnTo>
                <a:lnTo>
                  <a:pt x="369" y="35"/>
                </a:lnTo>
                <a:lnTo>
                  <a:pt x="392" y="18"/>
                </a:lnTo>
                <a:lnTo>
                  <a:pt x="422" y="6"/>
                </a:lnTo>
                <a:lnTo>
                  <a:pt x="451" y="0"/>
                </a:lnTo>
                <a:lnTo>
                  <a:pt x="473" y="13"/>
                </a:lnTo>
                <a:lnTo>
                  <a:pt x="503" y="42"/>
                </a:lnTo>
                <a:lnTo>
                  <a:pt x="518" y="63"/>
                </a:lnTo>
                <a:lnTo>
                  <a:pt x="532" y="83"/>
                </a:lnTo>
                <a:lnTo>
                  <a:pt x="561" y="125"/>
                </a:lnTo>
                <a:lnTo>
                  <a:pt x="621" y="188"/>
                </a:lnTo>
                <a:lnTo>
                  <a:pt x="650" y="229"/>
                </a:lnTo>
                <a:lnTo>
                  <a:pt x="694" y="267"/>
                </a:lnTo>
                <a:lnTo>
                  <a:pt x="732" y="303"/>
                </a:lnTo>
                <a:lnTo>
                  <a:pt x="746" y="316"/>
                </a:lnTo>
                <a:lnTo>
                  <a:pt x="754" y="325"/>
                </a:lnTo>
                <a:lnTo>
                  <a:pt x="769" y="334"/>
                </a:lnTo>
                <a:lnTo>
                  <a:pt x="812" y="352"/>
                </a:lnTo>
                <a:lnTo>
                  <a:pt x="857" y="37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70400" y="4524480"/>
            <a:ext cx="1209600" cy="595080"/>
          </a:xfrm>
          <a:custGeom>
            <a:avLst/>
            <a:gdLst/>
            <a:ahLst/>
            <a:rect l="l" t="t" r="r" b="b"/>
            <a:pathLst>
              <a:path w="762" h="375">
                <a:moveTo>
                  <a:pt x="0" y="374"/>
                </a:moveTo>
                <a:lnTo>
                  <a:pt x="59" y="348"/>
                </a:lnTo>
                <a:lnTo>
                  <a:pt x="88" y="340"/>
                </a:lnTo>
                <a:lnTo>
                  <a:pt x="126" y="329"/>
                </a:lnTo>
                <a:lnTo>
                  <a:pt x="155" y="308"/>
                </a:lnTo>
                <a:lnTo>
                  <a:pt x="184" y="275"/>
                </a:lnTo>
                <a:lnTo>
                  <a:pt x="214" y="195"/>
                </a:lnTo>
                <a:lnTo>
                  <a:pt x="228" y="162"/>
                </a:lnTo>
                <a:lnTo>
                  <a:pt x="236" y="106"/>
                </a:lnTo>
                <a:lnTo>
                  <a:pt x="243" y="65"/>
                </a:lnTo>
                <a:lnTo>
                  <a:pt x="243" y="41"/>
                </a:lnTo>
                <a:lnTo>
                  <a:pt x="251" y="18"/>
                </a:lnTo>
                <a:lnTo>
                  <a:pt x="258" y="6"/>
                </a:lnTo>
                <a:lnTo>
                  <a:pt x="281" y="0"/>
                </a:lnTo>
                <a:lnTo>
                  <a:pt x="302" y="5"/>
                </a:lnTo>
                <a:lnTo>
                  <a:pt x="325" y="14"/>
                </a:lnTo>
                <a:lnTo>
                  <a:pt x="347" y="27"/>
                </a:lnTo>
                <a:lnTo>
                  <a:pt x="369" y="55"/>
                </a:lnTo>
                <a:lnTo>
                  <a:pt x="399" y="88"/>
                </a:lnTo>
                <a:lnTo>
                  <a:pt x="428" y="124"/>
                </a:lnTo>
                <a:lnTo>
                  <a:pt x="465" y="171"/>
                </a:lnTo>
                <a:lnTo>
                  <a:pt x="502" y="227"/>
                </a:lnTo>
                <a:lnTo>
                  <a:pt x="540" y="277"/>
                </a:lnTo>
                <a:lnTo>
                  <a:pt x="576" y="310"/>
                </a:lnTo>
                <a:lnTo>
                  <a:pt x="613" y="330"/>
                </a:lnTo>
                <a:lnTo>
                  <a:pt x="643" y="348"/>
                </a:lnTo>
                <a:lnTo>
                  <a:pt x="680" y="357"/>
                </a:lnTo>
                <a:lnTo>
                  <a:pt x="710" y="359"/>
                </a:lnTo>
                <a:lnTo>
                  <a:pt x="761" y="367"/>
                </a:lnTo>
              </a:path>
            </a:pathLst>
          </a:custGeom>
          <a:gradFill rotWithShape="0">
            <a:gsLst>
              <a:gs pos="0">
                <a:srgbClr val="51dc00"/>
              </a:gs>
              <a:gs pos="100000">
                <a:srgbClr val="a7ec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44560" y="4608360"/>
            <a:ext cx="8424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I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98960" y="858960"/>
            <a:ext cx="0" cy="4981320"/>
          </a:xfrm>
          <a:prstGeom prst="line">
            <a:avLst/>
          </a:prstGeom>
          <a:ln w="50760">
            <a:solidFill>
              <a:srgbClr val="a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49600" y="853920"/>
            <a:ext cx="12600" cy="500076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30760" y="858960"/>
            <a:ext cx="4680" cy="4278240"/>
          </a:xfrm>
          <a:prstGeom prst="line">
            <a:avLst/>
          </a:prstGeom>
          <a:ln w="50760">
            <a:solidFill>
              <a:srgbClr val="86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1920" y="865080"/>
            <a:ext cx="0" cy="4984920"/>
          </a:xfrm>
          <a:prstGeom prst="line">
            <a:avLst/>
          </a:prstGeom>
          <a:ln w="50760">
            <a:solidFill>
              <a:srgbClr val="de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49400" y="5219640"/>
            <a:ext cx="0" cy="639720"/>
          </a:xfrm>
          <a:prstGeom prst="line">
            <a:avLst/>
          </a:prstGeom>
          <a:ln w="5076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514520" y="304920"/>
            <a:ext cx="4511880" cy="544680"/>
            <a:chOff x="1514520" y="304920"/>
            <a:chExt cx="4511880" cy="544680"/>
          </a:xfrm>
        </p:grpSpPr>
        <p:sp>
          <p:nvSpPr>
            <p:cNvPr id="589" name=""/>
            <p:cNvSpPr/>
            <p:nvPr/>
          </p:nvSpPr>
          <p:spPr>
            <a:xfrm>
              <a:off x="4311360" y="568440"/>
              <a:ext cx="732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fafd00"/>
                  </a:solidFill>
                  <a:latin typeface="Arial"/>
                </a:rPr>
                <a:t>600 n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514520" y="304920"/>
              <a:ext cx="4511880" cy="544680"/>
              <a:chOff x="1514520" y="304920"/>
              <a:chExt cx="4511880" cy="544680"/>
            </a:xfrm>
          </p:grpSpPr>
          <p:sp>
            <p:nvSpPr>
              <p:cNvPr id="591" name=""/>
              <p:cNvSpPr/>
              <p:nvPr/>
            </p:nvSpPr>
            <p:spPr>
              <a:xfrm>
                <a:off x="1514520" y="568440"/>
                <a:ext cx="8031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</a:rPr>
                  <a:t>300 nm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321000" y="568440"/>
                <a:ext cx="8031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</a:rPr>
                  <a:t>500 nm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93800" y="568440"/>
                <a:ext cx="7326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</a:rPr>
                  <a:t>700 nm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32080" y="568440"/>
                <a:ext cx="8031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</a:rPr>
                  <a:t>400 nm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84320" y="304920"/>
                <a:ext cx="574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45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49320" y="304920"/>
                <a:ext cx="574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3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10160" y="304920"/>
                <a:ext cx="57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51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44920" y="304920"/>
                <a:ext cx="574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6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916520" y="304920"/>
                <a:ext cx="57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63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65560" y="304920"/>
                <a:ext cx="57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</a:rPr>
                  <a:t>48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04200" y="281160"/>
            <a:ext cx="13532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m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s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5200" y="6472080"/>
            <a:ext cx="5267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227720" y="949320"/>
            <a:ext cx="551160" cy="522360"/>
          </a:xfrm>
          <a:custGeom>
            <a:avLst/>
            <a:gdLst/>
            <a:ahLst/>
            <a:rect l="l" t="t" r="r" b="b"/>
            <a:pathLst>
              <a:path w="347" h="329">
                <a:moveTo>
                  <a:pt x="0" y="0"/>
                </a:moveTo>
                <a:lnTo>
                  <a:pt x="346" y="0"/>
                </a:lnTo>
                <a:lnTo>
                  <a:pt x="346" y="328"/>
                </a:lnTo>
                <a:lnTo>
                  <a:pt x="0" y="32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76880" y="4005360"/>
            <a:ext cx="455400" cy="0"/>
          </a:xfrm>
          <a:prstGeom prst="line">
            <a:avLst/>
          </a:prstGeom>
          <a:ln w="7632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08680" y="3068640"/>
            <a:ext cx="649440" cy="0"/>
          </a:xfrm>
          <a:prstGeom prst="line">
            <a:avLst/>
          </a:prstGeom>
          <a:ln w="50760">
            <a:solidFill>
              <a:srgbClr val="04d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12040" y="2319480"/>
            <a:ext cx="5000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27520" y="3745080"/>
            <a:ext cx="550800" cy="522000"/>
          </a:xfrm>
          <a:custGeom>
            <a:avLst/>
            <a:gdLst/>
            <a:ahLst/>
            <a:rect l="l" t="t" r="r" b="b"/>
            <a:pathLst>
              <a:path w="347" h="329">
                <a:moveTo>
                  <a:pt x="0" y="0"/>
                </a:moveTo>
                <a:lnTo>
                  <a:pt x="346" y="0"/>
                </a:lnTo>
                <a:lnTo>
                  <a:pt x="346" y="328"/>
                </a:lnTo>
                <a:lnTo>
                  <a:pt x="0" y="32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88280" y="2808360"/>
            <a:ext cx="550800" cy="520560"/>
          </a:xfrm>
          <a:custGeom>
            <a:avLst/>
            <a:gdLst/>
            <a:ahLst/>
            <a:rect l="l" t="t" r="r" b="b"/>
            <a:pathLst>
              <a:path w="347" h="328">
                <a:moveTo>
                  <a:pt x="0" y="0"/>
                </a:moveTo>
                <a:lnTo>
                  <a:pt x="346" y="0"/>
                </a:lnTo>
                <a:lnTo>
                  <a:pt x="346" y="327"/>
                </a:lnTo>
                <a:lnTo>
                  <a:pt x="0" y="32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70680" y="2060640"/>
            <a:ext cx="551160" cy="522360"/>
          </a:xfrm>
          <a:custGeom>
            <a:avLst/>
            <a:gdLst/>
            <a:ahLst/>
            <a:rect l="l" t="t" r="r" b="b"/>
            <a:pathLst>
              <a:path w="347" h="329">
                <a:moveTo>
                  <a:pt x="0" y="0"/>
                </a:moveTo>
                <a:lnTo>
                  <a:pt x="346" y="0"/>
                </a:lnTo>
                <a:lnTo>
                  <a:pt x="346" y="328"/>
                </a:lnTo>
                <a:lnTo>
                  <a:pt x="0" y="32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e8e8e8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34200" y="809640"/>
            <a:ext cx="698400" cy="662040"/>
          </a:xfrm>
          <a:custGeom>
            <a:avLst/>
            <a:gdLst/>
            <a:ahLst/>
            <a:rect l="l" t="t" r="r" b="b"/>
            <a:pathLst>
              <a:path w="440" h="417">
                <a:moveTo>
                  <a:pt x="0" y="88"/>
                </a:moveTo>
                <a:lnTo>
                  <a:pt x="132" y="0"/>
                </a:lnTo>
                <a:lnTo>
                  <a:pt x="439" y="0"/>
                </a:lnTo>
                <a:lnTo>
                  <a:pt x="439" y="326"/>
                </a:lnTo>
                <a:lnTo>
                  <a:pt x="342" y="416"/>
                </a:lnTo>
                <a:lnTo>
                  <a:pt x="342" y="88"/>
                </a:lnTo>
                <a:lnTo>
                  <a:pt x="8" y="88"/>
                </a:lnTo>
                <a:lnTo>
                  <a:pt x="0" y="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7778880" y="816120"/>
            <a:ext cx="16488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464600" y="1146240"/>
            <a:ext cx="91800" cy="92160"/>
          </a:xfrm>
          <a:prstGeom prst="ellipse">
            <a:avLst/>
          </a:prstGeom>
          <a:solidFill>
            <a:srgbClr val="c1c1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759720" y="1184040"/>
            <a:ext cx="730080" cy="468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559560" y="1373040"/>
            <a:ext cx="355680" cy="479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529240" y="1601280"/>
            <a:ext cx="1179360" cy="69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11800" y="2052720"/>
            <a:ext cx="317520" cy="498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957480" y="2243160"/>
            <a:ext cx="1521000" cy="851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052880" y="2295360"/>
            <a:ext cx="1463760" cy="8496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87920" y="2814480"/>
            <a:ext cx="317520" cy="49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462040" y="3132000"/>
            <a:ext cx="1482840" cy="828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694040" y="384012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35360" y="288432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37200" y="211788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230960" y="89676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71680" y="2147760"/>
            <a:ext cx="109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chro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85800" y="236700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88280" y="2725560"/>
            <a:ext cx="633240" cy="606600"/>
          </a:xfrm>
          <a:custGeom>
            <a:avLst/>
            <a:gdLst/>
            <a:ahLst/>
            <a:rect l="l" t="t" r="r" b="b"/>
            <a:pathLst>
              <a:path w="399" h="382">
                <a:moveTo>
                  <a:pt x="0" y="48"/>
                </a:moveTo>
                <a:lnTo>
                  <a:pt x="58" y="0"/>
                </a:lnTo>
                <a:lnTo>
                  <a:pt x="398" y="0"/>
                </a:lnTo>
                <a:lnTo>
                  <a:pt x="398" y="325"/>
                </a:lnTo>
                <a:lnTo>
                  <a:pt x="348" y="381"/>
                </a:lnTo>
                <a:lnTo>
                  <a:pt x="348" y="48"/>
                </a:lnTo>
                <a:lnTo>
                  <a:pt x="0" y="48"/>
                </a:lnTo>
              </a:path>
            </a:pathLst>
          </a:custGeom>
          <a:solidFill>
            <a:srgbClr val="04d66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029000" y="2732040"/>
            <a:ext cx="96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37240" y="3652920"/>
            <a:ext cx="633240" cy="608040"/>
          </a:xfrm>
          <a:custGeom>
            <a:avLst/>
            <a:gdLst/>
            <a:ahLst/>
            <a:rect l="l" t="t" r="r" b="b"/>
            <a:pathLst>
              <a:path w="399" h="383">
                <a:moveTo>
                  <a:pt x="0" y="49"/>
                </a:moveTo>
                <a:lnTo>
                  <a:pt x="58" y="0"/>
                </a:lnTo>
                <a:lnTo>
                  <a:pt x="398" y="0"/>
                </a:lnTo>
                <a:lnTo>
                  <a:pt x="398" y="326"/>
                </a:lnTo>
                <a:lnTo>
                  <a:pt x="347" y="382"/>
                </a:lnTo>
                <a:lnTo>
                  <a:pt x="347" y="49"/>
                </a:lnTo>
                <a:lnTo>
                  <a:pt x="0" y="49"/>
                </a:lnTo>
              </a:path>
            </a:pathLst>
          </a:custGeom>
          <a:solidFill>
            <a:srgbClr val="00a9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567400" y="2320920"/>
            <a:ext cx="1835280" cy="14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267160" y="3668760"/>
            <a:ext cx="986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870680" y="1978200"/>
            <a:ext cx="633600" cy="607680"/>
          </a:xfrm>
          <a:custGeom>
            <a:avLst/>
            <a:gdLst/>
            <a:ahLst/>
            <a:rect l="l" t="t" r="r" b="b"/>
            <a:pathLst>
              <a:path w="399" h="383">
                <a:moveTo>
                  <a:pt x="0" y="49"/>
                </a:moveTo>
                <a:lnTo>
                  <a:pt x="58" y="0"/>
                </a:lnTo>
                <a:lnTo>
                  <a:pt x="398" y="0"/>
                </a:lnTo>
                <a:lnTo>
                  <a:pt x="398" y="325"/>
                </a:lnTo>
                <a:lnTo>
                  <a:pt x="348" y="382"/>
                </a:lnTo>
                <a:lnTo>
                  <a:pt x="348" y="49"/>
                </a:lnTo>
                <a:lnTo>
                  <a:pt x="0" y="49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8410320" y="1984320"/>
            <a:ext cx="9828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25960" y="2797200"/>
            <a:ext cx="20484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0520" y="3716280"/>
            <a:ext cx="204480" cy="533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3800" y="3068640"/>
            <a:ext cx="1911240" cy="1440"/>
          </a:xfrm>
          <a:prstGeom prst="line">
            <a:avLst/>
          </a:prstGeom>
          <a:ln w="50760">
            <a:solidFill>
              <a:srgbClr val="04d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443320" y="3042720"/>
            <a:ext cx="1539720" cy="884520"/>
          </a:xfrm>
          <a:prstGeom prst="line">
            <a:avLst/>
          </a:prstGeom>
          <a:ln w="50760">
            <a:solidFill>
              <a:srgbClr val="04d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328840" y="3058920"/>
            <a:ext cx="1501920" cy="850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5240" y="3629160"/>
            <a:ext cx="317520" cy="5000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019160" y="3960720"/>
            <a:ext cx="1370160" cy="827280"/>
          </a:xfrm>
          <a:prstGeom prst="line">
            <a:avLst/>
          </a:prstGeom>
          <a:ln w="7632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879480" y="3878280"/>
            <a:ext cx="1508040" cy="853920"/>
          </a:xfrm>
          <a:prstGeom prst="line">
            <a:avLst/>
          </a:prstGeom>
          <a:ln w="50760">
            <a:solidFill>
              <a:srgbClr val="04d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96760" y="3943440"/>
            <a:ext cx="1551240" cy="799920"/>
          </a:xfrm>
          <a:custGeom>
            <a:avLst/>
            <a:gdLst/>
            <a:ahLst/>
            <a:rect l="l" t="t" r="r" b="b"/>
            <a:pathLst>
              <a:path w="977" h="504">
                <a:moveTo>
                  <a:pt x="0" y="503"/>
                </a:moveTo>
                <a:lnTo>
                  <a:pt x="976" y="0"/>
                </a:lnTo>
                <a:lnTo>
                  <a:pt x="972" y="9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15720" y="4718160"/>
            <a:ext cx="6854760" cy="0"/>
          </a:xfrm>
          <a:prstGeom prst="line">
            <a:avLst/>
          </a:prstGeom>
          <a:ln w="7632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13680" y="3332160"/>
            <a:ext cx="127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p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84680" y="355140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58680" y="334800"/>
            <a:ext cx="6361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Channel Layout for Laser-based Flow Cytome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7960" y="4510080"/>
            <a:ext cx="1895400" cy="452520"/>
          </a:xfrm>
          <a:custGeom>
            <a:avLst/>
            <a:gdLst/>
            <a:ahLst/>
            <a:rect l="l" t="t" r="r" b="b"/>
            <a:pathLst>
              <a:path w="1194" h="285">
                <a:moveTo>
                  <a:pt x="0" y="0"/>
                </a:moveTo>
                <a:lnTo>
                  <a:pt x="1193" y="0"/>
                </a:lnTo>
                <a:lnTo>
                  <a:pt x="1193" y="284"/>
                </a:lnTo>
                <a:lnTo>
                  <a:pt x="0" y="28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909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97880" y="4513320"/>
            <a:ext cx="107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476440" y="3968640"/>
            <a:ext cx="1616040" cy="82800"/>
          </a:xfrm>
          <a:prstGeom prst="line">
            <a:avLst/>
          </a:prstGeom>
          <a:ln w="76320">
            <a:solidFill>
              <a:srgbClr val="00a9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63600" y="40384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616080" y="30718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89120" y="23320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01960" y="1206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3960" y="249552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w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2014560"/>
            <a:ext cx="204840" cy="533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798480" y="3865320"/>
            <a:ext cx="1498680" cy="849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52480" y="4946760"/>
            <a:ext cx="155520" cy="225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60400" y="3800520"/>
            <a:ext cx="154080" cy="1095480"/>
          </a:xfrm>
          <a:custGeom>
            <a:avLst/>
            <a:gdLst>
              <a:gd name="textAreaLeft" fmla="*/ 5400 w 154080"/>
              <a:gd name="textAreaRight" fmla="*/ 148680 w 154080"/>
              <a:gd name="textAreaTop" fmla="*/ 5400 h 1095480"/>
              <a:gd name="textAreaBottom" fmla="*/ 1090080 h 1095480"/>
            </a:gdLst>
            <a:ahLst/>
            <a:rect l="textAreaLeft" t="textAreaTop" r="textAreaRight" b="textAreaBottom"/>
            <a:pathLst>
              <a:path w="21600" h="153264">
                <a:moveTo>
                  <a:pt x="2699" y="0"/>
                </a:moveTo>
                <a:arcTo wR="2699" hR="2699" stAng="16200000" swAng="-5400000"/>
                <a:lnTo>
                  <a:pt x="0" y="150565"/>
                </a:lnTo>
                <a:arcTo wR="2699" hR="2699" stAng="10800000" swAng="-5400000"/>
                <a:lnTo>
                  <a:pt x="18901" y="15326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52480" y="5261040"/>
            <a:ext cx="184320" cy="1872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879480" y="4346640"/>
            <a:ext cx="128520" cy="154080"/>
            <a:chOff x="879480" y="4346640"/>
            <a:chExt cx="128520" cy="154080"/>
          </a:xfrm>
        </p:grpSpPr>
        <p:sp>
          <p:nvSpPr>
            <p:cNvPr id="661" name=""/>
            <p:cNvSpPr/>
            <p:nvPr/>
          </p:nvSpPr>
          <p:spPr>
            <a:xfrm>
              <a:off x="879480" y="4346640"/>
              <a:ext cx="12852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80" y="54"/>
                  </a:moveTo>
                  <a:lnTo>
                    <a:pt x="76" y="19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12" y="9"/>
                  </a:lnTo>
                  <a:lnTo>
                    <a:pt x="0" y="32"/>
                  </a:lnTo>
                  <a:lnTo>
                    <a:pt x="0" y="61"/>
                  </a:lnTo>
                  <a:lnTo>
                    <a:pt x="10" y="86"/>
                  </a:lnTo>
                  <a:lnTo>
                    <a:pt x="33" y="96"/>
                  </a:lnTo>
                  <a:lnTo>
                    <a:pt x="72" y="83"/>
                  </a:lnTo>
                  <a:lnTo>
                    <a:pt x="80" y="57"/>
                  </a:lnTo>
                  <a:lnTo>
                    <a:pt x="80" y="54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95320" y="43988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22" y="52"/>
                  </a:moveTo>
                  <a:lnTo>
                    <a:pt x="30" y="49"/>
                  </a:lnTo>
                  <a:lnTo>
                    <a:pt x="38" y="39"/>
                  </a:lnTo>
                  <a:lnTo>
                    <a:pt x="54" y="39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3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2" y="13"/>
                  </a:lnTo>
                  <a:lnTo>
                    <a:pt x="38" y="17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38" y="39"/>
                  </a:lnTo>
                  <a:lnTo>
                    <a:pt x="22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0" y="46"/>
                  </a:lnTo>
                  <a:lnTo>
                    <a:pt x="4" y="51"/>
                  </a:lnTo>
                  <a:lnTo>
                    <a:pt x="22" y="52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895320" y="4665600"/>
            <a:ext cx="104760" cy="109440"/>
            <a:chOff x="895320" y="4665600"/>
            <a:chExt cx="104760" cy="109440"/>
          </a:xfrm>
        </p:grpSpPr>
        <p:sp>
          <p:nvSpPr>
            <p:cNvPr id="664" name=""/>
            <p:cNvSpPr/>
            <p:nvPr/>
          </p:nvSpPr>
          <p:spPr>
            <a:xfrm>
              <a:off x="895320" y="4665600"/>
              <a:ext cx="104760" cy="1094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65" y="38"/>
                  </a:moveTo>
                  <a:lnTo>
                    <a:pt x="62" y="14"/>
                  </a:lnTo>
                  <a:lnTo>
                    <a:pt x="45" y="0"/>
                  </a:lnTo>
                  <a:lnTo>
                    <a:pt x="27" y="0"/>
                  </a:lnTo>
                  <a:lnTo>
                    <a:pt x="10" y="7"/>
                  </a:lnTo>
                  <a:lnTo>
                    <a:pt x="0" y="23"/>
                  </a:lnTo>
                  <a:lnTo>
                    <a:pt x="0" y="43"/>
                  </a:lnTo>
                  <a:lnTo>
                    <a:pt x="8" y="61"/>
                  </a:lnTo>
                  <a:lnTo>
                    <a:pt x="27" y="68"/>
                  </a:lnTo>
                  <a:lnTo>
                    <a:pt x="59" y="59"/>
                  </a:lnTo>
                  <a:lnTo>
                    <a:pt x="65" y="41"/>
                  </a:lnTo>
                  <a:lnTo>
                    <a:pt x="65" y="38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33480" y="4699080"/>
              <a:ext cx="58680" cy="6804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847800" y="5497560"/>
            <a:ext cx="172800" cy="158760"/>
            <a:chOff x="847800" y="5497560"/>
            <a:chExt cx="172800" cy="158760"/>
          </a:xfrm>
        </p:grpSpPr>
        <p:sp>
          <p:nvSpPr>
            <p:cNvPr id="667" name=""/>
            <p:cNvSpPr/>
            <p:nvPr/>
          </p:nvSpPr>
          <p:spPr>
            <a:xfrm>
              <a:off x="847800" y="5497560"/>
              <a:ext cx="172800" cy="15876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892080" y="5533920"/>
              <a:ext cx="101520" cy="101880"/>
              <a:chOff x="892080" y="5533920"/>
              <a:chExt cx="101520" cy="101880"/>
            </a:xfrm>
          </p:grpSpPr>
          <p:sp>
            <p:nvSpPr>
              <p:cNvPr id="669" name=""/>
              <p:cNvSpPr/>
              <p:nvPr/>
            </p:nvSpPr>
            <p:spPr>
              <a:xfrm>
                <a:off x="892080" y="5533920"/>
                <a:ext cx="101520" cy="10188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63" y="36"/>
                    </a:moveTo>
                    <a:lnTo>
                      <a:pt x="60" y="13"/>
                    </a:lnTo>
                    <a:lnTo>
                      <a:pt x="44" y="0"/>
                    </a:lnTo>
                    <a:lnTo>
                      <a:pt x="26" y="0"/>
                    </a:lnTo>
                    <a:lnTo>
                      <a:pt x="10" y="6"/>
                    </a:lnTo>
                    <a:lnTo>
                      <a:pt x="0" y="21"/>
                    </a:lnTo>
                    <a:lnTo>
                      <a:pt x="0" y="40"/>
                    </a:lnTo>
                    <a:lnTo>
                      <a:pt x="8" y="57"/>
                    </a:lnTo>
                    <a:lnTo>
                      <a:pt x="26" y="63"/>
                    </a:lnTo>
                    <a:lnTo>
                      <a:pt x="57" y="55"/>
                    </a:lnTo>
                    <a:lnTo>
                      <a:pt x="63" y="38"/>
                    </a:lnTo>
                    <a:lnTo>
                      <a:pt x="63" y="36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25560" y="5567400"/>
                <a:ext cx="60120" cy="6012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1" name=""/>
          <p:cNvGrpSpPr/>
          <p:nvPr/>
        </p:nvGrpSpPr>
        <p:grpSpPr>
          <a:xfrm>
            <a:off x="870120" y="4965840"/>
            <a:ext cx="115560" cy="171360"/>
            <a:chOff x="870120" y="4965840"/>
            <a:chExt cx="115560" cy="171360"/>
          </a:xfrm>
        </p:grpSpPr>
        <p:sp>
          <p:nvSpPr>
            <p:cNvPr id="672" name=""/>
            <p:cNvSpPr/>
            <p:nvPr/>
          </p:nvSpPr>
          <p:spPr>
            <a:xfrm>
              <a:off x="870120" y="4965840"/>
              <a:ext cx="115560" cy="171360"/>
            </a:xfrm>
            <a:custGeom>
              <a:avLst/>
              <a:gdLst/>
              <a:ahLst/>
              <a:rect l="l" t="t" r="r" b="b"/>
              <a:pathLst>
                <a:path w="73" h="108">
                  <a:moveTo>
                    <a:pt x="72" y="61"/>
                  </a:moveTo>
                  <a:lnTo>
                    <a:pt x="68" y="21"/>
                  </a:lnTo>
                  <a:lnTo>
                    <a:pt x="50" y="0"/>
                  </a:lnTo>
                  <a:lnTo>
                    <a:pt x="29" y="0"/>
                  </a:lnTo>
                  <a:lnTo>
                    <a:pt x="11" y="11"/>
                  </a:lnTo>
                  <a:lnTo>
                    <a:pt x="0" y="36"/>
                  </a:lnTo>
                  <a:lnTo>
                    <a:pt x="0" y="68"/>
                  </a:lnTo>
                  <a:lnTo>
                    <a:pt x="9" y="96"/>
                  </a:lnTo>
                  <a:lnTo>
                    <a:pt x="29" y="107"/>
                  </a:lnTo>
                  <a:lnTo>
                    <a:pt x="65" y="92"/>
                  </a:lnTo>
                  <a:lnTo>
                    <a:pt x="72" y="64"/>
                  </a:lnTo>
                  <a:lnTo>
                    <a:pt x="72" y="61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17640" y="4971960"/>
              <a:ext cx="46080" cy="157320"/>
            </a:xfrm>
            <a:custGeom>
              <a:avLst/>
              <a:gdLst/>
              <a:ahLst/>
              <a:rect l="l" t="t" r="r" b="b"/>
              <a:pathLst>
                <a:path w="29" h="99">
                  <a:moveTo>
                    <a:pt x="14" y="0"/>
                  </a:moveTo>
                  <a:lnTo>
                    <a:pt x="28" y="25"/>
                  </a:lnTo>
                  <a:lnTo>
                    <a:pt x="28" y="49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14" y="98"/>
                  </a:lnTo>
                  <a:lnTo>
                    <a:pt x="0" y="9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4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835200" y="5729400"/>
            <a:ext cx="183960" cy="18072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07920" y="5952960"/>
            <a:ext cx="196920" cy="2016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863640" y="5772240"/>
            <a:ext cx="131760" cy="125280"/>
            <a:chOff x="863640" y="5772240"/>
            <a:chExt cx="131760" cy="125280"/>
          </a:xfrm>
        </p:grpSpPr>
        <p:sp>
          <p:nvSpPr>
            <p:cNvPr id="677" name=""/>
            <p:cNvSpPr/>
            <p:nvPr/>
          </p:nvSpPr>
          <p:spPr>
            <a:xfrm>
              <a:off x="863640" y="577224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82" y="44"/>
                  </a:moveTo>
                  <a:lnTo>
                    <a:pt x="78" y="16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13" y="8"/>
                  </a:lnTo>
                  <a:lnTo>
                    <a:pt x="0" y="26"/>
                  </a:lnTo>
                  <a:lnTo>
                    <a:pt x="0" y="49"/>
                  </a:lnTo>
                  <a:lnTo>
                    <a:pt x="11" y="70"/>
                  </a:lnTo>
                  <a:lnTo>
                    <a:pt x="34" y="78"/>
                  </a:lnTo>
                  <a:lnTo>
                    <a:pt x="74" y="67"/>
                  </a:lnTo>
                  <a:lnTo>
                    <a:pt x="82" y="47"/>
                  </a:lnTo>
                  <a:lnTo>
                    <a:pt x="82" y="4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14400" y="5775480"/>
              <a:ext cx="54000" cy="115560"/>
            </a:xfrm>
            <a:custGeom>
              <a:avLst/>
              <a:gdLst/>
              <a:ahLst/>
              <a:rect l="l" t="t" r="r" b="b"/>
              <a:pathLst>
                <a:path w="34" h="73">
                  <a:moveTo>
                    <a:pt x="17" y="0"/>
                  </a:moveTo>
                  <a:lnTo>
                    <a:pt x="33" y="18"/>
                  </a:lnTo>
                  <a:lnTo>
                    <a:pt x="33" y="36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09560" y="3046320"/>
            <a:ext cx="417600" cy="836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" y="3862440"/>
            <a:ext cx="414360" cy="345960"/>
          </a:xfrm>
          <a:custGeom>
            <a:avLst/>
            <a:gdLst/>
            <a:ahLst/>
            <a:rect l="l" t="t" r="r" b="b"/>
            <a:pathLst>
              <a:path w="261" h="218">
                <a:moveTo>
                  <a:pt x="0" y="0"/>
                </a:moveTo>
                <a:lnTo>
                  <a:pt x="38" y="216"/>
                </a:lnTo>
                <a:lnTo>
                  <a:pt x="83" y="173"/>
                </a:lnTo>
                <a:lnTo>
                  <a:pt x="113" y="163"/>
                </a:lnTo>
                <a:lnTo>
                  <a:pt x="150" y="163"/>
                </a:lnTo>
                <a:lnTo>
                  <a:pt x="189" y="179"/>
                </a:lnTo>
                <a:lnTo>
                  <a:pt x="232" y="217"/>
                </a:lnTo>
                <a:lnTo>
                  <a:pt x="260" y="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7120" y="3330720"/>
            <a:ext cx="588960" cy="141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05200" y="6319800"/>
            <a:ext cx="5267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original from Purdue University Cytometry Laboratories; modified by R.F. Mur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5712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 Channel Layout for Arc Lamp-based Flow Cytometr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verhead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947880" y="1473120"/>
            <a:ext cx="8183520" cy="4927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167520" y="6472080"/>
            <a:ext cx="290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.B. Steen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asics of Flow Cytometr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9040" y="2058840"/>
            <a:ext cx="540720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Cells in susp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flow in single-file 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an illuminated volume where th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scatter light and emit fluoresc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that is collected, filtered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converted to digit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that are stored on a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2363760"/>
            <a:ext cx="1596960" cy="5763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0081"/>
                </a:solidFill>
                <a:latin typeface="Times New Roman"/>
              </a:rPr>
              <a:t>Fluid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3354480"/>
            <a:ext cx="1444680" cy="1754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0081"/>
                </a:solidFill>
                <a:latin typeface="Times New Roman"/>
              </a:rPr>
              <a:t>Op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0760" y="5487840"/>
            <a:ext cx="2130480" cy="5763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0081"/>
                </a:solidFill>
                <a:latin typeface="Times New Roman"/>
              </a:rPr>
              <a:t>Electro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Detector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ommon detector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Photodi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for strong signals when saturation is a potential problem (e.g., forward scatter detec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fff"/>
                </a:solidFill>
                <a:latin typeface="Times New Roman"/>
              </a:rPr>
              <a:t>Photomultiplier tube (PM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sensitive than photodiode but can be destroyed by exposure to too much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b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522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ptics - Wavelength Dependence of Photomultiplier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67520" y="6472080"/>
            <a:ext cx="290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.B. Steen -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ML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hapt.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4114800" y="1360440"/>
            <a:ext cx="4940280" cy="485928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81120" y="1900080"/>
            <a:ext cx="3057480" cy="374652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hould consider the properties of PMTs when designing an optical layout; knowledge of PMT types on a particular instrument allows optimum use of available fluorescence cha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ummary of Part 1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652920" y="2052720"/>
            <a:ext cx="541980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ff50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Cells in susp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50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flow in single-file 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50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an illuminated volume where th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50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scatter light and emit fluoresc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50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Times New Roman"/>
              </a:rPr>
              <a:t>that is collected, filtered </a:t>
            </a: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converted to digit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7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ff00"/>
                </a:solidFill>
                <a:latin typeface="Times New Roman"/>
              </a:rPr>
              <a:t>that are stored on a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747800" y="2357280"/>
            <a:ext cx="1609920" cy="5763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0081"/>
                </a:solidFill>
                <a:latin typeface="Times New Roman"/>
              </a:rPr>
              <a:t>Fluid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00080" y="3348000"/>
            <a:ext cx="1457640" cy="1754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0081"/>
                </a:solidFill>
                <a:latin typeface="Times New Roman"/>
              </a:rPr>
              <a:t>Op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14280" y="5481720"/>
            <a:ext cx="2143440" cy="5763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0081"/>
                </a:solidFill>
                <a:latin typeface="Times New Roman"/>
              </a:rPr>
              <a:t>Electro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have cells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 suspens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in single file through an illuminated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instruments, accomplished by injecting sample into a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sheath flui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it passes through a small (50-300 µm)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ori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542440" y="5789520"/>
            <a:ext cx="49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25960" y="220680"/>
            <a:ext cx="2409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000" spc="-1" strike="noStrike">
                <a:solidFill>
                  <a:srgbClr val="ff5008"/>
                </a:solidFill>
                <a:latin typeface="Arial"/>
              </a:rPr>
              <a:t>Flow 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08640" y="1754280"/>
            <a:ext cx="3159000" cy="2344680"/>
          </a:xfrm>
          <a:custGeom>
            <a:avLst/>
            <a:gdLst/>
            <a:ahLst/>
            <a:rect l="l" t="t" r="r" b="b"/>
            <a:pathLst>
              <a:path w="1990" h="1477">
                <a:moveTo>
                  <a:pt x="77" y="1476"/>
                </a:moveTo>
                <a:lnTo>
                  <a:pt x="1951" y="421"/>
                </a:lnTo>
                <a:lnTo>
                  <a:pt x="1989" y="299"/>
                </a:lnTo>
                <a:lnTo>
                  <a:pt x="1934" y="243"/>
                </a:lnTo>
                <a:lnTo>
                  <a:pt x="1967" y="167"/>
                </a:lnTo>
                <a:lnTo>
                  <a:pt x="1923" y="162"/>
                </a:lnTo>
                <a:lnTo>
                  <a:pt x="1907" y="157"/>
                </a:lnTo>
                <a:lnTo>
                  <a:pt x="1912" y="96"/>
                </a:lnTo>
                <a:lnTo>
                  <a:pt x="1929" y="0"/>
                </a:lnTo>
                <a:lnTo>
                  <a:pt x="712" y="999"/>
                </a:lnTo>
                <a:lnTo>
                  <a:pt x="0" y="1435"/>
                </a:lnTo>
                <a:lnTo>
                  <a:pt x="77" y="1476"/>
                </a:lnTo>
              </a:path>
            </a:pathLst>
          </a:custGeom>
          <a:solidFill>
            <a:srgbClr val="114ffb"/>
          </a:solidFill>
          <a:ln cap="rnd" w="7632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1465200"/>
            <a:ext cx="3857400" cy="3959280"/>
          </a:xfrm>
          <a:custGeom>
            <a:avLst/>
            <a:gdLst/>
            <a:ahLst/>
            <a:rect l="l" t="t" r="r" b="b"/>
            <a:pathLst>
              <a:path w="2430" h="2494">
                <a:moveTo>
                  <a:pt x="1799" y="65"/>
                </a:moveTo>
                <a:lnTo>
                  <a:pt x="2067" y="0"/>
                </a:lnTo>
                <a:lnTo>
                  <a:pt x="2413" y="156"/>
                </a:lnTo>
                <a:lnTo>
                  <a:pt x="2429" y="646"/>
                </a:lnTo>
                <a:lnTo>
                  <a:pt x="1768" y="1458"/>
                </a:lnTo>
                <a:lnTo>
                  <a:pt x="1760" y="2464"/>
                </a:lnTo>
                <a:lnTo>
                  <a:pt x="1488" y="2440"/>
                </a:lnTo>
                <a:lnTo>
                  <a:pt x="1454" y="2444"/>
                </a:lnTo>
                <a:lnTo>
                  <a:pt x="1283" y="2493"/>
                </a:lnTo>
                <a:lnTo>
                  <a:pt x="1052" y="2414"/>
                </a:lnTo>
                <a:lnTo>
                  <a:pt x="1045" y="2391"/>
                </a:lnTo>
                <a:lnTo>
                  <a:pt x="1050" y="2403"/>
                </a:lnTo>
                <a:lnTo>
                  <a:pt x="1061" y="2417"/>
                </a:lnTo>
                <a:lnTo>
                  <a:pt x="895" y="2463"/>
                </a:lnTo>
                <a:lnTo>
                  <a:pt x="695" y="2430"/>
                </a:lnTo>
                <a:lnTo>
                  <a:pt x="690" y="1443"/>
                </a:lnTo>
                <a:lnTo>
                  <a:pt x="0" y="613"/>
                </a:lnTo>
                <a:lnTo>
                  <a:pt x="37" y="163"/>
                </a:lnTo>
                <a:lnTo>
                  <a:pt x="259" y="25"/>
                </a:lnTo>
                <a:lnTo>
                  <a:pt x="434" y="41"/>
                </a:lnTo>
                <a:lnTo>
                  <a:pt x="527" y="16"/>
                </a:lnTo>
                <a:lnTo>
                  <a:pt x="702" y="107"/>
                </a:lnTo>
                <a:lnTo>
                  <a:pt x="1188" y="156"/>
                </a:lnTo>
                <a:lnTo>
                  <a:pt x="1799" y="65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90880" y="1440000"/>
            <a:ext cx="4314960" cy="3116160"/>
            <a:chOff x="2990880" y="1440000"/>
            <a:chExt cx="4314960" cy="3116160"/>
          </a:xfrm>
        </p:grpSpPr>
        <p:grpSp>
          <p:nvGrpSpPr>
            <p:cNvPr id="98" name=""/>
            <p:cNvGrpSpPr/>
            <p:nvPr/>
          </p:nvGrpSpPr>
          <p:grpSpPr>
            <a:xfrm>
              <a:off x="2990880" y="1440000"/>
              <a:ext cx="1314360" cy="3116160"/>
              <a:chOff x="2990880" y="1440000"/>
              <a:chExt cx="1314360" cy="3116160"/>
            </a:xfrm>
          </p:grpSpPr>
          <p:sp>
            <p:nvSpPr>
              <p:cNvPr id="99" name=""/>
              <p:cNvSpPr/>
              <p:nvPr/>
            </p:nvSpPr>
            <p:spPr>
              <a:xfrm>
                <a:off x="2990880" y="1440000"/>
                <a:ext cx="1314360" cy="3116160"/>
              </a:xfrm>
              <a:custGeom>
                <a:avLst/>
                <a:gdLst/>
                <a:ahLst/>
                <a:rect l="l" t="t" r="r" b="b"/>
                <a:pathLst>
                  <a:path w="828" h="1963">
                    <a:moveTo>
                      <a:pt x="207" y="155"/>
                    </a:moveTo>
                    <a:lnTo>
                      <a:pt x="207" y="621"/>
                    </a:lnTo>
                    <a:lnTo>
                      <a:pt x="827" y="1406"/>
                    </a:lnTo>
                    <a:lnTo>
                      <a:pt x="827" y="1962"/>
                    </a:lnTo>
                    <a:lnTo>
                      <a:pt x="786" y="1954"/>
                    </a:lnTo>
                    <a:lnTo>
                      <a:pt x="713" y="1954"/>
                    </a:lnTo>
                    <a:lnTo>
                      <a:pt x="703" y="1946"/>
                    </a:lnTo>
                    <a:lnTo>
                      <a:pt x="651" y="1921"/>
                    </a:lnTo>
                    <a:lnTo>
                      <a:pt x="631" y="1888"/>
                    </a:lnTo>
                    <a:lnTo>
                      <a:pt x="610" y="1848"/>
                    </a:lnTo>
                    <a:lnTo>
                      <a:pt x="610" y="1398"/>
                    </a:lnTo>
                    <a:lnTo>
                      <a:pt x="0" y="621"/>
                    </a:lnTo>
                    <a:lnTo>
                      <a:pt x="0" y="0"/>
                    </a:lnTo>
                    <a:lnTo>
                      <a:pt x="52" y="25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71880" y="1440000"/>
                <a:ext cx="247680" cy="222120"/>
              </a:xfrm>
              <a:custGeom>
                <a:avLst/>
                <a:gdLst/>
                <a:ahLst/>
                <a:rect l="l" t="t" r="r" b="b"/>
                <a:pathLst>
                  <a:path w="156" h="140">
                    <a:moveTo>
                      <a:pt x="0" y="0"/>
                    </a:moveTo>
                    <a:lnTo>
                      <a:pt x="52" y="65"/>
                    </a:lnTo>
                    <a:lnTo>
                      <a:pt x="83" y="74"/>
                    </a:lnTo>
                    <a:lnTo>
                      <a:pt x="114" y="90"/>
                    </a:lnTo>
                    <a:lnTo>
                      <a:pt x="134" y="114"/>
                    </a:lnTo>
                    <a:lnTo>
                      <a:pt x="155" y="139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992920" y="1440000"/>
              <a:ext cx="1312920" cy="3116160"/>
              <a:chOff x="5992920" y="1440000"/>
              <a:chExt cx="1312920" cy="3116160"/>
            </a:xfrm>
          </p:grpSpPr>
          <p:sp>
            <p:nvSpPr>
              <p:cNvPr id="102" name=""/>
              <p:cNvSpPr/>
              <p:nvPr/>
            </p:nvSpPr>
            <p:spPr>
              <a:xfrm>
                <a:off x="5992920" y="1440000"/>
                <a:ext cx="1312920" cy="3116160"/>
              </a:xfrm>
              <a:custGeom>
                <a:avLst/>
                <a:gdLst/>
                <a:ahLst/>
                <a:rect l="l" t="t" r="r" b="b"/>
                <a:pathLst>
                  <a:path w="827" h="1963">
                    <a:moveTo>
                      <a:pt x="620" y="155"/>
                    </a:moveTo>
                    <a:lnTo>
                      <a:pt x="620" y="621"/>
                    </a:lnTo>
                    <a:lnTo>
                      <a:pt x="0" y="1406"/>
                    </a:lnTo>
                    <a:lnTo>
                      <a:pt x="0" y="1962"/>
                    </a:lnTo>
                    <a:lnTo>
                      <a:pt x="41" y="1954"/>
                    </a:lnTo>
                    <a:lnTo>
                      <a:pt x="114" y="1954"/>
                    </a:lnTo>
                    <a:lnTo>
                      <a:pt x="124" y="1946"/>
                    </a:lnTo>
                    <a:lnTo>
                      <a:pt x="176" y="1921"/>
                    </a:lnTo>
                    <a:lnTo>
                      <a:pt x="196" y="1888"/>
                    </a:lnTo>
                    <a:lnTo>
                      <a:pt x="217" y="1848"/>
                    </a:lnTo>
                    <a:lnTo>
                      <a:pt x="217" y="1398"/>
                    </a:lnTo>
                    <a:lnTo>
                      <a:pt x="826" y="621"/>
                    </a:lnTo>
                    <a:lnTo>
                      <a:pt x="826" y="0"/>
                    </a:lnTo>
                    <a:lnTo>
                      <a:pt x="774" y="2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77160" y="1440000"/>
                <a:ext cx="249120" cy="222120"/>
              </a:xfrm>
              <a:custGeom>
                <a:avLst/>
                <a:gdLst/>
                <a:ahLst/>
                <a:rect l="l" t="t" r="r" b="b"/>
                <a:pathLst>
                  <a:path w="157" h="140">
                    <a:moveTo>
                      <a:pt x="156" y="0"/>
                    </a:moveTo>
                    <a:lnTo>
                      <a:pt x="104" y="65"/>
                    </a:lnTo>
                    <a:lnTo>
                      <a:pt x="73" y="74"/>
                    </a:lnTo>
                    <a:lnTo>
                      <a:pt x="42" y="90"/>
                    </a:lnTo>
                    <a:lnTo>
                      <a:pt x="21" y="114"/>
                    </a:lnTo>
                    <a:lnTo>
                      <a:pt x="0" y="139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4503600" y="2257560"/>
            <a:ext cx="701640" cy="3155760"/>
          </a:xfrm>
          <a:custGeom>
            <a:avLst/>
            <a:gdLst/>
            <a:ahLst/>
            <a:rect l="l" t="t" r="r" b="b"/>
            <a:pathLst>
              <a:path w="442" h="1988">
                <a:moveTo>
                  <a:pt x="0" y="0"/>
                </a:moveTo>
                <a:lnTo>
                  <a:pt x="37" y="72"/>
                </a:lnTo>
                <a:lnTo>
                  <a:pt x="80" y="139"/>
                </a:lnTo>
                <a:lnTo>
                  <a:pt x="119" y="188"/>
                </a:lnTo>
                <a:lnTo>
                  <a:pt x="173" y="231"/>
                </a:lnTo>
                <a:lnTo>
                  <a:pt x="204" y="258"/>
                </a:lnTo>
                <a:lnTo>
                  <a:pt x="237" y="286"/>
                </a:lnTo>
                <a:lnTo>
                  <a:pt x="258" y="310"/>
                </a:lnTo>
                <a:lnTo>
                  <a:pt x="284" y="341"/>
                </a:lnTo>
                <a:lnTo>
                  <a:pt x="305" y="390"/>
                </a:lnTo>
                <a:lnTo>
                  <a:pt x="307" y="419"/>
                </a:lnTo>
                <a:lnTo>
                  <a:pt x="315" y="476"/>
                </a:lnTo>
                <a:lnTo>
                  <a:pt x="315" y="510"/>
                </a:lnTo>
                <a:lnTo>
                  <a:pt x="315" y="535"/>
                </a:lnTo>
                <a:lnTo>
                  <a:pt x="320" y="1938"/>
                </a:lnTo>
                <a:lnTo>
                  <a:pt x="441" y="1987"/>
                </a:lnTo>
                <a:lnTo>
                  <a:pt x="431" y="1476"/>
                </a:lnTo>
                <a:lnTo>
                  <a:pt x="431" y="1193"/>
                </a:lnTo>
                <a:lnTo>
                  <a:pt x="415" y="907"/>
                </a:lnTo>
                <a:lnTo>
                  <a:pt x="408" y="817"/>
                </a:lnTo>
                <a:lnTo>
                  <a:pt x="425" y="876"/>
                </a:lnTo>
                <a:lnTo>
                  <a:pt x="431" y="770"/>
                </a:lnTo>
                <a:lnTo>
                  <a:pt x="418" y="745"/>
                </a:lnTo>
                <a:lnTo>
                  <a:pt x="410" y="729"/>
                </a:lnTo>
                <a:lnTo>
                  <a:pt x="418" y="439"/>
                </a:lnTo>
                <a:lnTo>
                  <a:pt x="418" y="385"/>
                </a:lnTo>
                <a:lnTo>
                  <a:pt x="421" y="331"/>
                </a:lnTo>
                <a:lnTo>
                  <a:pt x="413" y="233"/>
                </a:lnTo>
                <a:lnTo>
                  <a:pt x="413" y="135"/>
                </a:lnTo>
                <a:lnTo>
                  <a:pt x="421" y="100"/>
                </a:lnTo>
                <a:lnTo>
                  <a:pt x="424" y="68"/>
                </a:lnTo>
                <a:lnTo>
                  <a:pt x="424" y="29"/>
                </a:lnTo>
                <a:lnTo>
                  <a:pt x="434" y="20"/>
                </a:lnTo>
                <a:lnTo>
                  <a:pt x="436" y="14"/>
                </a:lnTo>
                <a:lnTo>
                  <a:pt x="436" y="2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257560"/>
            <a:ext cx="693720" cy="3163680"/>
          </a:xfrm>
          <a:custGeom>
            <a:avLst/>
            <a:gdLst/>
            <a:ahLst/>
            <a:rect l="l" t="t" r="r" b="b"/>
            <a:pathLst>
              <a:path w="437" h="1993">
                <a:moveTo>
                  <a:pt x="436" y="0"/>
                </a:moveTo>
                <a:lnTo>
                  <a:pt x="400" y="72"/>
                </a:lnTo>
                <a:lnTo>
                  <a:pt x="356" y="139"/>
                </a:lnTo>
                <a:lnTo>
                  <a:pt x="317" y="188"/>
                </a:lnTo>
                <a:lnTo>
                  <a:pt x="263" y="231"/>
                </a:lnTo>
                <a:lnTo>
                  <a:pt x="233" y="258"/>
                </a:lnTo>
                <a:lnTo>
                  <a:pt x="199" y="286"/>
                </a:lnTo>
                <a:lnTo>
                  <a:pt x="178" y="310"/>
                </a:lnTo>
                <a:lnTo>
                  <a:pt x="152" y="341"/>
                </a:lnTo>
                <a:lnTo>
                  <a:pt x="131" y="390"/>
                </a:lnTo>
                <a:lnTo>
                  <a:pt x="129" y="419"/>
                </a:lnTo>
                <a:lnTo>
                  <a:pt x="121" y="476"/>
                </a:lnTo>
                <a:lnTo>
                  <a:pt x="121" y="510"/>
                </a:lnTo>
                <a:lnTo>
                  <a:pt x="121" y="535"/>
                </a:lnTo>
                <a:lnTo>
                  <a:pt x="121" y="1975"/>
                </a:lnTo>
                <a:lnTo>
                  <a:pt x="68" y="1992"/>
                </a:lnTo>
                <a:lnTo>
                  <a:pt x="8" y="1976"/>
                </a:lnTo>
                <a:lnTo>
                  <a:pt x="10" y="1250"/>
                </a:lnTo>
                <a:lnTo>
                  <a:pt x="36" y="1083"/>
                </a:lnTo>
                <a:lnTo>
                  <a:pt x="38" y="1156"/>
                </a:lnTo>
                <a:lnTo>
                  <a:pt x="47" y="1085"/>
                </a:lnTo>
                <a:lnTo>
                  <a:pt x="15" y="1889"/>
                </a:lnTo>
                <a:lnTo>
                  <a:pt x="28" y="1077"/>
                </a:lnTo>
                <a:lnTo>
                  <a:pt x="5" y="1130"/>
                </a:lnTo>
                <a:lnTo>
                  <a:pt x="18" y="439"/>
                </a:lnTo>
                <a:lnTo>
                  <a:pt x="18" y="384"/>
                </a:lnTo>
                <a:lnTo>
                  <a:pt x="16" y="331"/>
                </a:lnTo>
                <a:lnTo>
                  <a:pt x="23" y="233"/>
                </a:lnTo>
                <a:lnTo>
                  <a:pt x="23" y="135"/>
                </a:lnTo>
                <a:lnTo>
                  <a:pt x="16" y="100"/>
                </a:lnTo>
                <a:lnTo>
                  <a:pt x="13" y="68"/>
                </a:lnTo>
                <a:lnTo>
                  <a:pt x="13" y="29"/>
                </a:lnTo>
                <a:lnTo>
                  <a:pt x="3" y="20"/>
                </a:lnTo>
                <a:lnTo>
                  <a:pt x="0" y="14"/>
                </a:lnTo>
                <a:lnTo>
                  <a:pt x="0" y="2"/>
                </a:lnTo>
                <a:lnTo>
                  <a:pt x="436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060880" y="3745080"/>
            <a:ext cx="225360" cy="182520"/>
            <a:chOff x="5060880" y="3745080"/>
            <a:chExt cx="225360" cy="182520"/>
          </a:xfrm>
        </p:grpSpPr>
        <p:sp>
          <p:nvSpPr>
            <p:cNvPr id="107" name=""/>
            <p:cNvSpPr/>
            <p:nvPr/>
          </p:nvSpPr>
          <p:spPr>
            <a:xfrm>
              <a:off x="5060880" y="3745080"/>
              <a:ext cx="225360" cy="182520"/>
            </a:xfrm>
            <a:custGeom>
              <a:avLst/>
              <a:gdLst/>
              <a:ahLst/>
              <a:rect l="l" t="t" r="r" b="b"/>
              <a:pathLst>
                <a:path w="142" h="115">
                  <a:moveTo>
                    <a:pt x="141" y="64"/>
                  </a:moveTo>
                  <a:lnTo>
                    <a:pt x="134" y="23"/>
                  </a:lnTo>
                  <a:lnTo>
                    <a:pt x="97" y="0"/>
                  </a:lnTo>
                  <a:lnTo>
                    <a:pt x="58" y="0"/>
                  </a:lnTo>
                  <a:lnTo>
                    <a:pt x="22" y="11"/>
                  </a:lnTo>
                  <a:lnTo>
                    <a:pt x="0" y="38"/>
                  </a:lnTo>
                  <a:lnTo>
                    <a:pt x="0" y="72"/>
                  </a:lnTo>
                  <a:lnTo>
                    <a:pt x="18" y="102"/>
                  </a:lnTo>
                  <a:lnTo>
                    <a:pt x="58" y="114"/>
                  </a:lnTo>
                  <a:lnTo>
                    <a:pt x="126" y="98"/>
                  </a:lnTo>
                  <a:lnTo>
                    <a:pt x="141" y="68"/>
                  </a:lnTo>
                  <a:lnTo>
                    <a:pt x="141" y="64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91120" y="3807000"/>
              <a:ext cx="150840" cy="99720"/>
            </a:xfrm>
            <a:custGeom>
              <a:avLst/>
              <a:gdLst/>
              <a:ahLst/>
              <a:rect l="l" t="t" r="r" b="b"/>
              <a:pathLst>
                <a:path w="95" h="63">
                  <a:moveTo>
                    <a:pt x="38" y="62"/>
                  </a:moveTo>
                  <a:lnTo>
                    <a:pt x="52" y="58"/>
                  </a:lnTo>
                  <a:lnTo>
                    <a:pt x="66" y="47"/>
                  </a:lnTo>
                  <a:lnTo>
                    <a:pt x="94" y="47"/>
                  </a:lnTo>
                  <a:lnTo>
                    <a:pt x="94" y="31"/>
                  </a:lnTo>
                  <a:lnTo>
                    <a:pt x="94" y="31"/>
                  </a:lnTo>
                  <a:lnTo>
                    <a:pt x="94" y="16"/>
                  </a:lnTo>
                  <a:lnTo>
                    <a:pt x="94" y="0"/>
                  </a:lnTo>
                  <a:lnTo>
                    <a:pt x="66" y="0"/>
                  </a:lnTo>
                  <a:lnTo>
                    <a:pt x="38" y="16"/>
                  </a:lnTo>
                  <a:lnTo>
                    <a:pt x="66" y="21"/>
                  </a:lnTo>
                  <a:lnTo>
                    <a:pt x="94" y="31"/>
                  </a:lnTo>
                  <a:lnTo>
                    <a:pt x="94" y="31"/>
                  </a:lnTo>
                  <a:lnTo>
                    <a:pt x="66" y="47"/>
                  </a:lnTo>
                  <a:lnTo>
                    <a:pt x="38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0" y="54"/>
                  </a:lnTo>
                  <a:lnTo>
                    <a:pt x="7" y="60"/>
                  </a:lnTo>
                  <a:lnTo>
                    <a:pt x="38" y="62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79960" y="4656240"/>
            <a:ext cx="201600" cy="201600"/>
            <a:chOff x="5079960" y="4656240"/>
            <a:chExt cx="201600" cy="201600"/>
          </a:xfrm>
        </p:grpSpPr>
        <p:sp>
          <p:nvSpPr>
            <p:cNvPr id="110" name=""/>
            <p:cNvSpPr/>
            <p:nvPr/>
          </p:nvSpPr>
          <p:spPr>
            <a:xfrm>
              <a:off x="5079960" y="465624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6" y="71"/>
                  </a:moveTo>
                  <a:lnTo>
                    <a:pt x="119" y="25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19" y="13"/>
                  </a:lnTo>
                  <a:lnTo>
                    <a:pt x="0" y="42"/>
                  </a:lnTo>
                  <a:lnTo>
                    <a:pt x="0" y="80"/>
                  </a:lnTo>
                  <a:lnTo>
                    <a:pt x="16" y="113"/>
                  </a:lnTo>
                  <a:lnTo>
                    <a:pt x="52" y="126"/>
                  </a:lnTo>
                  <a:lnTo>
                    <a:pt x="113" y="109"/>
                  </a:lnTo>
                  <a:lnTo>
                    <a:pt x="126" y="76"/>
                  </a:lnTo>
                  <a:lnTo>
                    <a:pt x="126" y="7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65640" y="4660920"/>
              <a:ext cx="77760" cy="185760"/>
            </a:xfrm>
            <a:custGeom>
              <a:avLst/>
              <a:gdLst/>
              <a:ahLst/>
              <a:rect l="l" t="t" r="r" b="b"/>
              <a:pathLst>
                <a:path w="49" h="117">
                  <a:moveTo>
                    <a:pt x="24" y="0"/>
                  </a:moveTo>
                  <a:lnTo>
                    <a:pt x="48" y="29"/>
                  </a:lnTo>
                  <a:lnTo>
                    <a:pt x="48" y="58"/>
                  </a:lnTo>
                  <a:lnTo>
                    <a:pt x="48" y="87"/>
                  </a:lnTo>
                  <a:lnTo>
                    <a:pt x="48" y="87"/>
                  </a:lnTo>
                  <a:lnTo>
                    <a:pt x="24" y="116"/>
                  </a:lnTo>
                  <a:lnTo>
                    <a:pt x="0" y="116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24" y="58"/>
                  </a:lnTo>
                  <a:lnTo>
                    <a:pt x="0" y="5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165640" y="2360520"/>
            <a:ext cx="223920" cy="181080"/>
            <a:chOff x="5165640" y="2360520"/>
            <a:chExt cx="223920" cy="181080"/>
          </a:xfrm>
        </p:grpSpPr>
        <p:sp>
          <p:nvSpPr>
            <p:cNvPr id="113" name=""/>
            <p:cNvSpPr/>
            <p:nvPr/>
          </p:nvSpPr>
          <p:spPr>
            <a:xfrm>
              <a:off x="5165640" y="2360520"/>
              <a:ext cx="223920" cy="181080"/>
            </a:xfrm>
            <a:custGeom>
              <a:avLst/>
              <a:gdLst/>
              <a:ahLst/>
              <a:rect l="l" t="t" r="r" b="b"/>
              <a:pathLst>
                <a:path w="141" h="114">
                  <a:moveTo>
                    <a:pt x="140" y="64"/>
                  </a:moveTo>
                  <a:lnTo>
                    <a:pt x="133" y="23"/>
                  </a:lnTo>
                  <a:lnTo>
                    <a:pt x="97" y="0"/>
                  </a:lnTo>
                  <a:lnTo>
                    <a:pt x="57" y="0"/>
                  </a:lnTo>
                  <a:lnTo>
                    <a:pt x="21" y="11"/>
                  </a:lnTo>
                  <a:lnTo>
                    <a:pt x="0" y="38"/>
                  </a:lnTo>
                  <a:lnTo>
                    <a:pt x="0" y="71"/>
                  </a:lnTo>
                  <a:lnTo>
                    <a:pt x="18" y="101"/>
                  </a:lnTo>
                  <a:lnTo>
                    <a:pt x="57" y="113"/>
                  </a:lnTo>
                  <a:lnTo>
                    <a:pt x="126" y="98"/>
                  </a:lnTo>
                  <a:lnTo>
                    <a:pt x="140" y="68"/>
                  </a:lnTo>
                  <a:lnTo>
                    <a:pt x="140" y="6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94440" y="2422440"/>
              <a:ext cx="152280" cy="98640"/>
            </a:xfrm>
            <a:custGeom>
              <a:avLst/>
              <a:gdLst/>
              <a:ahLst/>
              <a:rect l="l" t="t" r="r" b="b"/>
              <a:pathLst>
                <a:path w="96" h="62">
                  <a:moveTo>
                    <a:pt x="39" y="61"/>
                  </a:moveTo>
                  <a:lnTo>
                    <a:pt x="53" y="57"/>
                  </a:lnTo>
                  <a:lnTo>
                    <a:pt x="67" y="46"/>
                  </a:lnTo>
                  <a:lnTo>
                    <a:pt x="95" y="46"/>
                  </a:lnTo>
                  <a:lnTo>
                    <a:pt x="95" y="31"/>
                  </a:lnTo>
                  <a:lnTo>
                    <a:pt x="95" y="31"/>
                  </a:lnTo>
                  <a:lnTo>
                    <a:pt x="95" y="15"/>
                  </a:lnTo>
                  <a:lnTo>
                    <a:pt x="95" y="0"/>
                  </a:lnTo>
                  <a:lnTo>
                    <a:pt x="67" y="0"/>
                  </a:lnTo>
                  <a:lnTo>
                    <a:pt x="39" y="15"/>
                  </a:lnTo>
                  <a:lnTo>
                    <a:pt x="67" y="20"/>
                  </a:lnTo>
                  <a:lnTo>
                    <a:pt x="95" y="31"/>
                  </a:lnTo>
                  <a:lnTo>
                    <a:pt x="95" y="31"/>
                  </a:lnTo>
                  <a:lnTo>
                    <a:pt x="67" y="46"/>
                  </a:lnTo>
                  <a:lnTo>
                    <a:pt x="39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0" y="53"/>
                  </a:lnTo>
                  <a:lnTo>
                    <a:pt x="7" y="59"/>
                  </a:lnTo>
                  <a:lnTo>
                    <a:pt x="39" y="61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75280" y="3349800"/>
            <a:ext cx="179280" cy="128520"/>
            <a:chOff x="5075280" y="3349800"/>
            <a:chExt cx="179280" cy="128520"/>
          </a:xfrm>
        </p:grpSpPr>
        <p:sp>
          <p:nvSpPr>
            <p:cNvPr id="116" name=""/>
            <p:cNvSpPr/>
            <p:nvPr/>
          </p:nvSpPr>
          <p:spPr>
            <a:xfrm>
              <a:off x="5075280" y="3349800"/>
              <a:ext cx="179280" cy="128520"/>
            </a:xfrm>
            <a:custGeom>
              <a:avLst/>
              <a:gdLst/>
              <a:ahLst/>
              <a:rect l="l" t="t" r="r" b="b"/>
              <a:pathLst>
                <a:path w="113" h="81">
                  <a:moveTo>
                    <a:pt x="112" y="45"/>
                  </a:moveTo>
                  <a:lnTo>
                    <a:pt x="106" y="16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18" y="8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14" y="72"/>
                  </a:lnTo>
                  <a:lnTo>
                    <a:pt x="46" y="80"/>
                  </a:lnTo>
                  <a:lnTo>
                    <a:pt x="101" y="69"/>
                  </a:lnTo>
                  <a:lnTo>
                    <a:pt x="112" y="48"/>
                  </a:lnTo>
                  <a:lnTo>
                    <a:pt x="112" y="45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35400" y="3387600"/>
              <a:ext cx="111240" cy="828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052960" y="3044880"/>
            <a:ext cx="223920" cy="181080"/>
            <a:chOff x="5052960" y="3044880"/>
            <a:chExt cx="223920" cy="181080"/>
          </a:xfrm>
        </p:grpSpPr>
        <p:sp>
          <p:nvSpPr>
            <p:cNvPr id="119" name=""/>
            <p:cNvSpPr/>
            <p:nvPr/>
          </p:nvSpPr>
          <p:spPr>
            <a:xfrm>
              <a:off x="5052960" y="3044880"/>
              <a:ext cx="223920" cy="181080"/>
            </a:xfrm>
            <a:custGeom>
              <a:avLst/>
              <a:gdLst/>
              <a:ahLst/>
              <a:rect l="l" t="t" r="r" b="b"/>
              <a:pathLst>
                <a:path w="141" h="114">
                  <a:moveTo>
                    <a:pt x="140" y="64"/>
                  </a:moveTo>
                  <a:lnTo>
                    <a:pt x="133" y="23"/>
                  </a:lnTo>
                  <a:lnTo>
                    <a:pt x="97" y="0"/>
                  </a:lnTo>
                  <a:lnTo>
                    <a:pt x="57" y="0"/>
                  </a:lnTo>
                  <a:lnTo>
                    <a:pt x="21" y="11"/>
                  </a:lnTo>
                  <a:lnTo>
                    <a:pt x="0" y="38"/>
                  </a:lnTo>
                  <a:lnTo>
                    <a:pt x="0" y="71"/>
                  </a:lnTo>
                  <a:lnTo>
                    <a:pt x="18" y="101"/>
                  </a:lnTo>
                  <a:lnTo>
                    <a:pt x="57" y="113"/>
                  </a:lnTo>
                  <a:lnTo>
                    <a:pt x="126" y="98"/>
                  </a:lnTo>
                  <a:lnTo>
                    <a:pt x="140" y="68"/>
                  </a:lnTo>
                  <a:lnTo>
                    <a:pt x="140" y="64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81760" y="3106800"/>
              <a:ext cx="150480" cy="98280"/>
            </a:xfrm>
            <a:custGeom>
              <a:avLst/>
              <a:gdLst/>
              <a:ahLst/>
              <a:rect l="l" t="t" r="r" b="b"/>
              <a:pathLst>
                <a:path w="95" h="62">
                  <a:moveTo>
                    <a:pt x="38" y="61"/>
                  </a:moveTo>
                  <a:lnTo>
                    <a:pt x="52" y="57"/>
                  </a:lnTo>
                  <a:lnTo>
                    <a:pt x="66" y="46"/>
                  </a:lnTo>
                  <a:lnTo>
                    <a:pt x="94" y="46"/>
                  </a:lnTo>
                  <a:lnTo>
                    <a:pt x="94" y="31"/>
                  </a:lnTo>
                  <a:lnTo>
                    <a:pt x="94" y="31"/>
                  </a:lnTo>
                  <a:lnTo>
                    <a:pt x="94" y="15"/>
                  </a:lnTo>
                  <a:lnTo>
                    <a:pt x="94" y="0"/>
                  </a:lnTo>
                  <a:lnTo>
                    <a:pt x="66" y="0"/>
                  </a:lnTo>
                  <a:lnTo>
                    <a:pt x="38" y="15"/>
                  </a:lnTo>
                  <a:lnTo>
                    <a:pt x="66" y="20"/>
                  </a:lnTo>
                  <a:lnTo>
                    <a:pt x="94" y="31"/>
                  </a:lnTo>
                  <a:lnTo>
                    <a:pt x="94" y="31"/>
                  </a:lnTo>
                  <a:lnTo>
                    <a:pt x="66" y="46"/>
                  </a:lnTo>
                  <a:lnTo>
                    <a:pt x="38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0" y="53"/>
                  </a:lnTo>
                  <a:lnTo>
                    <a:pt x="7" y="59"/>
                  </a:lnTo>
                  <a:lnTo>
                    <a:pt x="38" y="61"/>
                  </a:lnTo>
                </a:path>
              </a:pathLst>
            </a:custGeom>
            <a:solidFill>
              <a:srgbClr val="714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091120" y="5008680"/>
            <a:ext cx="179280" cy="128520"/>
            <a:chOff x="5091120" y="5008680"/>
            <a:chExt cx="179280" cy="128520"/>
          </a:xfrm>
        </p:grpSpPr>
        <p:sp>
          <p:nvSpPr>
            <p:cNvPr id="122" name=""/>
            <p:cNvSpPr/>
            <p:nvPr/>
          </p:nvSpPr>
          <p:spPr>
            <a:xfrm>
              <a:off x="5091120" y="5008680"/>
              <a:ext cx="179280" cy="128520"/>
            </a:xfrm>
            <a:custGeom>
              <a:avLst/>
              <a:gdLst/>
              <a:ahLst/>
              <a:rect l="l" t="t" r="r" b="b"/>
              <a:pathLst>
                <a:path w="113" h="81">
                  <a:moveTo>
                    <a:pt x="112" y="45"/>
                  </a:moveTo>
                  <a:lnTo>
                    <a:pt x="106" y="16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18" y="8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14" y="72"/>
                  </a:lnTo>
                  <a:lnTo>
                    <a:pt x="46" y="80"/>
                  </a:lnTo>
                  <a:lnTo>
                    <a:pt x="101" y="69"/>
                  </a:lnTo>
                  <a:lnTo>
                    <a:pt x="112" y="48"/>
                  </a:lnTo>
                  <a:lnTo>
                    <a:pt x="112" y="45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53040" y="5046840"/>
              <a:ext cx="109440" cy="8244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75280" y="2624040"/>
            <a:ext cx="179280" cy="130320"/>
            <a:chOff x="5075280" y="2624040"/>
            <a:chExt cx="179280" cy="130320"/>
          </a:xfrm>
        </p:grpSpPr>
        <p:sp>
          <p:nvSpPr>
            <p:cNvPr id="125" name=""/>
            <p:cNvSpPr/>
            <p:nvPr/>
          </p:nvSpPr>
          <p:spPr>
            <a:xfrm>
              <a:off x="5075280" y="2624040"/>
              <a:ext cx="179280" cy="130320"/>
            </a:xfrm>
            <a:custGeom>
              <a:avLst/>
              <a:gdLst/>
              <a:ahLst/>
              <a:rect l="l" t="t" r="r" b="b"/>
              <a:pathLst>
                <a:path w="113" h="82">
                  <a:moveTo>
                    <a:pt x="112" y="46"/>
                  </a:moveTo>
                  <a:lnTo>
                    <a:pt x="106" y="16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18" y="8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14" y="73"/>
                  </a:lnTo>
                  <a:lnTo>
                    <a:pt x="46" y="81"/>
                  </a:lnTo>
                  <a:lnTo>
                    <a:pt x="101" y="70"/>
                  </a:lnTo>
                  <a:lnTo>
                    <a:pt x="112" y="48"/>
                  </a:lnTo>
                  <a:lnTo>
                    <a:pt x="112" y="46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5400" y="2664000"/>
              <a:ext cx="111240" cy="8244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430960" y="2270160"/>
            <a:ext cx="179280" cy="130320"/>
            <a:chOff x="5430960" y="2270160"/>
            <a:chExt cx="179280" cy="130320"/>
          </a:xfrm>
        </p:grpSpPr>
        <p:sp>
          <p:nvSpPr>
            <p:cNvPr id="128" name=""/>
            <p:cNvSpPr/>
            <p:nvPr/>
          </p:nvSpPr>
          <p:spPr>
            <a:xfrm>
              <a:off x="5430960" y="2270160"/>
              <a:ext cx="179280" cy="130320"/>
            </a:xfrm>
            <a:custGeom>
              <a:avLst/>
              <a:gdLst/>
              <a:ahLst/>
              <a:rect l="l" t="t" r="r" b="b"/>
              <a:pathLst>
                <a:path w="113" h="82">
                  <a:moveTo>
                    <a:pt x="112" y="46"/>
                  </a:moveTo>
                  <a:lnTo>
                    <a:pt x="106" y="16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18" y="8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14" y="73"/>
                  </a:lnTo>
                  <a:lnTo>
                    <a:pt x="46" y="81"/>
                  </a:lnTo>
                  <a:lnTo>
                    <a:pt x="101" y="70"/>
                  </a:lnTo>
                  <a:lnTo>
                    <a:pt x="112" y="48"/>
                  </a:lnTo>
                  <a:lnTo>
                    <a:pt x="112" y="46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2880" y="2309760"/>
              <a:ext cx="109440" cy="8244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838760" y="2278080"/>
            <a:ext cx="181080" cy="128520"/>
            <a:chOff x="4838760" y="2278080"/>
            <a:chExt cx="181080" cy="128520"/>
          </a:xfrm>
        </p:grpSpPr>
        <p:sp>
          <p:nvSpPr>
            <p:cNvPr id="131" name=""/>
            <p:cNvSpPr/>
            <p:nvPr/>
          </p:nvSpPr>
          <p:spPr>
            <a:xfrm>
              <a:off x="4838760" y="2278080"/>
              <a:ext cx="181080" cy="128520"/>
            </a:xfrm>
            <a:custGeom>
              <a:avLst/>
              <a:gdLst/>
              <a:ahLst/>
              <a:rect l="l" t="t" r="r" b="b"/>
              <a:pathLst>
                <a:path w="114" h="81">
                  <a:moveTo>
                    <a:pt x="113" y="45"/>
                  </a:moveTo>
                  <a:lnTo>
                    <a:pt x="107" y="16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18" y="8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14" y="72"/>
                  </a:lnTo>
                  <a:lnTo>
                    <a:pt x="46" y="80"/>
                  </a:lnTo>
                  <a:lnTo>
                    <a:pt x="102" y="69"/>
                  </a:lnTo>
                  <a:lnTo>
                    <a:pt x="113" y="48"/>
                  </a:lnTo>
                  <a:lnTo>
                    <a:pt x="113" y="45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00680" y="2317680"/>
              <a:ext cx="110880" cy="810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075280" y="5257800"/>
            <a:ext cx="179280" cy="130320"/>
            <a:chOff x="5075280" y="5257800"/>
            <a:chExt cx="179280" cy="130320"/>
          </a:xfrm>
        </p:grpSpPr>
        <p:sp>
          <p:nvSpPr>
            <p:cNvPr id="134" name=""/>
            <p:cNvSpPr/>
            <p:nvPr/>
          </p:nvSpPr>
          <p:spPr>
            <a:xfrm>
              <a:off x="5075280" y="5257800"/>
              <a:ext cx="179280" cy="130320"/>
            </a:xfrm>
            <a:custGeom>
              <a:avLst/>
              <a:gdLst/>
              <a:ahLst/>
              <a:rect l="l" t="t" r="r" b="b"/>
              <a:pathLst>
                <a:path w="113" h="82">
                  <a:moveTo>
                    <a:pt x="112" y="46"/>
                  </a:moveTo>
                  <a:lnTo>
                    <a:pt x="106" y="16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18" y="8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14" y="73"/>
                  </a:lnTo>
                  <a:lnTo>
                    <a:pt x="46" y="81"/>
                  </a:lnTo>
                  <a:lnTo>
                    <a:pt x="101" y="70"/>
                  </a:lnTo>
                  <a:lnTo>
                    <a:pt x="112" y="48"/>
                  </a:lnTo>
                  <a:lnTo>
                    <a:pt x="112" y="46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35400" y="5295960"/>
              <a:ext cx="111240" cy="8424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519280" y="4186080"/>
            <a:ext cx="2751120" cy="1136880"/>
          </a:xfrm>
          <a:custGeom>
            <a:avLst/>
            <a:gdLst/>
            <a:ahLst/>
            <a:rect l="l" t="t" r="r" b="b"/>
            <a:pathLst>
              <a:path w="1733" h="716">
                <a:moveTo>
                  <a:pt x="0" y="639"/>
                </a:moveTo>
                <a:lnTo>
                  <a:pt x="1606" y="0"/>
                </a:lnTo>
                <a:lnTo>
                  <a:pt x="1617" y="35"/>
                </a:lnTo>
                <a:lnTo>
                  <a:pt x="1677" y="51"/>
                </a:lnTo>
                <a:lnTo>
                  <a:pt x="1716" y="41"/>
                </a:lnTo>
                <a:lnTo>
                  <a:pt x="1732" y="41"/>
                </a:lnTo>
                <a:lnTo>
                  <a:pt x="778" y="629"/>
                </a:lnTo>
                <a:lnTo>
                  <a:pt x="658" y="669"/>
                </a:lnTo>
                <a:lnTo>
                  <a:pt x="663" y="588"/>
                </a:lnTo>
                <a:lnTo>
                  <a:pt x="455" y="715"/>
                </a:lnTo>
                <a:lnTo>
                  <a:pt x="510" y="588"/>
                </a:lnTo>
                <a:lnTo>
                  <a:pt x="378" y="619"/>
                </a:lnTo>
                <a:lnTo>
                  <a:pt x="395" y="598"/>
                </a:lnTo>
                <a:lnTo>
                  <a:pt x="0" y="639"/>
                </a:lnTo>
              </a:path>
            </a:pathLst>
          </a:cu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075280" y="4130640"/>
            <a:ext cx="179280" cy="130320"/>
            <a:chOff x="5075280" y="4130640"/>
            <a:chExt cx="179280" cy="130320"/>
          </a:xfrm>
        </p:grpSpPr>
        <p:sp>
          <p:nvSpPr>
            <p:cNvPr id="138" name=""/>
            <p:cNvSpPr/>
            <p:nvPr/>
          </p:nvSpPr>
          <p:spPr>
            <a:xfrm>
              <a:off x="5075280" y="4130640"/>
              <a:ext cx="179280" cy="130320"/>
            </a:xfrm>
            <a:custGeom>
              <a:avLst/>
              <a:gdLst/>
              <a:ahLst/>
              <a:rect l="l" t="t" r="r" b="b"/>
              <a:pathLst>
                <a:path w="113" h="82">
                  <a:moveTo>
                    <a:pt x="112" y="46"/>
                  </a:moveTo>
                  <a:lnTo>
                    <a:pt x="106" y="16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18" y="8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14" y="73"/>
                  </a:lnTo>
                  <a:lnTo>
                    <a:pt x="46" y="81"/>
                  </a:lnTo>
                  <a:lnTo>
                    <a:pt x="101" y="70"/>
                  </a:lnTo>
                  <a:lnTo>
                    <a:pt x="112" y="48"/>
                  </a:lnTo>
                  <a:lnTo>
                    <a:pt x="112" y="46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35400" y="4168800"/>
              <a:ext cx="111240" cy="8424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054320" y="1460520"/>
            <a:ext cx="2127240" cy="811080"/>
          </a:xfrm>
          <a:custGeom>
            <a:avLst/>
            <a:gdLst/>
            <a:ahLst/>
            <a:rect l="l" t="t" r="r" b="b"/>
            <a:pathLst>
              <a:path w="1340" h="511">
                <a:moveTo>
                  <a:pt x="0" y="24"/>
                </a:moveTo>
                <a:lnTo>
                  <a:pt x="0" y="267"/>
                </a:lnTo>
                <a:lnTo>
                  <a:pt x="238" y="510"/>
                </a:lnTo>
                <a:lnTo>
                  <a:pt x="1137" y="508"/>
                </a:lnTo>
                <a:lnTo>
                  <a:pt x="1339" y="249"/>
                </a:lnTo>
                <a:lnTo>
                  <a:pt x="1339" y="37"/>
                </a:lnTo>
                <a:lnTo>
                  <a:pt x="1046" y="0"/>
                </a:lnTo>
                <a:lnTo>
                  <a:pt x="793" y="95"/>
                </a:lnTo>
                <a:lnTo>
                  <a:pt x="480" y="48"/>
                </a:lnTo>
                <a:lnTo>
                  <a:pt x="252" y="81"/>
                </a:lnTo>
                <a:lnTo>
                  <a:pt x="0" y="24"/>
                </a:lnTo>
              </a:path>
            </a:pathLst>
          </a:custGeom>
          <a:gradFill rotWithShape="0">
            <a:gsLst>
              <a:gs pos="0">
                <a:srgbClr val="a4a4a4"/>
              </a:gs>
              <a:gs pos="100000">
                <a:srgbClr val="cecece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30240" y="1565280"/>
            <a:ext cx="12520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ject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16080" y="4078440"/>
            <a:ext cx="1062360" cy="0"/>
          </a:xfrm>
          <a:prstGeom prst="line">
            <a:avLst/>
          </a:prstGeom>
          <a:ln w="50760">
            <a:solidFill>
              <a:srgbClr val="00b7a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97360" y="4245120"/>
            <a:ext cx="106344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280" y="3772080"/>
            <a:ext cx="2506680" cy="590400"/>
          </a:xfrm>
          <a:prstGeom prst="roundRect">
            <a:avLst>
              <a:gd name="adj" fmla="val 12495"/>
            </a:avLst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640" y="3749760"/>
            <a:ext cx="19670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luoresc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23000" y="4010040"/>
            <a:ext cx="11286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igna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800600"/>
            <a:ext cx="2506680" cy="590400"/>
          </a:xfrm>
          <a:prstGeom prst="roundRect">
            <a:avLst>
              <a:gd name="adj" fmla="val 12495"/>
            </a:avLst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6600" y="4795920"/>
            <a:ext cx="20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ocused la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81360" y="5038560"/>
            <a:ext cx="8956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b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8280" y="1981080"/>
            <a:ext cx="92772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hea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lu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0" y="2637000"/>
            <a:ext cx="1057320" cy="27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66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661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19880" y="2619360"/>
            <a:ext cx="977040" cy="271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5" y="0"/>
                </a:moveTo>
                <a:arcTo wR="10800" hR="10800" stAng="-5411161" swAng="5411161"/>
                <a:lnTo>
                  <a:pt x="10800" y="10800"/>
                </a:lnTo>
                <a:close/>
              </a:path>
              <a:path fill="none" w="21600" h="21600">
                <a:moveTo>
                  <a:pt x="10765" y="0"/>
                </a:moveTo>
                <a:arcTo wR="10800" hR="10800" stAng="-5411161" swAng="5411161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1680" y="6478560"/>
            <a:ext cx="525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Geneva"/>
              </a:rPr>
              <a:t>Purdue University Cytometry Labora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conditions are right, sample fluid flows in a central core that does not mix with the sheath fl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ermed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Laminar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flow will be laminar can be determined from the </a:t>
            </a:r>
            <a:r>
              <a:rPr b="1" lang="en-US" sz="3200" spc="-1" strike="noStrike">
                <a:solidFill>
                  <a:srgbClr val="d49fff"/>
                </a:solidFill>
                <a:latin typeface="Times New Roman"/>
              </a:rPr>
              <a:t>Reynolds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&lt; 2300, flow is always lami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&gt; 2300, flow can be turbul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luidics - Laminar Flo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66880" y="3040200"/>
                <a:ext cx="3695760" cy="17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dρ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where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be diameter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nsity of fluid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ean velocity of fluid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scosity of flui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00:07:57Z</dcterms:created>
  <dc:creator>R. F. Murphy</dc:creator>
  <dc:description>Preliminary version - not for distribution.  Contains material from other authors, request for permission to use pending.</dc:description>
  <dc:language>en-US</dc:language>
  <cp:lastModifiedBy>Cytometry Laboratories</cp:lastModifiedBy>
  <cp:lastPrinted>1996-01-29T15:00:18Z</cp:lastPrinted>
  <dcterms:modified xsi:type="dcterms:W3CDTF">1998-05-08T19:05:36Z</dcterms:modified>
  <cp:revision>3</cp:revision>
  <dc:subject/>
  <dc:title>Flow Cytometry and Sorting, Par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urphy+@andrew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pt2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