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A859-92FF-43FA-A526-4F17AD7B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80E-1145-4320-B8C5-12143B5F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38E0-4F84-48E8-A8D3-6031503E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CE80-5661-47EE-8AC5-768420BF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7445-ECC6-44E9-A778-A655C39F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23EF-E59A-446D-89B2-FCF8E571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543-4BA2-4723-A39B-EE109BA5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E7B9-BC46-4541-8514-40FD4B3F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06F8-C224-4E46-AEDF-ABC01AF2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E724-656C-4061-9742-7F218A6E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6D4F-02E1-4E2E-807C-C2F2F065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2F0B-0DB0-4379-BF8F-AEC5FEF3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2BFA-227B-480E-B1B5-E2829D4C8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FSDET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SDET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2T14:38:00Z</dcterms:created>
  <dc:creator>Cytometry Laboratories</dc:creator>
  <dc:description/>
  <dc:language>en-US</dc:language>
  <cp:lastModifiedBy>Cytometry Laboratories</cp:lastModifiedBy>
  <dcterms:modified xsi:type="dcterms:W3CDTF">1998-04-22T14:46:18Z</dcterms:modified>
  <cp:revision>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TelfordW@hs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K:\htdocs\flowcyt\educate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