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FFF-18AD-4D16-A579-9173B91E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A45-005A-4D63-A272-1BE18190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D66-53EE-45BF-8EF7-13849D50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5BD-CB42-4E36-805B-A640873E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E05-F042-4A0F-B49C-69C58533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EDAE-8EF2-45E0-B507-B5E1AC51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FD9-C9A0-49FA-9711-81C97974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F9C-7494-4D7B-AC38-4FD6A812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314-58DA-4021-AC78-3063F408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D66-EA32-4073-B5BE-7FF380D1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7D1-CBD6-452E-BD10-CCDF642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0A8-A3BD-472C-8150-B3C99B90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2FA0-BA3A-4604-8502-E7864B3B9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MCA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XRD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TC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PC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Y5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ECY5SP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TCPED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ITCPECY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RET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4:54:34Z</dcterms:created>
  <dc:creator>Cytometry Laboratories</dc:creator>
  <dc:description/>
  <dc:language>en-US</dc:language>
  <cp:lastModifiedBy>Cytometry Laboratories</cp:lastModifiedBy>
  <dcterms:modified xsi:type="dcterms:W3CDTF">1998-04-22T15:05:12Z</dcterms:modified>
  <cp:revision>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