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287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42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44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0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42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44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080" y="273600"/>
            <a:ext cx="9257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61840" y="6558120"/>
            <a:ext cx="15969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6A33FA6F-97D8-449E-A447-B41C02F619B9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04/17/98 of DNA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576840" y="6554880"/>
            <a:ext cx="34560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rdue University Cytometry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12114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2.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5620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22240" y="403200"/>
            <a:ext cx="8550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 Cytometry of Apopt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514600" y="1811160"/>
            <a:ext cx="5000760" cy="4553280"/>
            <a:chOff x="2514600" y="1811160"/>
            <a:chExt cx="5000760" cy="455328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3111480" y="2401920"/>
              <a:ext cx="4205160" cy="37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 txBox="1"/>
            <p:nvPr/>
          </p:nvSpPr>
          <p:spPr>
            <a:xfrm>
              <a:off x="4014720" y="5923080"/>
              <a:ext cx="2104920" cy="44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 - Fluorescen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514600" y="4044960"/>
              <a:ext cx="1163520" cy="44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# Event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3198960" y="1811160"/>
              <a:ext cx="2014560" cy="4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optotic cell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21280" y="2262240"/>
              <a:ext cx="0" cy="2141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4908600" y="2376360"/>
              <a:ext cx="2606760" cy="4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rmal G0/G1 cell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802040" y="2914560"/>
              <a:ext cx="486000" cy="77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65320" y="8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Strand Brea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363680"/>
            <a:ext cx="9304200" cy="457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ssion of the chromatin at the sites of nucleosomal linkage creates a large number of strand breaks in the DNA of apoptotic cells.  The broken ends can be labelled enymatical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it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erminal deoxynucleotidyl transferase (Td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ds of DNA can be labelled directly using fluorescein-deoxyuridine triphosphate (dUTP) or biotin-dUTP followed by fluorescein-streptavidin or digoxygenin-dUTP followed by fluorescein-anti-digoxygen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65320" y="334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ling Strand Breaks with dUT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Fluorescein-deoxyuridine triphosphate (dUTP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6640" y="2270160"/>
            <a:ext cx="3076560" cy="3166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59320" y="1609560"/>
            <a:ext cx="2543040" cy="1913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184880" y="2284560"/>
            <a:ext cx="2405160" cy="2413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446720" y="3541680"/>
            <a:ext cx="2278080" cy="2247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454560" y="5983200"/>
            <a:ext cx="42861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Fluorescence is Tdt and biotin-dUTP followed by fluorescein-streptavid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fluorescence is DNA counter-stained with 20µg/ml 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723080" y="4519440"/>
            <a:ext cx="124308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-Red Fluore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059440" y="3543120"/>
            <a:ext cx="119232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Fluore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170320" y="5727600"/>
            <a:ext cx="119232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Fluoresc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0120" y="3789360"/>
            <a:ext cx="10796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 Sc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05040" y="5284800"/>
            <a:ext cx="13651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 Sc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9000" y="2689200"/>
            <a:ext cx="9176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ptotic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389320" y="4294080"/>
            <a:ext cx="804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056440" y="2700360"/>
            <a:ext cx="11970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: Apoptotic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829720" y="3868560"/>
            <a:ext cx="60012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38360" y="487440"/>
            <a:ext cx="850428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from Paraffin Tissue B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08600" y="2560680"/>
            <a:ext cx="2664000" cy="3087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7440" y="2209680"/>
            <a:ext cx="3643200" cy="366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32440" y="2530440"/>
            <a:ext cx="3313080" cy="3141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7142040" y="3186000"/>
            <a:ext cx="24242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diploid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24160" y="4906800"/>
            <a:ext cx="5151960" cy="1341720"/>
          </a:xfrm>
          <a:custGeom>
            <a:avLst/>
            <a:gdLst/>
            <a:ahLst/>
            <a:rect l="0" t="0" r="r" b="b"/>
            <a:pathLst>
              <a:path fill="none" w="14311" h="3727">
                <a:moveTo>
                  <a:pt x="0" y="0"/>
                </a:moveTo>
                <a:lnTo>
                  <a:pt x="0" y="127"/>
                </a:lnTo>
                <a:lnTo>
                  <a:pt x="2412" y="3727"/>
                </a:lnTo>
                <a:lnTo>
                  <a:pt x="13381" y="3727"/>
                </a:lnTo>
                <a:lnTo>
                  <a:pt x="14311" y="2585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2620800"/>
            <a:ext cx="1889640" cy="1600560"/>
          </a:xfrm>
          <a:custGeom>
            <a:avLst/>
            <a:gdLst/>
            <a:ahLst/>
            <a:rect l="0" t="0" r="r" b="b"/>
            <a:pathLst>
              <a:path fill="none" w="5249" h="4446">
                <a:moveTo>
                  <a:pt x="0" y="1058"/>
                </a:moveTo>
                <a:lnTo>
                  <a:pt x="5249" y="0"/>
                </a:lnTo>
                <a:lnTo>
                  <a:pt x="5249" y="4446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305240" y="2179800"/>
            <a:ext cx="19368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uploid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117960" y="1357200"/>
            <a:ext cx="23734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Carcin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36800" y="5686560"/>
            <a:ext cx="18097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Sc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71520" y="3610080"/>
            <a:ext cx="14018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Sc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1206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of Nuclear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39720" y="1131840"/>
            <a:ext cx="900576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a protein involved in DNA replication and in nucleotide excision repai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found in two 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is tightly bound to the chromatin and is S phas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ther is cytoplasmic and is present through out the cell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NA expression in intact cells is not cell cycle specific. PCNA expression in the nuclei is S phase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74600" y="22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Nuclear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00280" y="163836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-6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liferation related 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-S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roliferation related 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xpression begins in late G1/early S phase and increases as cells traverse S phase, reaching a maximum in G2.  Cyclin A is not expressed in mitotic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 B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umulates in late S phase but is maximally expressed in G2 and mit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239840" y="1350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50800" y="754200"/>
            <a:ext cx="9317160" cy="576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619280" y="3500280"/>
            <a:ext cx="16700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105 -CY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21080" y="3470400"/>
            <a:ext cx="19018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- Hoech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608880" y="3489480"/>
            <a:ext cx="28130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 - B1 - FITC (lo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83560" y="5956200"/>
            <a:ext cx="225576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 - B1 - FI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087800" y="5935680"/>
            <a:ext cx="23176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deg Scatter (lo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82720" y="5919840"/>
            <a:ext cx="9288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86120" y="6207120"/>
            <a:ext cx="506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Prostate tumor cell line DU-1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19600" y="6608880"/>
            <a:ext cx="18842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rom Dr. James Jacobber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155600" y="25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rameter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01880" y="5931000"/>
            <a:ext cx="506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Prostate tumor cell line DU-1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23840" y="2209680"/>
            <a:ext cx="3681360" cy="3508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054160" y="5543640"/>
            <a:ext cx="14558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- Hoech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9440" y="3676680"/>
            <a:ext cx="17384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n - B1 - FI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168880" y="3840120"/>
            <a:ext cx="10555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105 Cy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74800" y="5030640"/>
            <a:ext cx="18781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duplicating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859360" y="2030400"/>
            <a:ext cx="3697200" cy="3727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189840" y="1940040"/>
            <a:ext cx="351000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012160" y="3792600"/>
            <a:ext cx="94788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otic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948360" y="5543640"/>
            <a:ext cx="14558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- Hoech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254720" y="1886040"/>
            <a:ext cx="9842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-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19600" y="6608880"/>
            <a:ext cx="18842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rom Dr. James Jacobber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096920" y="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of Apop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800" y="1427040"/>
            <a:ext cx="9304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ptosis is programmed cell death where the cell goes through a highly regulated process of “dying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are condensation of the chromatin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ebbing of nuclear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accompanied by  internucleosomal degradation of DNA giving rise to distinctive 'ladder' pattern on DNA gel electrophor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006560" y="19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of Apoptotic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89080" y="173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Fragments:After fixing or permeabilising cells, low molecular weight fragments of DNA are extracted and an extra peak ('sub-G1') of apoptotic cells can be seen in the DNA histogr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ucleosomal degradation of DNA can be visualised by labelling enzymatically the ends of the broken strands of D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165320" y="334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Methods for Apopto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57480" y="1981080"/>
            <a:ext cx="8572680" cy="39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atidyl serine, can be detetected by incubating the cells with fluorescein-labelled Annexin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taining with the dye,  Hoechst 33342 (U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taining with the dye PI (vi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taining with the dye YOPRO-1 (visi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PRobinson</dc:creator>
  <dc:description/>
  <dc:language>en-US</dc:language>
  <cp:lastModifiedBy>Cytometry Laboratories</cp:lastModifiedBy>
  <cp:revision>0</cp:revision>
  <dc:subject/>
  <dc:title>DNA2.ppt</dc:title>
</cp:coreProperties>
</file>