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E3C-C312-42E8-A927-175A91EE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BA9-6421-4E11-901F-D2F9481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D2A-633C-42C6-9113-9201FEA5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782-1B96-4085-9268-7F1B3A2F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A00-0596-4633-B6A0-8402E85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13B-BD32-44E7-9723-4F65321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482-0D4F-4D33-99A9-E70D7B3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0CB-FE99-4AFC-BD8D-3A3162B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BF9-9585-452C-A35A-A0170E04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AFB-72C1-4314-AA81-2714231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189-55AB-4788-A10E-D4A9822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910-25BD-4F47-B592-8897A96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6AD-24DA-4806-8E5B-E8ADD976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5COLOR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3:55:51Z</dcterms:created>
  <dc:creator>Cytometry Laboratories</dc:creator>
  <dc:description/>
  <dc:language>en-US</dc:language>
  <cp:lastModifiedBy>Cytometry Laboratories</cp:lastModifiedBy>
  <dcterms:modified xsi:type="dcterms:W3CDTF">1998-04-22T14:28:36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